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png" ContentType="image/png"/>
  <Override PartName="/ppt/media/image33.jpeg" ContentType="image/jpeg"/>
  <Override PartName="/ppt/media/image25.wmf" ContentType="image/x-wmf"/>
  <Override PartName="/ppt/media/image15.jpeg" ContentType="image/jpeg"/>
  <Override PartName="/ppt/media/image11.jpeg" ContentType="image/jpeg"/>
  <Override PartName="/ppt/media/image9.jpeg" ContentType="image/jpeg"/>
  <Override PartName="/ppt/media/image13.png" ContentType="image/png"/>
  <Override PartName="/ppt/media/image12.jpeg" ContentType="image/jpeg"/>
  <Override PartName="/ppt/media/image7.jpeg" ContentType="image/jpeg"/>
  <Override PartName="/ppt/media/image23.wmf" ContentType="image/x-wmf"/>
  <Override PartName="/ppt/media/image28.jpeg" ContentType="image/jpeg"/>
  <Override PartName="/ppt/media/image34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6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6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19.wmf" ContentType="image/x-wmf"/>
  <Override PartName="/ppt/media/image20.wmf" ContentType="image/x-wmf"/>
  <Override PartName="/ppt/media/image32.wmf" ContentType="image/x-wmf"/>
  <Override PartName="/ppt/media/image21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3439-8D25-42F4-8CBA-92FD6FAC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ABA1-3A51-4E51-8F7B-EFBBCBBF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6B73-0D7E-406E-B674-B1C754D4E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0F64-4041-41DF-B6AE-DCAC21AB0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A298-A4BA-44B0-93BD-34032D6CF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EEDD-2F13-40CB-937F-21AAA991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960C-F085-4119-AAFD-6775EB14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939C-9E3E-456C-9D6F-B6CAC0D9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F6A8-6D90-400A-AE86-07B9581C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DC92-8EE6-4DB1-B8C9-C038B0CA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7764-35A2-42D4-B155-B5ED32A7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508B-0C59-43A3-A316-8D2131B4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91BA-E887-402B-B693-95FEE6F7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7E1E-DCC6-4FC2-BFA7-A33AB120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CA78-7E27-4BCB-AD55-DAACDBB8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A7B7-EE2F-4093-8499-EA0996CA1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88CF-5FCB-498E-9CEB-D24D4F1AF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CC00-6793-4D75-B4F7-23B700BF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4FCD-25E8-4678-89AD-A89C7EFA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88F9-1B2D-4626-9BEF-DA4C5127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4874-0B25-4125-B2C7-6C451658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94D5-4FC1-45F7-96E5-72CF2534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1934-F3F0-4DB4-B21A-18BCCF8E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DDA0-B8C9-4BF0-B4FE-B3FD0262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5985"/>
              </a:gs>
              <a:gs pos="100000">
                <a:srgbClr val="0066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ddcdb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dddc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dddc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dddc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dddc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cd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cd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dddc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cdb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dddcd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cdb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dddcd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f8fb5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84D7-7D1C-4961-98F3-674465AC0C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ddcdb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68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c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5985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681"/>
                  </a:gs>
                  <a:gs pos="100000">
                    <a:srgbClr val="00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8a"/>
                  </a:gs>
                  <a:gs pos="100000">
                    <a:srgbClr val="00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37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98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6e9e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076a9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6a9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5f8f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5f8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6293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dddc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dddc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dddc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dddc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cd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cdb"/>
                  </a:gs>
                  <a:gs pos="100000">
                    <a:srgbClr val="00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99"/>
                  </a:gs>
                  <a:gs pos="100000">
                    <a:srgbClr val="dddc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cdb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dddcd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cdb"/>
                    </a:gs>
                    <a:gs pos="100000">
                      <a:srgbClr val="006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dddcd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8A04-4C9A-46B7-B715-58E736E03B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mailto:ziradm@tomsk.gov.ru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- Сохранение и развитие налогового потенциала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на территории Зырянского  района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- Обеспечение сбалансированности и устойчивости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бюджетной системы Зырянского района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- Концентрация финансовых ресурсов на приоритетных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направлениях расходования бюджетных средств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- Повышение эффективности расходования бюджетных средств,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выявление и использование резервов для достижения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планируемых результатов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- Выполнение действующих обязательств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- Планирование бездефицитного бюджета;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- Обеспечение полной прозрачности и открытости бюджетного процесса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- Повышение качества предоставления муниципальных услуг в социально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значимых социальных сферах населения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- Формирование муниципального задания на оказание муниципальных услуг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- Переход на программный бюджет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- Усиление работы по мобилизации и наращиванию доходов бюджета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0"/>
            <a:ext cx="9144000" cy="112536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140400 h 1125360"/>
              <a:gd name="textAreaBottom" fmla="*/ 112572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сновные направления бюджетной и налогов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литики Зырянского района на 2016 - 2018 г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9144000" cy="1042920"/>
          </a:xfrm>
          <a:custGeom>
            <a:avLst/>
            <a:gdLst>
              <a:gd name="textAreaLeft" fmla="*/ 67320 w 9144000"/>
              <a:gd name="textAreaRight" fmla="*/ 9076680 w 91440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189324" h="21600">
                <a:moveTo>
                  <a:pt x="0" y="0"/>
                </a:moveTo>
                <a:lnTo>
                  <a:pt x="189324" y="0"/>
                </a:lnTo>
                <a:lnTo>
                  <a:pt x="189324" y="21600"/>
                </a:lnTo>
                <a:lnTo>
                  <a:pt x="0" y="21600"/>
                </a:lnTo>
                <a:close/>
              </a:path>
              <a:path fill="lightenLess" w="189324" h="21600">
                <a:moveTo>
                  <a:pt x="0" y="0"/>
                </a:moveTo>
                <a:lnTo>
                  <a:pt x="189324" y="0"/>
                </a:lnTo>
                <a:lnTo>
                  <a:pt x="187924" y="1400"/>
                </a:lnTo>
                <a:lnTo>
                  <a:pt x="1400" y="1400"/>
                </a:lnTo>
                <a:close/>
              </a:path>
              <a:path fill="darken" w="189324" h="21600">
                <a:moveTo>
                  <a:pt x="189324" y="0"/>
                </a:moveTo>
                <a:lnTo>
                  <a:pt x="189324" y="21600"/>
                </a:lnTo>
                <a:lnTo>
                  <a:pt x="187924" y="20200"/>
                </a:lnTo>
                <a:lnTo>
                  <a:pt x="187924" y="1400"/>
                </a:lnTo>
                <a:close/>
              </a:path>
              <a:path fill="darkenLess" w="189324" h="21600">
                <a:moveTo>
                  <a:pt x="189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7924" y="20200"/>
                </a:lnTo>
                <a:close/>
              </a:path>
              <a:path fill="lighten" w="189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МУНИЦИПАЛЬНОЕ ОБРАЗОВА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«ЗЫРЯНСКИЙ РАЙОН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9144000" cy="83664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0 h 836640"/>
              <a:gd name="textAreaBottom" fmla="*/ 732240 h 8366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8f8f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сновные характеристики муниципальн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бразования «Зырянский район»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907920"/>
            <a:ext cx="9144000" cy="432000"/>
          </a:xfrm>
          <a:custGeom>
            <a:avLst/>
            <a:gdLst>
              <a:gd name="textAreaLeft" fmla="*/ 27720 w 9144000"/>
              <a:gd name="textAreaRight" fmla="*/ 9116280 w 914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56837" h="21600">
                <a:moveTo>
                  <a:pt x="0" y="0"/>
                </a:moveTo>
                <a:lnTo>
                  <a:pt x="456837" y="0"/>
                </a:lnTo>
                <a:lnTo>
                  <a:pt x="456837" y="21600"/>
                </a:lnTo>
                <a:lnTo>
                  <a:pt x="0" y="21600"/>
                </a:lnTo>
                <a:close/>
              </a:path>
              <a:path fill="lightenLess" w="456837" h="21600">
                <a:moveTo>
                  <a:pt x="0" y="0"/>
                </a:moveTo>
                <a:lnTo>
                  <a:pt x="456837" y="0"/>
                </a:lnTo>
                <a:lnTo>
                  <a:pt x="455437" y="1400"/>
                </a:lnTo>
                <a:lnTo>
                  <a:pt x="1400" y="1400"/>
                </a:lnTo>
                <a:close/>
              </a:path>
              <a:path fill="darken" w="456837" h="21600">
                <a:moveTo>
                  <a:pt x="456837" y="0"/>
                </a:moveTo>
                <a:lnTo>
                  <a:pt x="456837" y="21600"/>
                </a:lnTo>
                <a:lnTo>
                  <a:pt x="455437" y="20200"/>
                </a:lnTo>
                <a:lnTo>
                  <a:pt x="455437" y="1400"/>
                </a:lnTo>
                <a:close/>
              </a:path>
              <a:path fill="darkenLess" w="456837" h="21600">
                <a:moveTo>
                  <a:pt x="456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5437" y="20200"/>
                </a:lnTo>
                <a:close/>
              </a:path>
              <a:path fill="lighten" w="456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Основан в 192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 го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1341360"/>
            <a:ext cx="9144000" cy="432000"/>
          </a:xfrm>
          <a:custGeom>
            <a:avLst/>
            <a:gdLst>
              <a:gd name="textAreaLeft" fmla="*/ 27720 w 9144000"/>
              <a:gd name="textAreaRight" fmla="*/ 9116280 w 914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56837" h="21600">
                <a:moveTo>
                  <a:pt x="0" y="0"/>
                </a:moveTo>
                <a:lnTo>
                  <a:pt x="456837" y="0"/>
                </a:lnTo>
                <a:lnTo>
                  <a:pt x="456837" y="21600"/>
                </a:lnTo>
                <a:lnTo>
                  <a:pt x="0" y="21600"/>
                </a:lnTo>
                <a:close/>
              </a:path>
              <a:path fill="lightenLess" w="456837" h="21600">
                <a:moveTo>
                  <a:pt x="0" y="0"/>
                </a:moveTo>
                <a:lnTo>
                  <a:pt x="456837" y="0"/>
                </a:lnTo>
                <a:lnTo>
                  <a:pt x="455437" y="1400"/>
                </a:lnTo>
                <a:lnTo>
                  <a:pt x="1400" y="1400"/>
                </a:lnTo>
                <a:close/>
              </a:path>
              <a:path fill="darken" w="456837" h="21600">
                <a:moveTo>
                  <a:pt x="456837" y="0"/>
                </a:moveTo>
                <a:lnTo>
                  <a:pt x="456837" y="21600"/>
                </a:lnTo>
                <a:lnTo>
                  <a:pt x="455437" y="20200"/>
                </a:lnTo>
                <a:lnTo>
                  <a:pt x="455437" y="1400"/>
                </a:lnTo>
                <a:close/>
              </a:path>
              <a:path fill="darkenLess" w="456837" h="21600">
                <a:moveTo>
                  <a:pt x="456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5437" y="20200"/>
                </a:lnTo>
                <a:close/>
              </a:path>
              <a:path fill="lighten" w="456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Расположен в юго-восточной части Томской обл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1773360"/>
            <a:ext cx="9144000" cy="720720"/>
          </a:xfrm>
          <a:custGeom>
            <a:avLst/>
            <a:gdLst>
              <a:gd name="textAreaLeft" fmla="*/ 46440 w 9144000"/>
              <a:gd name="textAreaRight" fmla="*/ 9097560 w 9144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73920" h="21600">
                <a:moveTo>
                  <a:pt x="0" y="0"/>
                </a:moveTo>
                <a:lnTo>
                  <a:pt x="273920" y="0"/>
                </a:lnTo>
                <a:lnTo>
                  <a:pt x="273920" y="21600"/>
                </a:lnTo>
                <a:lnTo>
                  <a:pt x="0" y="21600"/>
                </a:lnTo>
                <a:close/>
              </a:path>
              <a:path fill="lightenLess" w="273920" h="21600">
                <a:moveTo>
                  <a:pt x="0" y="0"/>
                </a:moveTo>
                <a:lnTo>
                  <a:pt x="273920" y="0"/>
                </a:lnTo>
                <a:lnTo>
                  <a:pt x="272520" y="1400"/>
                </a:lnTo>
                <a:lnTo>
                  <a:pt x="1400" y="1400"/>
                </a:lnTo>
                <a:close/>
              </a:path>
              <a:path fill="darken" w="273920" h="21600">
                <a:moveTo>
                  <a:pt x="273920" y="0"/>
                </a:moveTo>
                <a:lnTo>
                  <a:pt x="273920" y="21600"/>
                </a:lnTo>
                <a:lnTo>
                  <a:pt x="272520" y="20200"/>
                </a:lnTo>
                <a:lnTo>
                  <a:pt x="272520" y="1400"/>
                </a:lnTo>
                <a:close/>
              </a:path>
              <a:path fill="darkenLess" w="273920" h="21600">
                <a:moveTo>
                  <a:pt x="273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520" y="20200"/>
                </a:lnTo>
                <a:close/>
              </a:path>
              <a:path fill="lighten" w="273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Граничит на севере с Асиновским, Первомайски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Тегульдетским районам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2492280"/>
            <a:ext cx="9144000" cy="720720"/>
          </a:xfrm>
          <a:custGeom>
            <a:avLst/>
            <a:gdLst>
              <a:gd name="textAreaLeft" fmla="*/ 46440 w 9144000"/>
              <a:gd name="textAreaRight" fmla="*/ 9097560 w 9144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73920" h="21600">
                <a:moveTo>
                  <a:pt x="0" y="0"/>
                </a:moveTo>
                <a:lnTo>
                  <a:pt x="273920" y="0"/>
                </a:lnTo>
                <a:lnTo>
                  <a:pt x="273920" y="21600"/>
                </a:lnTo>
                <a:lnTo>
                  <a:pt x="0" y="21600"/>
                </a:lnTo>
                <a:close/>
              </a:path>
              <a:path fill="lightenLess" w="273920" h="21600">
                <a:moveTo>
                  <a:pt x="0" y="0"/>
                </a:moveTo>
                <a:lnTo>
                  <a:pt x="273920" y="0"/>
                </a:lnTo>
                <a:lnTo>
                  <a:pt x="272520" y="1400"/>
                </a:lnTo>
                <a:lnTo>
                  <a:pt x="1400" y="1400"/>
                </a:lnTo>
                <a:close/>
              </a:path>
              <a:path fill="darken" w="273920" h="21600">
                <a:moveTo>
                  <a:pt x="273920" y="0"/>
                </a:moveTo>
                <a:lnTo>
                  <a:pt x="273920" y="21600"/>
                </a:lnTo>
                <a:lnTo>
                  <a:pt x="272520" y="20200"/>
                </a:lnTo>
                <a:lnTo>
                  <a:pt x="272520" y="1400"/>
                </a:lnTo>
                <a:close/>
              </a:path>
              <a:path fill="darkenLess" w="273920" h="21600">
                <a:moveTo>
                  <a:pt x="273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520" y="20200"/>
                </a:lnTo>
                <a:close/>
              </a:path>
              <a:path fill="lighten" w="273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на западе – с Томским районо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на юге – с Кемеровской област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3213000"/>
            <a:ext cx="9144000" cy="432000"/>
          </a:xfrm>
          <a:custGeom>
            <a:avLst/>
            <a:gdLst>
              <a:gd name="textAreaLeft" fmla="*/ 27720 w 9144000"/>
              <a:gd name="textAreaRight" fmla="*/ 9116280 w 914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56837" h="21600">
                <a:moveTo>
                  <a:pt x="0" y="0"/>
                </a:moveTo>
                <a:lnTo>
                  <a:pt x="456837" y="0"/>
                </a:lnTo>
                <a:lnTo>
                  <a:pt x="456837" y="21600"/>
                </a:lnTo>
                <a:lnTo>
                  <a:pt x="0" y="21600"/>
                </a:lnTo>
                <a:close/>
              </a:path>
              <a:path fill="lightenLess" w="456837" h="21600">
                <a:moveTo>
                  <a:pt x="0" y="0"/>
                </a:moveTo>
                <a:lnTo>
                  <a:pt x="456837" y="0"/>
                </a:lnTo>
                <a:lnTo>
                  <a:pt x="455437" y="1400"/>
                </a:lnTo>
                <a:lnTo>
                  <a:pt x="1400" y="1400"/>
                </a:lnTo>
                <a:close/>
              </a:path>
              <a:path fill="darken" w="456837" h="21600">
                <a:moveTo>
                  <a:pt x="456837" y="0"/>
                </a:moveTo>
                <a:lnTo>
                  <a:pt x="456837" y="21600"/>
                </a:lnTo>
                <a:lnTo>
                  <a:pt x="455437" y="20200"/>
                </a:lnTo>
                <a:lnTo>
                  <a:pt x="455437" y="1400"/>
                </a:lnTo>
                <a:close/>
              </a:path>
              <a:path fill="darkenLess" w="456837" h="21600">
                <a:moveTo>
                  <a:pt x="456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5437" y="20200"/>
                </a:lnTo>
                <a:close/>
              </a:path>
              <a:path fill="lighten" w="456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Основная водная артерия – река Чулы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3645000"/>
            <a:ext cx="9144000" cy="431640"/>
          </a:xfrm>
          <a:custGeom>
            <a:avLst/>
            <a:gdLst>
              <a:gd name="textAreaLeft" fmla="*/ 27720 w 9144000"/>
              <a:gd name="textAreaRight" fmla="*/ 9116280 w 9144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57218" h="21600">
                <a:moveTo>
                  <a:pt x="0" y="0"/>
                </a:moveTo>
                <a:lnTo>
                  <a:pt x="457218" y="0"/>
                </a:lnTo>
                <a:lnTo>
                  <a:pt x="457218" y="21600"/>
                </a:lnTo>
                <a:lnTo>
                  <a:pt x="0" y="21600"/>
                </a:lnTo>
                <a:close/>
              </a:path>
              <a:path fill="lightenLess" w="457218" h="21600">
                <a:moveTo>
                  <a:pt x="0" y="0"/>
                </a:moveTo>
                <a:lnTo>
                  <a:pt x="457218" y="0"/>
                </a:lnTo>
                <a:lnTo>
                  <a:pt x="455818" y="1400"/>
                </a:lnTo>
                <a:lnTo>
                  <a:pt x="1400" y="1400"/>
                </a:lnTo>
                <a:close/>
              </a:path>
              <a:path fill="darken" w="457218" h="21600">
                <a:moveTo>
                  <a:pt x="457218" y="0"/>
                </a:moveTo>
                <a:lnTo>
                  <a:pt x="457218" y="21600"/>
                </a:lnTo>
                <a:lnTo>
                  <a:pt x="455818" y="20200"/>
                </a:lnTo>
                <a:lnTo>
                  <a:pt x="455818" y="1400"/>
                </a:lnTo>
                <a:close/>
              </a:path>
              <a:path fill="darkenLess" w="457218" h="21600">
                <a:moveTo>
                  <a:pt x="457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5818" y="20200"/>
                </a:lnTo>
                <a:close/>
              </a:path>
              <a:path fill="lighten" w="457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Расстояние от с. Зырянское до г. Томска – 120 к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4076640"/>
            <a:ext cx="9144000" cy="432000"/>
          </a:xfrm>
          <a:custGeom>
            <a:avLst/>
            <a:gdLst>
              <a:gd name="textAreaLeft" fmla="*/ 27720 w 9144000"/>
              <a:gd name="textAreaRight" fmla="*/ 9116280 w 914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56837" h="21600">
                <a:moveTo>
                  <a:pt x="0" y="0"/>
                </a:moveTo>
                <a:lnTo>
                  <a:pt x="456837" y="0"/>
                </a:lnTo>
                <a:lnTo>
                  <a:pt x="456837" y="21600"/>
                </a:lnTo>
                <a:lnTo>
                  <a:pt x="0" y="21600"/>
                </a:lnTo>
                <a:close/>
              </a:path>
              <a:path fill="lightenLess" w="456837" h="21600">
                <a:moveTo>
                  <a:pt x="0" y="0"/>
                </a:moveTo>
                <a:lnTo>
                  <a:pt x="456837" y="0"/>
                </a:lnTo>
                <a:lnTo>
                  <a:pt x="455437" y="1400"/>
                </a:lnTo>
                <a:lnTo>
                  <a:pt x="1400" y="1400"/>
                </a:lnTo>
                <a:close/>
              </a:path>
              <a:path fill="darken" w="456837" h="21600">
                <a:moveTo>
                  <a:pt x="456837" y="0"/>
                </a:moveTo>
                <a:lnTo>
                  <a:pt x="456837" y="21600"/>
                </a:lnTo>
                <a:lnTo>
                  <a:pt x="455437" y="20200"/>
                </a:lnTo>
                <a:lnTo>
                  <a:pt x="455437" y="1400"/>
                </a:lnTo>
                <a:close/>
              </a:path>
              <a:path fill="darkenLess" w="456837" h="21600">
                <a:moveTo>
                  <a:pt x="456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5437" y="20200"/>
                </a:lnTo>
                <a:close/>
              </a:path>
              <a:path fill="lighten" w="456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Является транспортным узлом юго — восточной группы район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4508640"/>
            <a:ext cx="9144000" cy="433080"/>
          </a:xfrm>
          <a:custGeom>
            <a:avLst/>
            <a:gdLst>
              <a:gd name="textAreaLeft" fmla="*/ 28080 w 9144000"/>
              <a:gd name="textAreaRight" fmla="*/ 9115920 w 914400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455699" h="21600">
                <a:moveTo>
                  <a:pt x="0" y="0"/>
                </a:moveTo>
                <a:lnTo>
                  <a:pt x="455699" y="0"/>
                </a:lnTo>
                <a:lnTo>
                  <a:pt x="455699" y="21600"/>
                </a:lnTo>
                <a:lnTo>
                  <a:pt x="0" y="21600"/>
                </a:lnTo>
                <a:close/>
              </a:path>
              <a:path fill="lightenLess" w="455699" h="21600">
                <a:moveTo>
                  <a:pt x="0" y="0"/>
                </a:moveTo>
                <a:lnTo>
                  <a:pt x="455699" y="0"/>
                </a:lnTo>
                <a:lnTo>
                  <a:pt x="454299" y="1400"/>
                </a:lnTo>
                <a:lnTo>
                  <a:pt x="1400" y="1400"/>
                </a:lnTo>
                <a:close/>
              </a:path>
              <a:path fill="darken" w="455699" h="21600">
                <a:moveTo>
                  <a:pt x="455699" y="0"/>
                </a:moveTo>
                <a:lnTo>
                  <a:pt x="455699" y="21600"/>
                </a:lnTo>
                <a:lnTo>
                  <a:pt x="454299" y="20200"/>
                </a:lnTo>
                <a:lnTo>
                  <a:pt x="454299" y="1400"/>
                </a:lnTo>
                <a:close/>
              </a:path>
              <a:path fill="darkenLess" w="455699" h="21600">
                <a:moveTo>
                  <a:pt x="455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4299" y="20200"/>
                </a:lnTo>
                <a:close/>
              </a:path>
              <a:path fill="lighten" w="455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Умеренный климатический поя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4941720"/>
            <a:ext cx="9144000" cy="432000"/>
          </a:xfrm>
          <a:custGeom>
            <a:avLst/>
            <a:gdLst>
              <a:gd name="textAreaLeft" fmla="*/ 27720 w 9144000"/>
              <a:gd name="textAreaRight" fmla="*/ 9116280 w 9144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56837" h="21600">
                <a:moveTo>
                  <a:pt x="0" y="0"/>
                </a:moveTo>
                <a:lnTo>
                  <a:pt x="456837" y="0"/>
                </a:lnTo>
                <a:lnTo>
                  <a:pt x="456837" y="21600"/>
                </a:lnTo>
                <a:lnTo>
                  <a:pt x="0" y="21600"/>
                </a:lnTo>
                <a:close/>
              </a:path>
              <a:path fill="lightenLess" w="456837" h="21600">
                <a:moveTo>
                  <a:pt x="0" y="0"/>
                </a:moveTo>
                <a:lnTo>
                  <a:pt x="456837" y="0"/>
                </a:lnTo>
                <a:lnTo>
                  <a:pt x="455437" y="1400"/>
                </a:lnTo>
                <a:lnTo>
                  <a:pt x="1400" y="1400"/>
                </a:lnTo>
                <a:close/>
              </a:path>
              <a:path fill="darken" w="456837" h="21600">
                <a:moveTo>
                  <a:pt x="456837" y="0"/>
                </a:moveTo>
                <a:lnTo>
                  <a:pt x="456837" y="21600"/>
                </a:lnTo>
                <a:lnTo>
                  <a:pt x="455437" y="20200"/>
                </a:lnTo>
                <a:lnTo>
                  <a:pt x="455437" y="1400"/>
                </a:lnTo>
                <a:close/>
              </a:path>
              <a:path fill="darkenLess" w="456837" h="21600">
                <a:moveTo>
                  <a:pt x="456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5437" y="20200"/>
                </a:lnTo>
                <a:close/>
              </a:path>
              <a:path fill="lighten" w="456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Континентальный клим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5373720"/>
            <a:ext cx="9144000" cy="431640"/>
          </a:xfrm>
          <a:custGeom>
            <a:avLst/>
            <a:gdLst>
              <a:gd name="textAreaLeft" fmla="*/ 27720 w 9144000"/>
              <a:gd name="textAreaRight" fmla="*/ 9116280 w 9144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57218" h="21600">
                <a:moveTo>
                  <a:pt x="0" y="0"/>
                </a:moveTo>
                <a:lnTo>
                  <a:pt x="457218" y="0"/>
                </a:lnTo>
                <a:lnTo>
                  <a:pt x="457218" y="21600"/>
                </a:lnTo>
                <a:lnTo>
                  <a:pt x="0" y="21600"/>
                </a:lnTo>
                <a:close/>
              </a:path>
              <a:path fill="lightenLess" w="457218" h="21600">
                <a:moveTo>
                  <a:pt x="0" y="0"/>
                </a:moveTo>
                <a:lnTo>
                  <a:pt x="457218" y="0"/>
                </a:lnTo>
                <a:lnTo>
                  <a:pt x="455818" y="1400"/>
                </a:lnTo>
                <a:lnTo>
                  <a:pt x="1400" y="1400"/>
                </a:lnTo>
                <a:close/>
              </a:path>
              <a:path fill="darken" w="457218" h="21600">
                <a:moveTo>
                  <a:pt x="457218" y="0"/>
                </a:moveTo>
                <a:lnTo>
                  <a:pt x="457218" y="21600"/>
                </a:lnTo>
                <a:lnTo>
                  <a:pt x="455818" y="20200"/>
                </a:lnTo>
                <a:lnTo>
                  <a:pt x="455818" y="1400"/>
                </a:lnTo>
                <a:close/>
              </a:path>
              <a:path fill="darkenLess" w="457218" h="21600">
                <a:moveTo>
                  <a:pt x="457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5818" y="20200"/>
                </a:lnTo>
                <a:close/>
              </a:path>
              <a:path fill="lighten" w="457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Территория — 4,0 тыс.кв.к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5805360"/>
            <a:ext cx="9144000" cy="503280"/>
          </a:xfrm>
          <a:custGeom>
            <a:avLst/>
            <a:gdLst>
              <a:gd name="textAreaLeft" fmla="*/ 32400 w 9144000"/>
              <a:gd name="textAreaRight" fmla="*/ 9111600 w 9144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92181" h="21600">
                <a:moveTo>
                  <a:pt x="0" y="0"/>
                </a:moveTo>
                <a:lnTo>
                  <a:pt x="392181" y="0"/>
                </a:lnTo>
                <a:lnTo>
                  <a:pt x="392181" y="21600"/>
                </a:lnTo>
                <a:lnTo>
                  <a:pt x="0" y="21600"/>
                </a:lnTo>
                <a:close/>
              </a:path>
              <a:path fill="lightenLess" w="392181" h="21600">
                <a:moveTo>
                  <a:pt x="0" y="0"/>
                </a:moveTo>
                <a:lnTo>
                  <a:pt x="392181" y="0"/>
                </a:lnTo>
                <a:lnTo>
                  <a:pt x="390781" y="1400"/>
                </a:lnTo>
                <a:lnTo>
                  <a:pt x="1400" y="1400"/>
                </a:lnTo>
                <a:close/>
              </a:path>
              <a:path fill="darken" w="392181" h="21600">
                <a:moveTo>
                  <a:pt x="392181" y="0"/>
                </a:moveTo>
                <a:lnTo>
                  <a:pt x="392181" y="21600"/>
                </a:lnTo>
                <a:lnTo>
                  <a:pt x="390781" y="20200"/>
                </a:lnTo>
                <a:lnTo>
                  <a:pt x="390781" y="1400"/>
                </a:lnTo>
                <a:close/>
              </a:path>
              <a:path fill="darkenLess" w="392181" h="21600">
                <a:moveTo>
                  <a:pt x="392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81" y="20200"/>
                </a:lnTo>
                <a:close/>
              </a:path>
              <a:path fill="lighten" w="392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1,26 % от территории Томской обл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6308640"/>
            <a:ext cx="9144000" cy="576360"/>
          </a:xfrm>
          <a:custGeom>
            <a:avLst/>
            <a:gdLst>
              <a:gd name="textAreaLeft" fmla="*/ 37080 w 9144000"/>
              <a:gd name="textAreaRight" fmla="*/ 9106920 w 9144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42485" h="21600">
                <a:moveTo>
                  <a:pt x="0" y="0"/>
                </a:moveTo>
                <a:lnTo>
                  <a:pt x="342485" y="0"/>
                </a:lnTo>
                <a:lnTo>
                  <a:pt x="342485" y="21600"/>
                </a:lnTo>
                <a:lnTo>
                  <a:pt x="0" y="21600"/>
                </a:lnTo>
                <a:close/>
              </a:path>
              <a:path fill="lightenLess" w="342485" h="21600">
                <a:moveTo>
                  <a:pt x="0" y="0"/>
                </a:moveTo>
                <a:lnTo>
                  <a:pt x="342485" y="0"/>
                </a:lnTo>
                <a:lnTo>
                  <a:pt x="341085" y="1400"/>
                </a:lnTo>
                <a:lnTo>
                  <a:pt x="1400" y="1400"/>
                </a:lnTo>
                <a:close/>
              </a:path>
              <a:path fill="darken" w="342485" h="21600">
                <a:moveTo>
                  <a:pt x="342485" y="0"/>
                </a:moveTo>
                <a:lnTo>
                  <a:pt x="342485" y="21600"/>
                </a:lnTo>
                <a:lnTo>
                  <a:pt x="341085" y="20200"/>
                </a:lnTo>
                <a:lnTo>
                  <a:pt x="341085" y="1400"/>
                </a:lnTo>
                <a:close/>
              </a:path>
              <a:path fill="darkenLess" w="342485" h="21600">
                <a:moveTo>
                  <a:pt x="342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1085" y="20200"/>
                </a:lnTo>
                <a:close/>
              </a:path>
              <a:path fill="lighten" w="342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Количество населенных пунктов — 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0"/>
            <a:ext cx="9144000" cy="83664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0 h 836640"/>
              <a:gd name="textAreaBottom" fmla="*/ 732240 h 8366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8f8f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сновные характеристики муниципальн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бразования «Зырянский район»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836640"/>
            <a:ext cx="9144000" cy="863640"/>
          </a:xfrm>
          <a:custGeom>
            <a:avLst/>
            <a:gdLst>
              <a:gd name="textAreaLeft" fmla="*/ 55800 w 9144000"/>
              <a:gd name="textAreaRight" fmla="*/ 9088200 w 914400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28609" h="21600">
                <a:moveTo>
                  <a:pt x="0" y="0"/>
                </a:moveTo>
                <a:lnTo>
                  <a:pt x="228609" y="0"/>
                </a:lnTo>
                <a:lnTo>
                  <a:pt x="228609" y="21600"/>
                </a:lnTo>
                <a:lnTo>
                  <a:pt x="0" y="21600"/>
                </a:lnTo>
                <a:close/>
              </a:path>
              <a:path fill="lightenLess" w="228609" h="21600">
                <a:moveTo>
                  <a:pt x="0" y="0"/>
                </a:moveTo>
                <a:lnTo>
                  <a:pt x="228609" y="0"/>
                </a:lnTo>
                <a:lnTo>
                  <a:pt x="227209" y="1400"/>
                </a:lnTo>
                <a:lnTo>
                  <a:pt x="1400" y="1400"/>
                </a:lnTo>
                <a:close/>
              </a:path>
              <a:path fill="darken" w="228609" h="21600">
                <a:moveTo>
                  <a:pt x="228609" y="0"/>
                </a:moveTo>
                <a:lnTo>
                  <a:pt x="228609" y="21600"/>
                </a:lnTo>
                <a:lnTo>
                  <a:pt x="227209" y="20200"/>
                </a:lnTo>
                <a:lnTo>
                  <a:pt x="227209" y="1400"/>
                </a:lnTo>
                <a:close/>
              </a:path>
              <a:path fill="darkenLess" w="228609" h="21600">
                <a:moveTo>
                  <a:pt x="228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209" y="20200"/>
                </a:lnTo>
                <a:close/>
              </a:path>
              <a:path fill="lighten" w="228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Численность населения (на 01.01.2016 года) — 1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085 челов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1700280"/>
            <a:ext cx="9144000" cy="863640"/>
          </a:xfrm>
          <a:custGeom>
            <a:avLst/>
            <a:gdLst>
              <a:gd name="textAreaLeft" fmla="*/ 55800 w 9144000"/>
              <a:gd name="textAreaRight" fmla="*/ 9088200 w 914400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28609" h="21600">
                <a:moveTo>
                  <a:pt x="0" y="0"/>
                </a:moveTo>
                <a:lnTo>
                  <a:pt x="228609" y="0"/>
                </a:lnTo>
                <a:lnTo>
                  <a:pt x="228609" y="21600"/>
                </a:lnTo>
                <a:lnTo>
                  <a:pt x="0" y="21600"/>
                </a:lnTo>
                <a:close/>
              </a:path>
              <a:path fill="lightenLess" w="228609" h="21600">
                <a:moveTo>
                  <a:pt x="0" y="0"/>
                </a:moveTo>
                <a:lnTo>
                  <a:pt x="228609" y="0"/>
                </a:lnTo>
                <a:lnTo>
                  <a:pt x="227209" y="1400"/>
                </a:lnTo>
                <a:lnTo>
                  <a:pt x="1400" y="1400"/>
                </a:lnTo>
                <a:close/>
              </a:path>
              <a:path fill="darken" w="228609" h="21600">
                <a:moveTo>
                  <a:pt x="228609" y="0"/>
                </a:moveTo>
                <a:lnTo>
                  <a:pt x="228609" y="21600"/>
                </a:lnTo>
                <a:lnTo>
                  <a:pt x="227209" y="20200"/>
                </a:lnTo>
                <a:lnTo>
                  <a:pt x="227209" y="1400"/>
                </a:lnTo>
                <a:close/>
              </a:path>
              <a:path fill="darkenLess" w="228609" h="21600">
                <a:moveTo>
                  <a:pt x="228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209" y="20200"/>
                </a:lnTo>
                <a:close/>
              </a:path>
              <a:path fill="lighten" w="228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Территория Зырянского района разделен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на 5 муниципальных образован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2565360"/>
            <a:ext cx="9144000" cy="863640"/>
          </a:xfrm>
          <a:custGeom>
            <a:avLst/>
            <a:gdLst>
              <a:gd name="textAreaLeft" fmla="*/ 55800 w 9144000"/>
              <a:gd name="textAreaRight" fmla="*/ 9088200 w 914400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28609" h="21600">
                <a:moveTo>
                  <a:pt x="0" y="0"/>
                </a:moveTo>
                <a:lnTo>
                  <a:pt x="228609" y="0"/>
                </a:lnTo>
                <a:lnTo>
                  <a:pt x="228609" y="21600"/>
                </a:lnTo>
                <a:lnTo>
                  <a:pt x="0" y="21600"/>
                </a:lnTo>
                <a:close/>
              </a:path>
              <a:path fill="lightenLess" w="228609" h="21600">
                <a:moveTo>
                  <a:pt x="0" y="0"/>
                </a:moveTo>
                <a:lnTo>
                  <a:pt x="228609" y="0"/>
                </a:lnTo>
                <a:lnTo>
                  <a:pt x="227209" y="1400"/>
                </a:lnTo>
                <a:lnTo>
                  <a:pt x="1400" y="1400"/>
                </a:lnTo>
                <a:close/>
              </a:path>
              <a:path fill="darken" w="228609" h="21600">
                <a:moveTo>
                  <a:pt x="228609" y="0"/>
                </a:moveTo>
                <a:lnTo>
                  <a:pt x="228609" y="21600"/>
                </a:lnTo>
                <a:lnTo>
                  <a:pt x="227209" y="20200"/>
                </a:lnTo>
                <a:lnTo>
                  <a:pt x="227209" y="1400"/>
                </a:lnTo>
                <a:close/>
              </a:path>
              <a:path fill="darkenLess" w="228609" h="21600">
                <a:moveTo>
                  <a:pt x="228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209" y="20200"/>
                </a:lnTo>
                <a:close/>
              </a:path>
              <a:path fill="lighten" w="228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Высоковское сельское поселение — 925 челов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429000"/>
            <a:ext cx="9144000" cy="863640"/>
          </a:xfrm>
          <a:custGeom>
            <a:avLst/>
            <a:gdLst>
              <a:gd name="textAreaLeft" fmla="*/ 55800 w 9144000"/>
              <a:gd name="textAreaRight" fmla="*/ 9088200 w 914400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28609" h="21600">
                <a:moveTo>
                  <a:pt x="0" y="0"/>
                </a:moveTo>
                <a:lnTo>
                  <a:pt x="228609" y="0"/>
                </a:lnTo>
                <a:lnTo>
                  <a:pt x="228609" y="21600"/>
                </a:lnTo>
                <a:lnTo>
                  <a:pt x="0" y="21600"/>
                </a:lnTo>
                <a:close/>
              </a:path>
              <a:path fill="lightenLess" w="228609" h="21600">
                <a:moveTo>
                  <a:pt x="0" y="0"/>
                </a:moveTo>
                <a:lnTo>
                  <a:pt x="228609" y="0"/>
                </a:lnTo>
                <a:lnTo>
                  <a:pt x="227209" y="1400"/>
                </a:lnTo>
                <a:lnTo>
                  <a:pt x="1400" y="1400"/>
                </a:lnTo>
                <a:close/>
              </a:path>
              <a:path fill="darken" w="228609" h="21600">
                <a:moveTo>
                  <a:pt x="228609" y="0"/>
                </a:moveTo>
                <a:lnTo>
                  <a:pt x="228609" y="21600"/>
                </a:lnTo>
                <a:lnTo>
                  <a:pt x="227209" y="20200"/>
                </a:lnTo>
                <a:lnTo>
                  <a:pt x="227209" y="1400"/>
                </a:lnTo>
                <a:close/>
              </a:path>
              <a:path fill="darkenLess" w="228609" h="21600">
                <a:moveTo>
                  <a:pt x="228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209" y="20200"/>
                </a:lnTo>
                <a:close/>
              </a:path>
              <a:path fill="lighten" w="228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Дубровское сельское поселение — 689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4292640"/>
            <a:ext cx="9144000" cy="863640"/>
          </a:xfrm>
          <a:custGeom>
            <a:avLst/>
            <a:gdLst>
              <a:gd name="textAreaLeft" fmla="*/ 55800 w 9144000"/>
              <a:gd name="textAreaRight" fmla="*/ 9088200 w 914400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28609" h="21600">
                <a:moveTo>
                  <a:pt x="0" y="0"/>
                </a:moveTo>
                <a:lnTo>
                  <a:pt x="228609" y="0"/>
                </a:lnTo>
                <a:lnTo>
                  <a:pt x="228609" y="21600"/>
                </a:lnTo>
                <a:lnTo>
                  <a:pt x="0" y="21600"/>
                </a:lnTo>
                <a:close/>
              </a:path>
              <a:path fill="lightenLess" w="228609" h="21600">
                <a:moveTo>
                  <a:pt x="0" y="0"/>
                </a:moveTo>
                <a:lnTo>
                  <a:pt x="228609" y="0"/>
                </a:lnTo>
                <a:lnTo>
                  <a:pt x="227209" y="1400"/>
                </a:lnTo>
                <a:lnTo>
                  <a:pt x="1400" y="1400"/>
                </a:lnTo>
                <a:close/>
              </a:path>
              <a:path fill="darken" w="228609" h="21600">
                <a:moveTo>
                  <a:pt x="228609" y="0"/>
                </a:moveTo>
                <a:lnTo>
                  <a:pt x="228609" y="21600"/>
                </a:lnTo>
                <a:lnTo>
                  <a:pt x="227209" y="20200"/>
                </a:lnTo>
                <a:lnTo>
                  <a:pt x="227209" y="1400"/>
                </a:lnTo>
                <a:close/>
              </a:path>
              <a:path fill="darkenLess" w="228609" h="21600">
                <a:moveTo>
                  <a:pt x="228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209" y="20200"/>
                </a:lnTo>
                <a:close/>
              </a:path>
              <a:path fill="lighten" w="228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Зырянское сельское поселение — 8</a:t>
            </a:r>
            <a:r>
              <a:rPr b="0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099 человек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5157720"/>
            <a:ext cx="9144000" cy="863640"/>
          </a:xfrm>
          <a:custGeom>
            <a:avLst/>
            <a:gdLst>
              <a:gd name="textAreaLeft" fmla="*/ 55800 w 9144000"/>
              <a:gd name="textAreaRight" fmla="*/ 9088200 w 914400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28609" h="21600">
                <a:moveTo>
                  <a:pt x="0" y="0"/>
                </a:moveTo>
                <a:lnTo>
                  <a:pt x="228609" y="0"/>
                </a:lnTo>
                <a:lnTo>
                  <a:pt x="228609" y="21600"/>
                </a:lnTo>
                <a:lnTo>
                  <a:pt x="0" y="21600"/>
                </a:lnTo>
                <a:close/>
              </a:path>
              <a:path fill="lightenLess" w="228609" h="21600">
                <a:moveTo>
                  <a:pt x="0" y="0"/>
                </a:moveTo>
                <a:lnTo>
                  <a:pt x="228609" y="0"/>
                </a:lnTo>
                <a:lnTo>
                  <a:pt x="227209" y="1400"/>
                </a:lnTo>
                <a:lnTo>
                  <a:pt x="1400" y="1400"/>
                </a:lnTo>
                <a:close/>
              </a:path>
              <a:path fill="darken" w="228609" h="21600">
                <a:moveTo>
                  <a:pt x="228609" y="0"/>
                </a:moveTo>
                <a:lnTo>
                  <a:pt x="228609" y="21600"/>
                </a:lnTo>
                <a:lnTo>
                  <a:pt x="227209" y="20200"/>
                </a:lnTo>
                <a:lnTo>
                  <a:pt x="227209" y="1400"/>
                </a:lnTo>
                <a:close/>
              </a:path>
              <a:path fill="darkenLess" w="228609" h="21600">
                <a:moveTo>
                  <a:pt x="228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209" y="20200"/>
                </a:lnTo>
                <a:close/>
              </a:path>
              <a:path fill="lighten" w="228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Михайлоское сельское поселение — 1</a:t>
            </a:r>
            <a:r>
              <a:rPr b="0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179 челов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5994360"/>
            <a:ext cx="9144000" cy="863640"/>
          </a:xfrm>
          <a:custGeom>
            <a:avLst/>
            <a:gdLst>
              <a:gd name="textAreaLeft" fmla="*/ 55800 w 9144000"/>
              <a:gd name="textAreaRight" fmla="*/ 9088200 w 914400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28609" h="21600">
                <a:moveTo>
                  <a:pt x="0" y="0"/>
                </a:moveTo>
                <a:lnTo>
                  <a:pt x="228609" y="0"/>
                </a:lnTo>
                <a:lnTo>
                  <a:pt x="228609" y="21600"/>
                </a:lnTo>
                <a:lnTo>
                  <a:pt x="0" y="21600"/>
                </a:lnTo>
                <a:close/>
              </a:path>
              <a:path fill="lightenLess" w="228609" h="21600">
                <a:moveTo>
                  <a:pt x="0" y="0"/>
                </a:moveTo>
                <a:lnTo>
                  <a:pt x="228609" y="0"/>
                </a:lnTo>
                <a:lnTo>
                  <a:pt x="227209" y="1400"/>
                </a:lnTo>
                <a:lnTo>
                  <a:pt x="1400" y="1400"/>
                </a:lnTo>
                <a:close/>
              </a:path>
              <a:path fill="darken" w="228609" h="21600">
                <a:moveTo>
                  <a:pt x="228609" y="0"/>
                </a:moveTo>
                <a:lnTo>
                  <a:pt x="228609" y="21600"/>
                </a:lnTo>
                <a:lnTo>
                  <a:pt x="227209" y="20200"/>
                </a:lnTo>
                <a:lnTo>
                  <a:pt x="227209" y="1400"/>
                </a:lnTo>
                <a:close/>
              </a:path>
              <a:path fill="darkenLess" w="228609" h="21600">
                <a:moveTo>
                  <a:pt x="228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209" y="20200"/>
                </a:lnTo>
                <a:close/>
              </a:path>
              <a:path fill="lighten" w="228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Чердатское сельское поселение — 1</a:t>
            </a:r>
            <a:r>
              <a:rPr b="0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193 челов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По данным статистики на 01.01.2016 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9144000" cy="83664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0 h 836640"/>
              <a:gd name="textAreaBottom" fmla="*/ 732240 h 8366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8f8f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сновные характеристики муниципальн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бразования «Зырянский район»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836640"/>
            <a:ext cx="9144000" cy="504720"/>
          </a:xfrm>
          <a:custGeom>
            <a:avLst/>
            <a:gdLst>
              <a:gd name="textAreaLeft" fmla="*/ 32400 w 9144000"/>
              <a:gd name="textAreaRight" fmla="*/ 9111600 w 9144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91063" h="21600">
                <a:moveTo>
                  <a:pt x="0" y="0"/>
                </a:moveTo>
                <a:lnTo>
                  <a:pt x="391063" y="0"/>
                </a:lnTo>
                <a:lnTo>
                  <a:pt x="391063" y="21600"/>
                </a:lnTo>
                <a:lnTo>
                  <a:pt x="0" y="21600"/>
                </a:lnTo>
                <a:close/>
              </a:path>
              <a:path fill="lightenLess" w="391063" h="21600">
                <a:moveTo>
                  <a:pt x="0" y="0"/>
                </a:moveTo>
                <a:lnTo>
                  <a:pt x="391063" y="0"/>
                </a:lnTo>
                <a:lnTo>
                  <a:pt x="389663" y="1400"/>
                </a:lnTo>
                <a:lnTo>
                  <a:pt x="1400" y="1400"/>
                </a:lnTo>
                <a:close/>
              </a:path>
              <a:path fill="darken" w="391063" h="21600">
                <a:moveTo>
                  <a:pt x="391063" y="0"/>
                </a:moveTo>
                <a:lnTo>
                  <a:pt x="391063" y="21600"/>
                </a:lnTo>
                <a:lnTo>
                  <a:pt x="389663" y="20200"/>
                </a:lnTo>
                <a:lnTo>
                  <a:pt x="389663" y="1400"/>
                </a:lnTo>
                <a:close/>
              </a:path>
              <a:path fill="darkenLess" w="391063" h="21600">
                <a:moveTo>
                  <a:pt x="3910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9663" y="20200"/>
                </a:lnTo>
                <a:close/>
              </a:path>
              <a:path fill="lighten" w="3910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Из общей численности насе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1341360"/>
            <a:ext cx="9144000" cy="574920"/>
          </a:xfrm>
          <a:custGeom>
            <a:avLst/>
            <a:gdLst>
              <a:gd name="textAreaLeft" fmla="*/ 37080 w 9144000"/>
              <a:gd name="textAreaRight" fmla="*/ 9106920 w 914400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343343" h="21600">
                <a:moveTo>
                  <a:pt x="0" y="0"/>
                </a:moveTo>
                <a:lnTo>
                  <a:pt x="343343" y="0"/>
                </a:lnTo>
                <a:lnTo>
                  <a:pt x="343343" y="21600"/>
                </a:lnTo>
                <a:lnTo>
                  <a:pt x="0" y="21600"/>
                </a:lnTo>
                <a:close/>
              </a:path>
              <a:path fill="lightenLess" w="343343" h="21600">
                <a:moveTo>
                  <a:pt x="0" y="0"/>
                </a:moveTo>
                <a:lnTo>
                  <a:pt x="343343" y="0"/>
                </a:lnTo>
                <a:lnTo>
                  <a:pt x="341943" y="1400"/>
                </a:lnTo>
                <a:lnTo>
                  <a:pt x="1400" y="1400"/>
                </a:lnTo>
                <a:close/>
              </a:path>
              <a:path fill="darken" w="343343" h="21600">
                <a:moveTo>
                  <a:pt x="343343" y="0"/>
                </a:moveTo>
                <a:lnTo>
                  <a:pt x="343343" y="21600"/>
                </a:lnTo>
                <a:lnTo>
                  <a:pt x="341943" y="20200"/>
                </a:lnTo>
                <a:lnTo>
                  <a:pt x="341943" y="1400"/>
                </a:lnTo>
                <a:close/>
              </a:path>
              <a:path fill="darkenLess" w="343343" h="21600">
                <a:moveTo>
                  <a:pt x="343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1943" y="20200"/>
                </a:lnTo>
                <a:close/>
              </a:path>
              <a:path fill="lighten" w="343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мужчины —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47,2 %, женщины – 52,8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1916280"/>
            <a:ext cx="9144000" cy="649080"/>
          </a:xfrm>
          <a:custGeom>
            <a:avLst/>
            <a:gdLst>
              <a:gd name="textAreaLeft" fmla="*/ 41760 w 9144000"/>
              <a:gd name="textAreaRight" fmla="*/ 9102240 w 914400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304136" h="21600">
                <a:moveTo>
                  <a:pt x="0" y="0"/>
                </a:moveTo>
                <a:lnTo>
                  <a:pt x="304136" y="0"/>
                </a:lnTo>
                <a:lnTo>
                  <a:pt x="304136" y="21600"/>
                </a:lnTo>
                <a:lnTo>
                  <a:pt x="0" y="21600"/>
                </a:lnTo>
                <a:close/>
              </a:path>
              <a:path fill="lightenLess" w="304136" h="21600">
                <a:moveTo>
                  <a:pt x="0" y="0"/>
                </a:moveTo>
                <a:lnTo>
                  <a:pt x="304136" y="0"/>
                </a:lnTo>
                <a:lnTo>
                  <a:pt x="302736" y="1400"/>
                </a:lnTo>
                <a:lnTo>
                  <a:pt x="1400" y="1400"/>
                </a:lnTo>
                <a:close/>
              </a:path>
              <a:path fill="darken" w="304136" h="21600">
                <a:moveTo>
                  <a:pt x="304136" y="0"/>
                </a:moveTo>
                <a:lnTo>
                  <a:pt x="304136" y="21600"/>
                </a:lnTo>
                <a:lnTo>
                  <a:pt x="302736" y="20200"/>
                </a:lnTo>
                <a:lnTo>
                  <a:pt x="302736" y="1400"/>
                </a:lnTo>
                <a:close/>
              </a:path>
              <a:path fill="darkenLess" w="304136" h="21600">
                <a:moveTo>
                  <a:pt x="3041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2736" y="20200"/>
                </a:lnTo>
                <a:close/>
              </a:path>
              <a:path fill="lighten" w="3041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Численность экономически активного населения — 7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7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00 челов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2565360"/>
            <a:ext cx="9144000" cy="863640"/>
          </a:xfrm>
          <a:custGeom>
            <a:avLst/>
            <a:gdLst>
              <a:gd name="textAreaLeft" fmla="*/ 55800 w 9144000"/>
              <a:gd name="textAreaRight" fmla="*/ 9088200 w 914400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28609" h="21600">
                <a:moveTo>
                  <a:pt x="0" y="0"/>
                </a:moveTo>
                <a:lnTo>
                  <a:pt x="228609" y="0"/>
                </a:lnTo>
                <a:lnTo>
                  <a:pt x="228609" y="21600"/>
                </a:lnTo>
                <a:lnTo>
                  <a:pt x="0" y="21600"/>
                </a:lnTo>
                <a:close/>
              </a:path>
              <a:path fill="lightenLess" w="228609" h="21600">
                <a:moveTo>
                  <a:pt x="0" y="0"/>
                </a:moveTo>
                <a:lnTo>
                  <a:pt x="228609" y="0"/>
                </a:lnTo>
                <a:lnTo>
                  <a:pt x="227209" y="1400"/>
                </a:lnTo>
                <a:lnTo>
                  <a:pt x="1400" y="1400"/>
                </a:lnTo>
                <a:close/>
              </a:path>
              <a:path fill="darken" w="228609" h="21600">
                <a:moveTo>
                  <a:pt x="228609" y="0"/>
                </a:moveTo>
                <a:lnTo>
                  <a:pt x="228609" y="21600"/>
                </a:lnTo>
                <a:lnTo>
                  <a:pt x="227209" y="20200"/>
                </a:lnTo>
                <a:lnTo>
                  <a:pt x="227209" y="1400"/>
                </a:lnTo>
                <a:close/>
              </a:path>
              <a:path fill="darkenLess" w="228609" h="21600">
                <a:moveTo>
                  <a:pt x="228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209" y="20200"/>
                </a:lnTo>
                <a:close/>
              </a:path>
              <a:path fill="lighten" w="228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Численность безработных граждан, состоявш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в органах службы занятости — 45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3429000"/>
            <a:ext cx="9144000" cy="863640"/>
          </a:xfrm>
          <a:custGeom>
            <a:avLst/>
            <a:gdLst>
              <a:gd name="textAreaLeft" fmla="*/ 55800 w 9144000"/>
              <a:gd name="textAreaRight" fmla="*/ 9088200 w 914400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28609" h="21600">
                <a:moveTo>
                  <a:pt x="0" y="0"/>
                </a:moveTo>
                <a:lnTo>
                  <a:pt x="228609" y="0"/>
                </a:lnTo>
                <a:lnTo>
                  <a:pt x="228609" y="21600"/>
                </a:lnTo>
                <a:lnTo>
                  <a:pt x="0" y="21600"/>
                </a:lnTo>
                <a:close/>
              </a:path>
              <a:path fill="lightenLess" w="228609" h="21600">
                <a:moveTo>
                  <a:pt x="0" y="0"/>
                </a:moveTo>
                <a:lnTo>
                  <a:pt x="228609" y="0"/>
                </a:lnTo>
                <a:lnTo>
                  <a:pt x="227209" y="1400"/>
                </a:lnTo>
                <a:lnTo>
                  <a:pt x="1400" y="1400"/>
                </a:lnTo>
                <a:close/>
              </a:path>
              <a:path fill="darken" w="228609" h="21600">
                <a:moveTo>
                  <a:pt x="228609" y="0"/>
                </a:moveTo>
                <a:lnTo>
                  <a:pt x="228609" y="21600"/>
                </a:lnTo>
                <a:lnTo>
                  <a:pt x="227209" y="20200"/>
                </a:lnTo>
                <a:lnTo>
                  <a:pt x="227209" y="1400"/>
                </a:lnTo>
                <a:close/>
              </a:path>
              <a:path fill="darkenLess" w="228609" h="21600">
                <a:moveTo>
                  <a:pt x="228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209" y="20200"/>
                </a:lnTo>
                <a:close/>
              </a:path>
              <a:path fill="lighten" w="228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Уровень регистрируемой безработицы о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экономически активного населения — 5,9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4292640"/>
            <a:ext cx="9144000" cy="863640"/>
          </a:xfrm>
          <a:custGeom>
            <a:avLst/>
            <a:gdLst>
              <a:gd name="textAreaLeft" fmla="*/ 55800 w 9144000"/>
              <a:gd name="textAreaRight" fmla="*/ 9088200 w 914400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28609" h="21600">
                <a:moveTo>
                  <a:pt x="0" y="0"/>
                </a:moveTo>
                <a:lnTo>
                  <a:pt x="228609" y="0"/>
                </a:lnTo>
                <a:lnTo>
                  <a:pt x="228609" y="21600"/>
                </a:lnTo>
                <a:lnTo>
                  <a:pt x="0" y="21600"/>
                </a:lnTo>
                <a:close/>
              </a:path>
              <a:path fill="lightenLess" w="228609" h="21600">
                <a:moveTo>
                  <a:pt x="0" y="0"/>
                </a:moveTo>
                <a:lnTo>
                  <a:pt x="228609" y="0"/>
                </a:lnTo>
                <a:lnTo>
                  <a:pt x="227209" y="1400"/>
                </a:lnTo>
                <a:lnTo>
                  <a:pt x="1400" y="1400"/>
                </a:lnTo>
                <a:close/>
              </a:path>
              <a:path fill="darken" w="228609" h="21600">
                <a:moveTo>
                  <a:pt x="228609" y="0"/>
                </a:moveTo>
                <a:lnTo>
                  <a:pt x="228609" y="21600"/>
                </a:lnTo>
                <a:lnTo>
                  <a:pt x="227209" y="20200"/>
                </a:lnTo>
                <a:lnTo>
                  <a:pt x="227209" y="1400"/>
                </a:lnTo>
                <a:close/>
              </a:path>
              <a:path fill="darkenLess" w="228609" h="21600">
                <a:moveTo>
                  <a:pt x="228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209" y="20200"/>
                </a:lnTo>
                <a:close/>
              </a:path>
              <a:path fill="lighten" w="228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Величина прожиточного миниму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трудоспособного населения —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10 951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 руб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5157720"/>
            <a:ext cx="9144000" cy="863640"/>
          </a:xfrm>
          <a:custGeom>
            <a:avLst/>
            <a:gdLst>
              <a:gd name="textAreaLeft" fmla="*/ 55800 w 9144000"/>
              <a:gd name="textAreaRight" fmla="*/ 9088200 w 914400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28609" h="21600">
                <a:moveTo>
                  <a:pt x="0" y="0"/>
                </a:moveTo>
                <a:lnTo>
                  <a:pt x="228609" y="0"/>
                </a:lnTo>
                <a:lnTo>
                  <a:pt x="228609" y="21600"/>
                </a:lnTo>
                <a:lnTo>
                  <a:pt x="0" y="21600"/>
                </a:lnTo>
                <a:close/>
              </a:path>
              <a:path fill="lightenLess" w="228609" h="21600">
                <a:moveTo>
                  <a:pt x="0" y="0"/>
                </a:moveTo>
                <a:lnTo>
                  <a:pt x="228609" y="0"/>
                </a:lnTo>
                <a:lnTo>
                  <a:pt x="227209" y="1400"/>
                </a:lnTo>
                <a:lnTo>
                  <a:pt x="1400" y="1400"/>
                </a:lnTo>
                <a:close/>
              </a:path>
              <a:path fill="darken" w="228609" h="21600">
                <a:moveTo>
                  <a:pt x="228609" y="0"/>
                </a:moveTo>
                <a:lnTo>
                  <a:pt x="228609" y="21600"/>
                </a:lnTo>
                <a:lnTo>
                  <a:pt x="227209" y="20200"/>
                </a:lnTo>
                <a:lnTo>
                  <a:pt x="227209" y="1400"/>
                </a:lnTo>
                <a:close/>
              </a:path>
              <a:path fill="darkenLess" w="228609" h="21600">
                <a:moveTo>
                  <a:pt x="228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209" y="20200"/>
                </a:lnTo>
                <a:close/>
              </a:path>
              <a:path fill="lighten" w="228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Число субъектов малого и среднего предпринимательст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в расчете на 10 тыс. человек населения — 307,82 един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6021360"/>
            <a:ext cx="9144000" cy="836640"/>
          </a:xfrm>
          <a:custGeom>
            <a:avLst/>
            <a:gdLst>
              <a:gd name="textAreaLeft" fmla="*/ 54000 w 9144000"/>
              <a:gd name="textAreaRight" fmla="*/ 9090000 w 9144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5983" h="21600">
                <a:moveTo>
                  <a:pt x="0" y="0"/>
                </a:moveTo>
                <a:lnTo>
                  <a:pt x="235983" y="0"/>
                </a:lnTo>
                <a:lnTo>
                  <a:pt x="235983" y="21600"/>
                </a:lnTo>
                <a:lnTo>
                  <a:pt x="0" y="21600"/>
                </a:lnTo>
                <a:close/>
              </a:path>
              <a:path fill="lightenLess" w="235983" h="21600">
                <a:moveTo>
                  <a:pt x="0" y="0"/>
                </a:moveTo>
                <a:lnTo>
                  <a:pt x="235983" y="0"/>
                </a:lnTo>
                <a:lnTo>
                  <a:pt x="234584" y="1400"/>
                </a:lnTo>
                <a:lnTo>
                  <a:pt x="1400" y="1400"/>
                </a:lnTo>
                <a:close/>
              </a:path>
              <a:path fill="darken" w="235983" h="21600">
                <a:moveTo>
                  <a:pt x="235983" y="0"/>
                </a:moveTo>
                <a:lnTo>
                  <a:pt x="235983" y="21600"/>
                </a:lnTo>
                <a:lnTo>
                  <a:pt x="234584" y="20200"/>
                </a:lnTo>
                <a:lnTo>
                  <a:pt x="234584" y="1400"/>
                </a:lnTo>
                <a:close/>
              </a:path>
              <a:path fill="darkenLess" w="235983" h="21600">
                <a:moveTo>
                  <a:pt x="235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584" y="20200"/>
                </a:lnTo>
                <a:close/>
              </a:path>
              <a:path fill="lighten" w="235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Зарегистрировано хозяйствующих субъект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(ЮЛ, ИП) — 441 един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0" y="0"/>
            <a:ext cx="9144000" cy="836640"/>
          </a:xfrm>
          <a:custGeom>
            <a:avLst/>
            <a:gdLst>
              <a:gd name="textAreaLeft" fmla="*/ 54000 w 9144000"/>
              <a:gd name="textAreaRight" fmla="*/ 9090000 w 9144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5983" h="21600">
                <a:moveTo>
                  <a:pt x="0" y="0"/>
                </a:moveTo>
                <a:lnTo>
                  <a:pt x="235983" y="0"/>
                </a:lnTo>
                <a:lnTo>
                  <a:pt x="235983" y="21600"/>
                </a:lnTo>
                <a:lnTo>
                  <a:pt x="0" y="21600"/>
                </a:lnTo>
                <a:close/>
              </a:path>
              <a:path fill="lightenLess" w="235983" h="21600">
                <a:moveTo>
                  <a:pt x="0" y="0"/>
                </a:moveTo>
                <a:lnTo>
                  <a:pt x="235983" y="0"/>
                </a:lnTo>
                <a:lnTo>
                  <a:pt x="234584" y="1400"/>
                </a:lnTo>
                <a:lnTo>
                  <a:pt x="1400" y="1400"/>
                </a:lnTo>
                <a:close/>
              </a:path>
              <a:path fill="darken" w="235983" h="21600">
                <a:moveTo>
                  <a:pt x="235983" y="0"/>
                </a:moveTo>
                <a:lnTo>
                  <a:pt x="235983" y="21600"/>
                </a:lnTo>
                <a:lnTo>
                  <a:pt x="234584" y="20200"/>
                </a:lnTo>
                <a:lnTo>
                  <a:pt x="234584" y="1400"/>
                </a:lnTo>
                <a:close/>
              </a:path>
              <a:path fill="darkenLess" w="235983" h="21600">
                <a:moveTo>
                  <a:pt x="235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584" y="20200"/>
                </a:lnTo>
                <a:close/>
              </a:path>
              <a:path fill="lighten" w="235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ДОХОДЫ БЮДЖЕТ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это поступающие в бюджет денежные сред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3141720"/>
            <a:ext cx="2987640" cy="3116160"/>
          </a:xfrm>
          <a:prstGeom prst="verticalScroll">
            <a:avLst>
              <a:gd name="adj" fmla="val 12500"/>
            </a:avLst>
          </a:prstGeom>
          <a:solidFill>
            <a:srgbClr val="8f8f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се поступ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т налог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 сборо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тор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едусмотре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логовы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одексом Р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27640" y="1052640"/>
            <a:ext cx="2916360" cy="1143000"/>
          </a:xfrm>
          <a:prstGeom prst="horizontalScroll">
            <a:avLst>
              <a:gd name="adj" fmla="val 12500"/>
            </a:avLst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БЕЗВОЗМЕЗД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ПОСТУП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59280" y="1700280"/>
            <a:ext cx="2989080" cy="1143000"/>
          </a:xfrm>
          <a:prstGeom prst="horizontalScroll">
            <a:avLst>
              <a:gd name="adj" fmla="val 12500"/>
            </a:avLst>
          </a:prstGeom>
          <a:solidFill>
            <a:srgbClr val="8f8f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НЕНАЛОГОВ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ДОХ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1125360"/>
            <a:ext cx="2916360" cy="1143000"/>
          </a:xfrm>
          <a:prstGeom prst="horizontalScroll">
            <a:avLst>
              <a:gd name="adj" fmla="val 12500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НАЛОГОВ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ДОХ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156360" y="3141720"/>
            <a:ext cx="2987640" cy="3116160"/>
          </a:xfrm>
          <a:prstGeom prst="verticalScroll">
            <a:avLst>
              <a:gd name="adj" fmla="val 12500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тупления 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жбюджет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ансфертов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ч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езвозмезд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тупл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наприме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онсор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мощь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700360" y="3741840"/>
            <a:ext cx="3672000" cy="3116160"/>
          </a:xfrm>
          <a:prstGeom prst="verticalScroll">
            <a:avLst>
              <a:gd name="adj" fmla="val 12500"/>
            </a:avLst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тупления о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платы сборов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тановлен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онодательством РФ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трафов за наруш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онодательства РФ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 использования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даж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униципаль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ущ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6320400">
            <a:off x="1115640" y="2565000"/>
            <a:ext cx="934920" cy="71640"/>
          </a:xfrm>
          <a:custGeom>
            <a:avLst/>
            <a:gdLst>
              <a:gd name="textAreaLeft" fmla="*/ 116640 w 934920"/>
              <a:gd name="textAreaRight" fmla="*/ 818280 w 934920"/>
              <a:gd name="textAreaTop" fmla="*/ 18000 h 71640"/>
              <a:gd name="textAreaBottom" fmla="*/ 54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4068720" y="3213000"/>
            <a:ext cx="934920" cy="71280"/>
          </a:xfrm>
          <a:custGeom>
            <a:avLst/>
            <a:gdLst>
              <a:gd name="textAreaLeft" fmla="*/ 116640 w 934920"/>
              <a:gd name="textAreaRight" fmla="*/ 818280 w 934920"/>
              <a:gd name="textAreaTop" fmla="*/ 17640 h 71280"/>
              <a:gd name="textAreaBottom" fmla="*/ 53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4752600">
            <a:off x="7235640" y="2565360"/>
            <a:ext cx="934920" cy="71280"/>
          </a:xfrm>
          <a:custGeom>
            <a:avLst/>
            <a:gdLst>
              <a:gd name="textAreaLeft" fmla="*/ 116640 w 934920"/>
              <a:gd name="textAreaRight" fmla="*/ 818280 w 934920"/>
              <a:gd name="textAreaTop" fmla="*/ 17640 h 71280"/>
              <a:gd name="textAreaBottom" fmla="*/ 53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0"/>
            <a:ext cx="9144000" cy="836640"/>
          </a:xfrm>
          <a:custGeom>
            <a:avLst/>
            <a:gdLst>
              <a:gd name="textAreaLeft" fmla="*/ 54000 w 9144000"/>
              <a:gd name="textAreaRight" fmla="*/ 9090000 w 9144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5983" h="21600">
                <a:moveTo>
                  <a:pt x="0" y="0"/>
                </a:moveTo>
                <a:lnTo>
                  <a:pt x="235983" y="0"/>
                </a:lnTo>
                <a:lnTo>
                  <a:pt x="235983" y="21600"/>
                </a:lnTo>
                <a:lnTo>
                  <a:pt x="0" y="21600"/>
                </a:lnTo>
                <a:close/>
              </a:path>
              <a:path fill="lightenLess" w="235983" h="21600">
                <a:moveTo>
                  <a:pt x="0" y="0"/>
                </a:moveTo>
                <a:lnTo>
                  <a:pt x="235983" y="0"/>
                </a:lnTo>
                <a:lnTo>
                  <a:pt x="234584" y="1400"/>
                </a:lnTo>
                <a:lnTo>
                  <a:pt x="1400" y="1400"/>
                </a:lnTo>
                <a:close/>
              </a:path>
              <a:path fill="darken" w="235983" h="21600">
                <a:moveTo>
                  <a:pt x="235983" y="0"/>
                </a:moveTo>
                <a:lnTo>
                  <a:pt x="235983" y="21600"/>
                </a:lnTo>
                <a:lnTo>
                  <a:pt x="234584" y="20200"/>
                </a:lnTo>
                <a:lnTo>
                  <a:pt x="234584" y="1400"/>
                </a:lnTo>
                <a:close/>
              </a:path>
              <a:path fill="darkenLess" w="235983" h="21600">
                <a:moveTo>
                  <a:pt x="235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584" y="20200"/>
                </a:lnTo>
                <a:close/>
              </a:path>
              <a:path fill="lighten" w="235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МЕЖБЮДЖЕТНЫЕ ТРАНСФЕР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это бюджетные средства, передаваемые из бюджета одного уровня бюджету другого уровн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771640" y="1268280"/>
            <a:ext cx="3529080" cy="1152720"/>
          </a:xfrm>
          <a:prstGeom prst="flowChartAlternateProcess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ФОР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МЕЖБЮДЖЕТ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РАНСФЕР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3357720"/>
            <a:ext cx="2843280" cy="3095640"/>
          </a:xfrm>
          <a:prstGeom prst="flowChartAlternateProcess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от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межбюджетны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трансферты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редоставляемые н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безвозмездной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безвозвратной основ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без установ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направлений и (или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условий и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использов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132000" y="3357720"/>
            <a:ext cx="2843280" cy="3095640"/>
          </a:xfrm>
          <a:prstGeom prst="flowChartAlternateProcess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убвен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межбюджетны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трансферты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редоставляемые 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целях финансовог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обеспечения расходны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обязательств переданны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для осуществле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органами местног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амоуправления 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установленном порядк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300720" y="3357720"/>
            <a:ext cx="2843280" cy="3095640"/>
          </a:xfrm>
          <a:prstGeom prst="flowChartAlternate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убсид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межбюджетны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трансферты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редоставляемые 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целях софинансиров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расходных обязательств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о выполнени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олномочий органам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местного самоуправле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о вопросам местног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знач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8076600">
            <a:off x="1320120" y="2604960"/>
            <a:ext cx="1470240" cy="104760"/>
          </a:xfrm>
          <a:custGeom>
            <a:avLst/>
            <a:gdLst>
              <a:gd name="textAreaLeft" fmla="*/ 183600 w 1470240"/>
              <a:gd name="textAreaRight" fmla="*/ 1286640 w 1470240"/>
              <a:gd name="textAreaTop" fmla="*/ 26280 h 104760"/>
              <a:gd name="textAreaBottom" fmla="*/ 78840 h 104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rot="5400000">
            <a:off x="4177440" y="2815560"/>
            <a:ext cx="719280" cy="72720"/>
          </a:xfrm>
          <a:custGeom>
            <a:avLst/>
            <a:gdLst>
              <a:gd name="textAreaLeft" fmla="*/ 89640 w 719280"/>
              <a:gd name="textAreaRight" fmla="*/ 629640 w 7192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rot="2905800">
            <a:off x="6469560" y="2607120"/>
            <a:ext cx="1368360" cy="12204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30240 h 122040"/>
              <a:gd name="textAreaBottom" fmla="*/ 91440 h 122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48" name=""/>
          <p:cNvSpPr/>
          <p:nvPr/>
        </p:nvSpPr>
        <p:spPr>
          <a:xfrm>
            <a:off x="0" y="0"/>
            <a:ext cx="9144000" cy="907920"/>
          </a:xfrm>
          <a:prstGeom prst="bevel">
            <a:avLst>
              <a:gd name="adj" fmla="val 12500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ИСТОЧНИКИ ФИНАНСИРОВА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ЕФИЦИТА БЮДЖЕ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55640" y="5877000"/>
            <a:ext cx="4321080" cy="753840"/>
          </a:xfrm>
          <a:custGeom>
            <a:avLst/>
            <a:gdLst>
              <a:gd name="textAreaLeft" fmla="*/ 48600 w 4321080"/>
              <a:gd name="textAreaRight" fmla="*/ 4272480 w 4321080"/>
              <a:gd name="textAreaTop" fmla="*/ 48600 h 753840"/>
              <a:gd name="textAreaBottom" fmla="*/ 705240 h 753840"/>
            </a:gdLst>
            <a:ahLst/>
            <a:rect l="textAreaLeft" t="textAreaTop" r="textAreaRight" b="textAreaBottom"/>
            <a:pathLst>
              <a:path w="123764" h="21600">
                <a:moveTo>
                  <a:pt x="0" y="0"/>
                </a:moveTo>
                <a:lnTo>
                  <a:pt x="123764" y="0"/>
                </a:lnTo>
                <a:lnTo>
                  <a:pt x="123764" y="21600"/>
                </a:lnTo>
                <a:lnTo>
                  <a:pt x="0" y="21600"/>
                </a:lnTo>
                <a:close/>
              </a:path>
              <a:path fill="lightenLess" w="123764" h="21600">
                <a:moveTo>
                  <a:pt x="0" y="0"/>
                </a:moveTo>
                <a:lnTo>
                  <a:pt x="123764" y="0"/>
                </a:lnTo>
                <a:lnTo>
                  <a:pt x="122364" y="1400"/>
                </a:lnTo>
                <a:lnTo>
                  <a:pt x="1400" y="1400"/>
                </a:lnTo>
                <a:close/>
              </a:path>
              <a:path fill="darken" w="123764" h="21600">
                <a:moveTo>
                  <a:pt x="123764" y="0"/>
                </a:moveTo>
                <a:lnTo>
                  <a:pt x="123764" y="21600"/>
                </a:lnTo>
                <a:lnTo>
                  <a:pt x="122364" y="20200"/>
                </a:lnTo>
                <a:lnTo>
                  <a:pt x="122364" y="1400"/>
                </a:lnTo>
                <a:close/>
              </a:path>
              <a:path fill="darkenLess" w="123764" h="21600">
                <a:moveTo>
                  <a:pt x="123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2364" y="20200"/>
                </a:lnTo>
                <a:close/>
              </a:path>
              <a:path fill="lighten" w="123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Муниципальный долг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совокупность долговых обязательст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8000" y="3716280"/>
            <a:ext cx="1727280" cy="1297080"/>
          </a:xfrm>
          <a:custGeom>
            <a:avLst/>
            <a:gdLst>
              <a:gd name="textAreaLeft" fmla="*/ 83880 w 1727280"/>
              <a:gd name="textAreaRight" fmla="*/ 1643400 w 1727280"/>
              <a:gd name="textAreaTop" fmla="*/ 83880 h 1297080"/>
              <a:gd name="textAreaBottom" fmla="*/ 1213200 h 1297080"/>
            </a:gdLst>
            <a:ahLst/>
            <a:rect l="textAreaLeft" t="textAreaTop" r="textAreaRight" b="textAreaBottom"/>
            <a:pathLst>
              <a:path w="28762" h="21600">
                <a:moveTo>
                  <a:pt x="0" y="0"/>
                </a:moveTo>
                <a:lnTo>
                  <a:pt x="28762" y="0"/>
                </a:lnTo>
                <a:lnTo>
                  <a:pt x="28762" y="21600"/>
                </a:lnTo>
                <a:lnTo>
                  <a:pt x="0" y="21600"/>
                </a:lnTo>
                <a:close/>
              </a:path>
              <a:path fill="lightenLess" w="28762" h="21600">
                <a:moveTo>
                  <a:pt x="0" y="0"/>
                </a:moveTo>
                <a:lnTo>
                  <a:pt x="28762" y="0"/>
                </a:lnTo>
                <a:lnTo>
                  <a:pt x="27362" y="1400"/>
                </a:lnTo>
                <a:lnTo>
                  <a:pt x="1400" y="1400"/>
                </a:lnTo>
                <a:close/>
              </a:path>
              <a:path fill="darken" w="28762" h="21600">
                <a:moveTo>
                  <a:pt x="28762" y="0"/>
                </a:moveTo>
                <a:lnTo>
                  <a:pt x="28762" y="21600"/>
                </a:lnTo>
                <a:lnTo>
                  <a:pt x="27362" y="20200"/>
                </a:lnTo>
                <a:lnTo>
                  <a:pt x="27362" y="1400"/>
                </a:lnTo>
                <a:close/>
              </a:path>
              <a:path fill="darkenLess" w="28762" h="21600">
                <a:moveTo>
                  <a:pt x="28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2" y="20200"/>
                </a:lnTo>
                <a:close/>
              </a:path>
              <a:path fill="lighten" w="28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Кредиты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полученные от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кредитных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организац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08000" y="3716280"/>
            <a:ext cx="2232360" cy="1297080"/>
          </a:xfrm>
          <a:custGeom>
            <a:avLst/>
            <a:gdLst>
              <a:gd name="textAreaLeft" fmla="*/ 83880 w 2232360"/>
              <a:gd name="textAreaRight" fmla="*/ 2148480 w 2232360"/>
              <a:gd name="textAreaTop" fmla="*/ 83880 h 1297080"/>
              <a:gd name="textAreaBottom" fmla="*/ 1213200 h 1297080"/>
            </a:gdLst>
            <a:ahLst/>
            <a:rect l="textAreaLeft" t="textAreaTop" r="textAreaRight" b="textAreaBottom"/>
            <a:pathLst>
              <a:path w="37171" h="21600">
                <a:moveTo>
                  <a:pt x="0" y="0"/>
                </a:moveTo>
                <a:lnTo>
                  <a:pt x="37171" y="0"/>
                </a:lnTo>
                <a:lnTo>
                  <a:pt x="37171" y="21600"/>
                </a:lnTo>
                <a:lnTo>
                  <a:pt x="0" y="21600"/>
                </a:lnTo>
                <a:close/>
              </a:path>
              <a:path fill="lightenLess" w="37171" h="21600">
                <a:moveTo>
                  <a:pt x="0" y="0"/>
                </a:moveTo>
                <a:lnTo>
                  <a:pt x="37171" y="0"/>
                </a:lnTo>
                <a:lnTo>
                  <a:pt x="35771" y="1400"/>
                </a:lnTo>
                <a:lnTo>
                  <a:pt x="1400" y="1400"/>
                </a:lnTo>
                <a:close/>
              </a:path>
              <a:path fill="darken" w="37171" h="21600">
                <a:moveTo>
                  <a:pt x="37171" y="0"/>
                </a:moveTo>
                <a:lnTo>
                  <a:pt x="37171" y="21600"/>
                </a:lnTo>
                <a:lnTo>
                  <a:pt x="35771" y="20200"/>
                </a:lnTo>
                <a:lnTo>
                  <a:pt x="35771" y="1400"/>
                </a:lnTo>
                <a:close/>
              </a:path>
              <a:path fill="darkenLess" w="37171" h="21600">
                <a:moveTo>
                  <a:pt x="37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71" y="20200"/>
                </a:lnTo>
                <a:close/>
              </a:path>
              <a:path fill="lighten" w="37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Бюджетные кредиты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полученные от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бюджетов других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уровней бюджетн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системы РФ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211640" y="3716280"/>
            <a:ext cx="2665440" cy="1297080"/>
          </a:xfrm>
          <a:custGeom>
            <a:avLst/>
            <a:gdLst>
              <a:gd name="textAreaLeft" fmla="*/ 83880 w 2665440"/>
              <a:gd name="textAreaRight" fmla="*/ 2581560 w 2665440"/>
              <a:gd name="textAreaTop" fmla="*/ 83880 h 1297080"/>
              <a:gd name="textAreaBottom" fmla="*/ 1213200 h 1297080"/>
            </a:gdLst>
            <a:ahLst/>
            <a:rect l="textAreaLeft" t="textAreaTop" r="textAreaRight" b="textAreaBottom"/>
            <a:pathLst>
              <a:path w="44381" h="21600">
                <a:moveTo>
                  <a:pt x="0" y="0"/>
                </a:moveTo>
                <a:lnTo>
                  <a:pt x="44381" y="0"/>
                </a:lnTo>
                <a:lnTo>
                  <a:pt x="44381" y="21600"/>
                </a:lnTo>
                <a:lnTo>
                  <a:pt x="0" y="21600"/>
                </a:lnTo>
                <a:close/>
              </a:path>
              <a:path fill="lightenLess" w="44381" h="21600">
                <a:moveTo>
                  <a:pt x="0" y="0"/>
                </a:moveTo>
                <a:lnTo>
                  <a:pt x="44381" y="0"/>
                </a:lnTo>
                <a:lnTo>
                  <a:pt x="42981" y="1400"/>
                </a:lnTo>
                <a:lnTo>
                  <a:pt x="1400" y="1400"/>
                </a:lnTo>
                <a:close/>
              </a:path>
              <a:path fill="darken" w="44381" h="21600">
                <a:moveTo>
                  <a:pt x="44381" y="0"/>
                </a:moveTo>
                <a:lnTo>
                  <a:pt x="44381" y="21600"/>
                </a:lnTo>
                <a:lnTo>
                  <a:pt x="42981" y="20200"/>
                </a:lnTo>
                <a:lnTo>
                  <a:pt x="42981" y="1400"/>
                </a:lnTo>
                <a:close/>
              </a:path>
              <a:path fill="darkenLess" w="44381" h="21600">
                <a:moveTo>
                  <a:pt x="44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981" y="20200"/>
                </a:lnTo>
                <a:close/>
              </a:path>
              <a:path fill="lighten" w="44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Муниципальные займы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осуществляется путе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выпуска ценных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бумаг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48360" y="3716280"/>
            <a:ext cx="2087640" cy="1297080"/>
          </a:xfrm>
          <a:custGeom>
            <a:avLst/>
            <a:gdLst>
              <a:gd name="textAreaLeft" fmla="*/ 83880 w 2087640"/>
              <a:gd name="textAreaRight" fmla="*/ 2003760 w 2087640"/>
              <a:gd name="textAreaTop" fmla="*/ 83880 h 1297080"/>
              <a:gd name="textAreaBottom" fmla="*/ 1213200 h 1297080"/>
            </a:gdLst>
            <a:ahLst/>
            <a:rect l="textAreaLeft" t="textAreaTop" r="textAreaRight" b="textAreaBottom"/>
            <a:pathLst>
              <a:path w="34761" h="21600">
                <a:moveTo>
                  <a:pt x="0" y="0"/>
                </a:moveTo>
                <a:lnTo>
                  <a:pt x="34761" y="0"/>
                </a:lnTo>
                <a:lnTo>
                  <a:pt x="34761" y="21600"/>
                </a:lnTo>
                <a:lnTo>
                  <a:pt x="0" y="21600"/>
                </a:lnTo>
                <a:close/>
              </a:path>
              <a:path fill="lightenLess" w="34761" h="21600">
                <a:moveTo>
                  <a:pt x="0" y="0"/>
                </a:moveTo>
                <a:lnTo>
                  <a:pt x="34761" y="0"/>
                </a:lnTo>
                <a:lnTo>
                  <a:pt x="33361" y="1400"/>
                </a:lnTo>
                <a:lnTo>
                  <a:pt x="1400" y="1400"/>
                </a:lnTo>
                <a:close/>
              </a:path>
              <a:path fill="darken" w="34761" h="21600">
                <a:moveTo>
                  <a:pt x="34761" y="0"/>
                </a:moveTo>
                <a:lnTo>
                  <a:pt x="34761" y="21600"/>
                </a:lnTo>
                <a:lnTo>
                  <a:pt x="33361" y="20200"/>
                </a:lnTo>
                <a:lnTo>
                  <a:pt x="33361" y="1400"/>
                </a:lnTo>
                <a:close/>
              </a:path>
              <a:path fill="darkenLess" w="34761" h="21600">
                <a:moveTo>
                  <a:pt x="3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61" y="20200"/>
                </a:lnTo>
                <a:close/>
              </a:path>
              <a:path fill="lighten" w="3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Изменение остатков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на счетах по учету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средств местн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бюджет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4000" y="2421000"/>
            <a:ext cx="8569080" cy="503280"/>
          </a:xfrm>
          <a:custGeom>
            <a:avLst/>
            <a:gdLst>
              <a:gd name="textAreaLeft" fmla="*/ 32400 w 8569080"/>
              <a:gd name="textAreaRight" fmla="*/ 8536680 w 8569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67524" h="21600">
                <a:moveTo>
                  <a:pt x="0" y="0"/>
                </a:moveTo>
                <a:lnTo>
                  <a:pt x="367524" y="0"/>
                </a:lnTo>
                <a:lnTo>
                  <a:pt x="367524" y="21600"/>
                </a:lnTo>
                <a:lnTo>
                  <a:pt x="0" y="21600"/>
                </a:lnTo>
                <a:close/>
              </a:path>
              <a:path fill="lightenLess" w="367524" h="21600">
                <a:moveTo>
                  <a:pt x="0" y="0"/>
                </a:moveTo>
                <a:lnTo>
                  <a:pt x="367524" y="0"/>
                </a:lnTo>
                <a:lnTo>
                  <a:pt x="366124" y="1400"/>
                </a:lnTo>
                <a:lnTo>
                  <a:pt x="1400" y="1400"/>
                </a:lnTo>
                <a:close/>
              </a:path>
              <a:path fill="darken" w="367524" h="21600">
                <a:moveTo>
                  <a:pt x="367524" y="0"/>
                </a:moveTo>
                <a:lnTo>
                  <a:pt x="367524" y="21600"/>
                </a:lnTo>
                <a:lnTo>
                  <a:pt x="366124" y="20200"/>
                </a:lnTo>
                <a:lnTo>
                  <a:pt x="366124" y="1400"/>
                </a:lnTo>
                <a:close/>
              </a:path>
              <a:path fill="darkenLess" w="367524" h="21600">
                <a:moveTo>
                  <a:pt x="36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6124" y="20200"/>
                </a:lnTo>
                <a:close/>
              </a:path>
              <a:path fill="lighten" w="36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Источники финансирования дефицита бюджета район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5400000">
            <a:off x="3381480" y="2171160"/>
            <a:ext cx="504720" cy="6477120"/>
          </a:xfrm>
          <a:custGeom>
            <a:avLst/>
            <a:gdLst>
              <a:gd name="textAreaLeft" fmla="*/ 0 w 504720"/>
              <a:gd name="textAreaRight" fmla="*/ 182160 w 504720"/>
              <a:gd name="textAreaTop" fmla="*/ 168840 h 6477120"/>
              <a:gd name="textAreaBottom" fmla="*/ 6308280 h 647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116000" y="1197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971640" y="981000"/>
            <a:ext cx="7416720" cy="12970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В процессе принятия и исполнения бюджета большое знач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имеет сбалансированность доходов и расход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Если доходы превышают расходы, то возникает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официт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Если расходы превышают доходы, то возникает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дефицит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7154400">
            <a:off x="956160" y="3299400"/>
            <a:ext cx="677880" cy="73080"/>
          </a:xfrm>
          <a:custGeom>
            <a:avLst/>
            <a:gdLst>
              <a:gd name="textAreaLeft" fmla="*/ 84600 w 677880"/>
              <a:gd name="textAreaRight" fmla="*/ 593280 w 67788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7287600">
            <a:off x="2756160" y="3299760"/>
            <a:ext cx="677880" cy="72720"/>
          </a:xfrm>
          <a:custGeom>
            <a:avLst/>
            <a:gdLst>
              <a:gd name="textAreaLeft" fmla="*/ 84600 w 677880"/>
              <a:gd name="textAreaRight" fmla="*/ 593280 w 6778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3538800">
            <a:off x="5348880" y="3299760"/>
            <a:ext cx="677880" cy="72720"/>
          </a:xfrm>
          <a:custGeom>
            <a:avLst/>
            <a:gdLst>
              <a:gd name="textAreaLeft" fmla="*/ 84600 w 677880"/>
              <a:gd name="textAreaRight" fmla="*/ 593280 w 67788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 rot="3008400">
            <a:off x="7162560" y="3291840"/>
            <a:ext cx="936720" cy="72720"/>
          </a:xfrm>
          <a:custGeom>
            <a:avLst/>
            <a:gdLst>
              <a:gd name="textAreaLeft" fmla="*/ 117000 w 936720"/>
              <a:gd name="textAreaRight" fmla="*/ 819720 w 936720"/>
              <a:gd name="textAreaTop" fmla="*/ 18000 h 72720"/>
              <a:gd name="textAreaBottom" fmla="*/ 54720 h 7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6093000"/>
            <a:ext cx="7093080" cy="765000"/>
          </a:xfrm>
          <a:prstGeom prst="bevel">
            <a:avLst>
              <a:gd name="adj" fmla="val 12500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труктура консолидированного бюдже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муниципального образования «Зырянский район»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9144000" cy="83664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10440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сновные характеристики бюджет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 20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- 20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г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79280" y="1844640"/>
            <a:ext cx="2592360" cy="1224000"/>
          </a:xfrm>
          <a:prstGeom prst="rightArrow">
            <a:avLst>
              <a:gd name="adj1" fmla="val 50000"/>
              <a:gd name="adj2" fmla="val 52949"/>
            </a:avLst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lin ang="5400000"/>
          </a:gra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ох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79280" y="3284640"/>
            <a:ext cx="2592360" cy="1224000"/>
          </a:xfrm>
          <a:prstGeom prst="rightArrow">
            <a:avLst>
              <a:gd name="adj1" fmla="val 50000"/>
              <a:gd name="adj2" fmla="val 52949"/>
            </a:avLst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lin ang="5400000"/>
          </a:gra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асх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79280" y="4724280"/>
            <a:ext cx="2592360" cy="1224000"/>
          </a:xfrm>
          <a:prstGeom prst="rightArrow">
            <a:avLst>
              <a:gd name="adj1" fmla="val 50000"/>
              <a:gd name="adj2" fmla="val 52949"/>
            </a:avLst>
          </a:pr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lin ang="5400000"/>
          </a:gra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офиц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132000" y="907920"/>
            <a:ext cx="1656000" cy="79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0000"/>
              </a:gs>
              <a:gs pos="50000">
                <a:srgbClr val="460000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0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год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ыс.руб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076720" y="907920"/>
            <a:ext cx="1656000" cy="79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0000"/>
              </a:gs>
              <a:gs pos="50000">
                <a:srgbClr val="460000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0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год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ыс.руб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020000" y="907920"/>
            <a:ext cx="1655640" cy="79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0000"/>
              </a:gs>
              <a:gs pos="50000">
                <a:srgbClr val="460000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01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год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ыс.руб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132000" y="1844640"/>
            <a:ext cx="1656000" cy="1224000"/>
          </a:xfrm>
          <a:prstGeom prst="can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47 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132000" y="3284640"/>
            <a:ext cx="1656000" cy="1224000"/>
          </a:xfrm>
          <a:prstGeom prst="can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2 7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32000" y="4797360"/>
            <a:ext cx="1656000" cy="1224000"/>
          </a:xfrm>
          <a:prstGeom prst="can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076720" y="1844640"/>
            <a:ext cx="1656000" cy="1224000"/>
          </a:xfrm>
          <a:prstGeom prst="can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98 17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020000" y="1844640"/>
            <a:ext cx="1655640" cy="1224000"/>
          </a:xfrm>
          <a:prstGeom prst="can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2 02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076720" y="3284640"/>
            <a:ext cx="1656000" cy="1224000"/>
          </a:xfrm>
          <a:prstGeom prst="can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93 87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020000" y="3284640"/>
            <a:ext cx="1655640" cy="1224000"/>
          </a:xfrm>
          <a:prstGeom prst="can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97 62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76720" y="4797360"/>
            <a:ext cx="1656000" cy="1224000"/>
          </a:xfrm>
          <a:prstGeom prst="can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093080" y="4797360"/>
            <a:ext cx="1655640" cy="1224000"/>
          </a:xfrm>
          <a:prstGeom prst="can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40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448000" y="765000"/>
            <a:ext cx="6696000" cy="41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 для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граждан</a:t>
            </a:r>
            <a:r>
              <a:rPr b="1" i="1" lang="ru-RU" sz="2400" spc="-1" strike="noStrike" u="sng">
                <a:solidFill>
                  <a:srgbClr val="0033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а основе Реш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умы Зырянского райо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т 2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.12.201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5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№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96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«О местном бюджет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Зырянского района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а  201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6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год и на плановы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ериод 201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7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и 201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8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годов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226836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0" y="0"/>
            <a:ext cx="9144000" cy="83664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10440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сновные характеристики бюджет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а 201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- 201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г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6237360"/>
            <a:ext cx="5076720" cy="620640"/>
          </a:xfrm>
          <a:prstGeom prst="bevel">
            <a:avLst>
              <a:gd name="adj" fmla="val 12500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Структура бюджета райо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916360" y="3645000"/>
            <a:ext cx="3240000" cy="2305080"/>
          </a:xfrm>
          <a:custGeom>
            <a:avLst/>
            <a:gdLst>
              <a:gd name="textAreaLeft" fmla="*/ 149400 w 3240000"/>
              <a:gd name="textAreaRight" fmla="*/ 3090600 w 3240000"/>
              <a:gd name="textAreaTop" fmla="*/ 149400 h 2305080"/>
              <a:gd name="textAreaBottom" fmla="*/ 2155680 h 2305080"/>
            </a:gdLst>
            <a:ahLst/>
            <a:rect l="textAreaLeft" t="textAreaTop" r="textAreaRight" b="textAreaBottom"/>
            <a:pathLst>
              <a:path w="30359" h="21600">
                <a:moveTo>
                  <a:pt x="0" y="0"/>
                </a:moveTo>
                <a:lnTo>
                  <a:pt x="30359" y="0"/>
                </a:lnTo>
                <a:lnTo>
                  <a:pt x="30359" y="21600"/>
                </a:lnTo>
                <a:lnTo>
                  <a:pt x="0" y="21600"/>
                </a:lnTo>
                <a:close/>
              </a:path>
              <a:path fill="lightenLess" w="30359" h="21600">
                <a:moveTo>
                  <a:pt x="0" y="0"/>
                </a:moveTo>
                <a:lnTo>
                  <a:pt x="30359" y="0"/>
                </a:lnTo>
                <a:lnTo>
                  <a:pt x="28959" y="1400"/>
                </a:lnTo>
                <a:lnTo>
                  <a:pt x="1400" y="1400"/>
                </a:lnTo>
                <a:close/>
              </a:path>
              <a:path fill="darken" w="30359" h="21600">
                <a:moveTo>
                  <a:pt x="30359" y="0"/>
                </a:moveTo>
                <a:lnTo>
                  <a:pt x="30359" y="21600"/>
                </a:lnTo>
                <a:lnTo>
                  <a:pt x="28959" y="20200"/>
                </a:lnTo>
                <a:lnTo>
                  <a:pt x="28959" y="1400"/>
                </a:lnTo>
                <a:close/>
              </a:path>
              <a:path fill="darkenLess" w="30359" h="21600">
                <a:moveTo>
                  <a:pt x="30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59" y="20200"/>
                </a:lnTo>
                <a:close/>
              </a:path>
              <a:path fill="lighten" w="30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фиц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0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год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3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0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год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3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0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год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40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10800000">
            <a:off x="3780000" y="2133720"/>
            <a:ext cx="1584000" cy="1225440"/>
          </a:xfrm>
          <a:custGeom>
            <a:avLst/>
            <a:gdLst>
              <a:gd name="textAreaLeft" fmla="*/ 0 w 1584000"/>
              <a:gd name="textAreaRight" fmla="*/ 1584360 w 158400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0920" y="1268280"/>
            <a:ext cx="3241440" cy="2305080"/>
          </a:xfrm>
          <a:custGeom>
            <a:avLst/>
            <a:gdLst>
              <a:gd name="textAreaLeft" fmla="*/ 149400 w 3241440"/>
              <a:gd name="textAreaRight" fmla="*/ 3092040 w 3241440"/>
              <a:gd name="textAreaTop" fmla="*/ 149400 h 2305080"/>
              <a:gd name="textAreaBottom" fmla="*/ 2155680 h 2305080"/>
            </a:gdLst>
            <a:ahLst/>
            <a:rect l="textAreaLeft" t="textAreaTop" r="textAreaRight" b="textAreaBottom"/>
            <a:pathLst>
              <a:path w="30373" h="21600">
                <a:moveTo>
                  <a:pt x="0" y="0"/>
                </a:moveTo>
                <a:lnTo>
                  <a:pt x="30373" y="0"/>
                </a:lnTo>
                <a:lnTo>
                  <a:pt x="30373" y="21600"/>
                </a:lnTo>
                <a:lnTo>
                  <a:pt x="0" y="21600"/>
                </a:lnTo>
                <a:close/>
              </a:path>
              <a:path fill="lightenLess" w="30373" h="21600">
                <a:moveTo>
                  <a:pt x="0" y="0"/>
                </a:moveTo>
                <a:lnTo>
                  <a:pt x="30373" y="0"/>
                </a:lnTo>
                <a:lnTo>
                  <a:pt x="28973" y="1400"/>
                </a:lnTo>
                <a:lnTo>
                  <a:pt x="1400" y="1400"/>
                </a:lnTo>
                <a:close/>
              </a:path>
              <a:path fill="darken" w="30373" h="21600">
                <a:moveTo>
                  <a:pt x="30373" y="0"/>
                </a:moveTo>
                <a:lnTo>
                  <a:pt x="30373" y="21600"/>
                </a:lnTo>
                <a:lnTo>
                  <a:pt x="28973" y="20200"/>
                </a:lnTo>
                <a:lnTo>
                  <a:pt x="28973" y="1400"/>
                </a:lnTo>
                <a:close/>
              </a:path>
              <a:path fill="darkenLess" w="30373" h="21600">
                <a:moveTo>
                  <a:pt x="30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73" y="20200"/>
                </a:lnTo>
                <a:close/>
              </a:path>
              <a:path fill="lighten" w="30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х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0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год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31 3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0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год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82 2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0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год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84 48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651640" y="1268280"/>
            <a:ext cx="3241440" cy="2305080"/>
          </a:xfrm>
          <a:custGeom>
            <a:avLst/>
            <a:gdLst>
              <a:gd name="textAreaLeft" fmla="*/ 149400 w 3241440"/>
              <a:gd name="textAreaRight" fmla="*/ 3092040 w 3241440"/>
              <a:gd name="textAreaTop" fmla="*/ 149400 h 2305080"/>
              <a:gd name="textAreaBottom" fmla="*/ 2155680 h 2305080"/>
            </a:gdLst>
            <a:ahLst/>
            <a:rect l="textAreaLeft" t="textAreaTop" r="textAreaRight" b="textAreaBottom"/>
            <a:pathLst>
              <a:path w="30373" h="21600">
                <a:moveTo>
                  <a:pt x="0" y="0"/>
                </a:moveTo>
                <a:lnTo>
                  <a:pt x="30373" y="0"/>
                </a:lnTo>
                <a:lnTo>
                  <a:pt x="30373" y="21600"/>
                </a:lnTo>
                <a:lnTo>
                  <a:pt x="0" y="21600"/>
                </a:lnTo>
                <a:close/>
              </a:path>
              <a:path fill="lightenLess" w="30373" h="21600">
                <a:moveTo>
                  <a:pt x="0" y="0"/>
                </a:moveTo>
                <a:lnTo>
                  <a:pt x="30373" y="0"/>
                </a:lnTo>
                <a:lnTo>
                  <a:pt x="28973" y="1400"/>
                </a:lnTo>
                <a:lnTo>
                  <a:pt x="1400" y="1400"/>
                </a:lnTo>
                <a:close/>
              </a:path>
              <a:path fill="darken" w="30373" h="21600">
                <a:moveTo>
                  <a:pt x="30373" y="0"/>
                </a:moveTo>
                <a:lnTo>
                  <a:pt x="30373" y="21600"/>
                </a:lnTo>
                <a:lnTo>
                  <a:pt x="28973" y="20200"/>
                </a:lnTo>
                <a:lnTo>
                  <a:pt x="28973" y="1400"/>
                </a:lnTo>
                <a:close/>
              </a:path>
              <a:path fill="darkenLess" w="30373" h="21600">
                <a:moveTo>
                  <a:pt x="30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73" y="20200"/>
                </a:lnTo>
                <a:close/>
              </a:path>
              <a:path fill="lighten" w="30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сх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0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год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27 0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0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год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77 9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0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год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80 08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1484280"/>
            <a:ext cx="3419640" cy="865080"/>
          </a:xfrm>
          <a:custGeom>
            <a:avLst/>
            <a:gdLst>
              <a:gd name="textAreaLeft" fmla="*/ 55800 w 3419640"/>
              <a:gd name="textAreaRight" fmla="*/ 3363840 w 341964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85358" h="21600">
                <a:moveTo>
                  <a:pt x="0" y="0"/>
                </a:moveTo>
                <a:lnTo>
                  <a:pt x="85358" y="0"/>
                </a:lnTo>
                <a:lnTo>
                  <a:pt x="85358" y="21600"/>
                </a:lnTo>
                <a:lnTo>
                  <a:pt x="0" y="21600"/>
                </a:lnTo>
                <a:close/>
              </a:path>
              <a:path fill="lightenLess" w="85358" h="21600">
                <a:moveTo>
                  <a:pt x="0" y="0"/>
                </a:moveTo>
                <a:lnTo>
                  <a:pt x="85358" y="0"/>
                </a:lnTo>
                <a:lnTo>
                  <a:pt x="83958" y="1400"/>
                </a:lnTo>
                <a:lnTo>
                  <a:pt x="1400" y="1400"/>
                </a:lnTo>
                <a:close/>
              </a:path>
              <a:path fill="darken" w="85358" h="21600">
                <a:moveTo>
                  <a:pt x="85358" y="0"/>
                </a:moveTo>
                <a:lnTo>
                  <a:pt x="85358" y="21600"/>
                </a:lnTo>
                <a:lnTo>
                  <a:pt x="83958" y="20200"/>
                </a:lnTo>
                <a:lnTo>
                  <a:pt x="83958" y="1400"/>
                </a:lnTo>
                <a:close/>
              </a:path>
              <a:path fill="darkenLess" w="85358" h="21600">
                <a:moveTo>
                  <a:pt x="85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958" y="20200"/>
                </a:lnTo>
                <a:close/>
              </a:path>
              <a:path fill="lighten" w="85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именование дохо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2349360"/>
            <a:ext cx="3419640" cy="433440"/>
          </a:xfrm>
          <a:custGeom>
            <a:avLst/>
            <a:gdLst>
              <a:gd name="textAreaLeft" fmla="*/ 28080 w 3419640"/>
              <a:gd name="textAreaRight" fmla="*/ 3391560 w 341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70290" h="21600">
                <a:moveTo>
                  <a:pt x="0" y="0"/>
                </a:moveTo>
                <a:lnTo>
                  <a:pt x="170290" y="0"/>
                </a:lnTo>
                <a:lnTo>
                  <a:pt x="170290" y="21600"/>
                </a:lnTo>
                <a:lnTo>
                  <a:pt x="0" y="21600"/>
                </a:lnTo>
                <a:close/>
              </a:path>
              <a:path fill="lightenLess" w="170290" h="21600">
                <a:moveTo>
                  <a:pt x="0" y="0"/>
                </a:moveTo>
                <a:lnTo>
                  <a:pt x="170290" y="0"/>
                </a:lnTo>
                <a:lnTo>
                  <a:pt x="168891" y="1400"/>
                </a:lnTo>
                <a:lnTo>
                  <a:pt x="1400" y="1400"/>
                </a:lnTo>
                <a:close/>
              </a:path>
              <a:path fill="darken" w="170290" h="21600">
                <a:moveTo>
                  <a:pt x="170290" y="0"/>
                </a:moveTo>
                <a:lnTo>
                  <a:pt x="170290" y="21600"/>
                </a:lnTo>
                <a:lnTo>
                  <a:pt x="168891" y="20200"/>
                </a:lnTo>
                <a:lnTo>
                  <a:pt x="168891" y="1400"/>
                </a:lnTo>
                <a:close/>
              </a:path>
              <a:path fill="darkenLess" w="170290" h="21600">
                <a:moveTo>
                  <a:pt x="170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891" y="20200"/>
                </a:lnTo>
                <a:close/>
              </a:path>
              <a:path fill="lighten" w="170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обственные дох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2781360"/>
            <a:ext cx="3419640" cy="433440"/>
          </a:xfrm>
          <a:custGeom>
            <a:avLst/>
            <a:gdLst>
              <a:gd name="textAreaLeft" fmla="*/ 28080 w 3419640"/>
              <a:gd name="textAreaRight" fmla="*/ 3391560 w 341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70290" h="21600">
                <a:moveTo>
                  <a:pt x="0" y="0"/>
                </a:moveTo>
                <a:lnTo>
                  <a:pt x="170290" y="0"/>
                </a:lnTo>
                <a:lnTo>
                  <a:pt x="170290" y="21600"/>
                </a:lnTo>
                <a:lnTo>
                  <a:pt x="0" y="21600"/>
                </a:lnTo>
                <a:close/>
              </a:path>
              <a:path fill="lightenLess" w="170290" h="21600">
                <a:moveTo>
                  <a:pt x="0" y="0"/>
                </a:moveTo>
                <a:lnTo>
                  <a:pt x="170290" y="0"/>
                </a:lnTo>
                <a:lnTo>
                  <a:pt x="168891" y="1400"/>
                </a:lnTo>
                <a:lnTo>
                  <a:pt x="1400" y="1400"/>
                </a:lnTo>
                <a:close/>
              </a:path>
              <a:path fill="darken" w="170290" h="21600">
                <a:moveTo>
                  <a:pt x="170290" y="0"/>
                </a:moveTo>
                <a:lnTo>
                  <a:pt x="170290" y="21600"/>
                </a:lnTo>
                <a:lnTo>
                  <a:pt x="168891" y="20200"/>
                </a:lnTo>
                <a:lnTo>
                  <a:pt x="168891" y="1400"/>
                </a:lnTo>
                <a:close/>
              </a:path>
              <a:path fill="darkenLess" w="170290" h="21600">
                <a:moveTo>
                  <a:pt x="170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891" y="20200"/>
                </a:lnTo>
                <a:close/>
              </a:path>
              <a:path fill="lighten" w="170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алоговые дох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3213000"/>
            <a:ext cx="3419640" cy="433440"/>
          </a:xfrm>
          <a:custGeom>
            <a:avLst/>
            <a:gdLst>
              <a:gd name="textAreaLeft" fmla="*/ 28080 w 3419640"/>
              <a:gd name="textAreaRight" fmla="*/ 3391560 w 341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70290" h="21600">
                <a:moveTo>
                  <a:pt x="0" y="0"/>
                </a:moveTo>
                <a:lnTo>
                  <a:pt x="170290" y="0"/>
                </a:lnTo>
                <a:lnTo>
                  <a:pt x="170290" y="21600"/>
                </a:lnTo>
                <a:lnTo>
                  <a:pt x="0" y="21600"/>
                </a:lnTo>
                <a:close/>
              </a:path>
              <a:path fill="lightenLess" w="170290" h="21600">
                <a:moveTo>
                  <a:pt x="0" y="0"/>
                </a:moveTo>
                <a:lnTo>
                  <a:pt x="170290" y="0"/>
                </a:lnTo>
                <a:lnTo>
                  <a:pt x="168891" y="1400"/>
                </a:lnTo>
                <a:lnTo>
                  <a:pt x="1400" y="1400"/>
                </a:lnTo>
                <a:close/>
              </a:path>
              <a:path fill="darken" w="170290" h="21600">
                <a:moveTo>
                  <a:pt x="170290" y="0"/>
                </a:moveTo>
                <a:lnTo>
                  <a:pt x="170290" y="21600"/>
                </a:lnTo>
                <a:lnTo>
                  <a:pt x="168891" y="20200"/>
                </a:lnTo>
                <a:lnTo>
                  <a:pt x="168891" y="1400"/>
                </a:lnTo>
                <a:close/>
              </a:path>
              <a:path fill="darkenLess" w="170290" h="21600">
                <a:moveTo>
                  <a:pt x="170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891" y="20200"/>
                </a:lnTo>
                <a:close/>
              </a:path>
              <a:path fill="lighten" w="170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еналоговые дох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3645000"/>
            <a:ext cx="3419640" cy="433440"/>
          </a:xfrm>
          <a:custGeom>
            <a:avLst/>
            <a:gdLst>
              <a:gd name="textAreaLeft" fmla="*/ 28080 w 3419640"/>
              <a:gd name="textAreaRight" fmla="*/ 3391560 w 341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70290" h="21600">
                <a:moveTo>
                  <a:pt x="0" y="0"/>
                </a:moveTo>
                <a:lnTo>
                  <a:pt x="170290" y="0"/>
                </a:lnTo>
                <a:lnTo>
                  <a:pt x="170290" y="21600"/>
                </a:lnTo>
                <a:lnTo>
                  <a:pt x="0" y="21600"/>
                </a:lnTo>
                <a:close/>
              </a:path>
              <a:path fill="lightenLess" w="170290" h="21600">
                <a:moveTo>
                  <a:pt x="0" y="0"/>
                </a:moveTo>
                <a:lnTo>
                  <a:pt x="170290" y="0"/>
                </a:lnTo>
                <a:lnTo>
                  <a:pt x="168891" y="1400"/>
                </a:lnTo>
                <a:lnTo>
                  <a:pt x="1400" y="1400"/>
                </a:lnTo>
                <a:close/>
              </a:path>
              <a:path fill="darken" w="170290" h="21600">
                <a:moveTo>
                  <a:pt x="170290" y="0"/>
                </a:moveTo>
                <a:lnTo>
                  <a:pt x="170290" y="21600"/>
                </a:lnTo>
                <a:lnTo>
                  <a:pt x="168891" y="20200"/>
                </a:lnTo>
                <a:lnTo>
                  <a:pt x="168891" y="1400"/>
                </a:lnTo>
                <a:close/>
              </a:path>
              <a:path fill="darkenLess" w="170290" h="21600">
                <a:moveTo>
                  <a:pt x="170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891" y="20200"/>
                </a:lnTo>
                <a:close/>
              </a:path>
              <a:path fill="lighten" w="170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4076640"/>
            <a:ext cx="3419640" cy="433440"/>
          </a:xfrm>
          <a:custGeom>
            <a:avLst/>
            <a:gdLst>
              <a:gd name="textAreaLeft" fmla="*/ 28080 w 3419640"/>
              <a:gd name="textAreaRight" fmla="*/ 3391560 w 341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70290" h="21600">
                <a:moveTo>
                  <a:pt x="0" y="0"/>
                </a:moveTo>
                <a:lnTo>
                  <a:pt x="170290" y="0"/>
                </a:lnTo>
                <a:lnTo>
                  <a:pt x="170290" y="21600"/>
                </a:lnTo>
                <a:lnTo>
                  <a:pt x="0" y="21600"/>
                </a:lnTo>
                <a:close/>
              </a:path>
              <a:path fill="lightenLess" w="170290" h="21600">
                <a:moveTo>
                  <a:pt x="0" y="0"/>
                </a:moveTo>
                <a:lnTo>
                  <a:pt x="170290" y="0"/>
                </a:lnTo>
                <a:lnTo>
                  <a:pt x="168891" y="1400"/>
                </a:lnTo>
                <a:lnTo>
                  <a:pt x="1400" y="1400"/>
                </a:lnTo>
                <a:close/>
              </a:path>
              <a:path fill="darken" w="170290" h="21600">
                <a:moveTo>
                  <a:pt x="170290" y="0"/>
                </a:moveTo>
                <a:lnTo>
                  <a:pt x="170290" y="21600"/>
                </a:lnTo>
                <a:lnTo>
                  <a:pt x="168891" y="20200"/>
                </a:lnTo>
                <a:lnTo>
                  <a:pt x="168891" y="1400"/>
                </a:lnTo>
                <a:close/>
              </a:path>
              <a:path fill="darkenLess" w="170290" h="21600">
                <a:moveTo>
                  <a:pt x="170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891" y="20200"/>
                </a:lnTo>
                <a:close/>
              </a:path>
              <a:path fill="lighten" w="170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от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4508640"/>
            <a:ext cx="3419640" cy="433080"/>
          </a:xfrm>
          <a:custGeom>
            <a:avLst/>
            <a:gdLst>
              <a:gd name="textAreaLeft" fmla="*/ 28080 w 3419640"/>
              <a:gd name="textAreaRight" fmla="*/ 3391560 w 341964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170432" h="21600">
                <a:moveTo>
                  <a:pt x="0" y="0"/>
                </a:moveTo>
                <a:lnTo>
                  <a:pt x="170432" y="0"/>
                </a:lnTo>
                <a:lnTo>
                  <a:pt x="170432" y="21600"/>
                </a:lnTo>
                <a:lnTo>
                  <a:pt x="0" y="21600"/>
                </a:lnTo>
                <a:close/>
              </a:path>
              <a:path fill="lightenLess" w="170432" h="21600">
                <a:moveTo>
                  <a:pt x="0" y="0"/>
                </a:moveTo>
                <a:lnTo>
                  <a:pt x="170432" y="0"/>
                </a:lnTo>
                <a:lnTo>
                  <a:pt x="169032" y="1400"/>
                </a:lnTo>
                <a:lnTo>
                  <a:pt x="1400" y="1400"/>
                </a:lnTo>
                <a:close/>
              </a:path>
              <a:path fill="darken" w="170432" h="21600">
                <a:moveTo>
                  <a:pt x="170432" y="0"/>
                </a:moveTo>
                <a:lnTo>
                  <a:pt x="170432" y="21600"/>
                </a:lnTo>
                <a:lnTo>
                  <a:pt x="169032" y="20200"/>
                </a:lnTo>
                <a:lnTo>
                  <a:pt x="169032" y="1400"/>
                </a:lnTo>
                <a:close/>
              </a:path>
              <a:path fill="darkenLess" w="170432" h="21600">
                <a:moveTo>
                  <a:pt x="170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9032" y="20200"/>
                </a:lnTo>
                <a:close/>
              </a:path>
              <a:path fill="lighten" w="170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убсид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4941720"/>
            <a:ext cx="3419640" cy="433440"/>
          </a:xfrm>
          <a:custGeom>
            <a:avLst/>
            <a:gdLst>
              <a:gd name="textAreaLeft" fmla="*/ 28080 w 3419640"/>
              <a:gd name="textAreaRight" fmla="*/ 3391560 w 341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70290" h="21600">
                <a:moveTo>
                  <a:pt x="0" y="0"/>
                </a:moveTo>
                <a:lnTo>
                  <a:pt x="170290" y="0"/>
                </a:lnTo>
                <a:lnTo>
                  <a:pt x="170290" y="21600"/>
                </a:lnTo>
                <a:lnTo>
                  <a:pt x="0" y="21600"/>
                </a:lnTo>
                <a:close/>
              </a:path>
              <a:path fill="lightenLess" w="170290" h="21600">
                <a:moveTo>
                  <a:pt x="0" y="0"/>
                </a:moveTo>
                <a:lnTo>
                  <a:pt x="170290" y="0"/>
                </a:lnTo>
                <a:lnTo>
                  <a:pt x="168891" y="1400"/>
                </a:lnTo>
                <a:lnTo>
                  <a:pt x="1400" y="1400"/>
                </a:lnTo>
                <a:close/>
              </a:path>
              <a:path fill="darken" w="170290" h="21600">
                <a:moveTo>
                  <a:pt x="170290" y="0"/>
                </a:moveTo>
                <a:lnTo>
                  <a:pt x="170290" y="21600"/>
                </a:lnTo>
                <a:lnTo>
                  <a:pt x="168891" y="20200"/>
                </a:lnTo>
                <a:lnTo>
                  <a:pt x="168891" y="1400"/>
                </a:lnTo>
                <a:close/>
              </a:path>
              <a:path fill="darkenLess" w="170290" h="21600">
                <a:moveTo>
                  <a:pt x="170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891" y="20200"/>
                </a:lnTo>
                <a:close/>
              </a:path>
              <a:path fill="lighten" w="170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убвен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5373720"/>
            <a:ext cx="3419640" cy="433440"/>
          </a:xfrm>
          <a:custGeom>
            <a:avLst/>
            <a:gdLst>
              <a:gd name="textAreaLeft" fmla="*/ 28080 w 3419640"/>
              <a:gd name="textAreaRight" fmla="*/ 3391560 w 341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70290" h="21600">
                <a:moveTo>
                  <a:pt x="0" y="0"/>
                </a:moveTo>
                <a:lnTo>
                  <a:pt x="170290" y="0"/>
                </a:lnTo>
                <a:lnTo>
                  <a:pt x="170290" y="21600"/>
                </a:lnTo>
                <a:lnTo>
                  <a:pt x="0" y="21600"/>
                </a:lnTo>
                <a:close/>
              </a:path>
              <a:path fill="lightenLess" w="170290" h="21600">
                <a:moveTo>
                  <a:pt x="0" y="0"/>
                </a:moveTo>
                <a:lnTo>
                  <a:pt x="170290" y="0"/>
                </a:lnTo>
                <a:lnTo>
                  <a:pt x="168891" y="1400"/>
                </a:lnTo>
                <a:lnTo>
                  <a:pt x="1400" y="1400"/>
                </a:lnTo>
                <a:close/>
              </a:path>
              <a:path fill="darken" w="170290" h="21600">
                <a:moveTo>
                  <a:pt x="170290" y="0"/>
                </a:moveTo>
                <a:lnTo>
                  <a:pt x="170290" y="21600"/>
                </a:lnTo>
                <a:lnTo>
                  <a:pt x="168891" y="20200"/>
                </a:lnTo>
                <a:lnTo>
                  <a:pt x="168891" y="1400"/>
                </a:lnTo>
                <a:close/>
              </a:path>
              <a:path fill="darkenLess" w="170290" h="21600">
                <a:moveTo>
                  <a:pt x="170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891" y="20200"/>
                </a:lnTo>
                <a:close/>
              </a:path>
              <a:path fill="lighten" w="170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Иные межбюджетные трансфер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5805360"/>
            <a:ext cx="3419640" cy="1052640"/>
          </a:xfrm>
          <a:custGeom>
            <a:avLst/>
            <a:gdLst>
              <a:gd name="textAreaLeft" fmla="*/ 68040 w 3419640"/>
              <a:gd name="textAreaRight" fmla="*/ 3351600 w 341964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70154" h="21600">
                <a:moveTo>
                  <a:pt x="0" y="0"/>
                </a:moveTo>
                <a:lnTo>
                  <a:pt x="70154" y="0"/>
                </a:lnTo>
                <a:lnTo>
                  <a:pt x="70154" y="21600"/>
                </a:lnTo>
                <a:lnTo>
                  <a:pt x="0" y="21600"/>
                </a:lnTo>
                <a:close/>
              </a:path>
              <a:path fill="lightenLess" w="70154" h="21600">
                <a:moveTo>
                  <a:pt x="0" y="0"/>
                </a:moveTo>
                <a:lnTo>
                  <a:pt x="70154" y="0"/>
                </a:lnTo>
                <a:lnTo>
                  <a:pt x="68754" y="1400"/>
                </a:lnTo>
                <a:lnTo>
                  <a:pt x="1400" y="1400"/>
                </a:lnTo>
                <a:close/>
              </a:path>
              <a:path fill="darken" w="70154" h="21600">
                <a:moveTo>
                  <a:pt x="70154" y="0"/>
                </a:moveTo>
                <a:lnTo>
                  <a:pt x="70154" y="21600"/>
                </a:lnTo>
                <a:lnTo>
                  <a:pt x="68754" y="20200"/>
                </a:lnTo>
                <a:lnTo>
                  <a:pt x="68754" y="1400"/>
                </a:lnTo>
                <a:close/>
              </a:path>
              <a:path fill="darkenLess" w="70154" h="21600">
                <a:moveTo>
                  <a:pt x="70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54" y="20200"/>
                </a:lnTo>
                <a:close/>
              </a:path>
              <a:path fill="lighten" w="70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т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419640" y="1484280"/>
            <a:ext cx="1439640" cy="865080"/>
          </a:xfrm>
          <a:custGeom>
            <a:avLst/>
            <a:gdLst>
              <a:gd name="textAreaLeft" fmla="*/ 55800 w 1439640"/>
              <a:gd name="textAreaRight" fmla="*/ 1383840 w 143964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35940" h="21600">
                <a:moveTo>
                  <a:pt x="0" y="0"/>
                </a:moveTo>
                <a:lnTo>
                  <a:pt x="35940" y="0"/>
                </a:lnTo>
                <a:lnTo>
                  <a:pt x="35940" y="21600"/>
                </a:lnTo>
                <a:lnTo>
                  <a:pt x="0" y="21600"/>
                </a:lnTo>
                <a:close/>
              </a:path>
              <a:path fill="lightenLess" w="35940" h="21600">
                <a:moveTo>
                  <a:pt x="0" y="0"/>
                </a:moveTo>
                <a:lnTo>
                  <a:pt x="35940" y="0"/>
                </a:lnTo>
                <a:lnTo>
                  <a:pt x="34540" y="1400"/>
                </a:lnTo>
                <a:lnTo>
                  <a:pt x="1400" y="1400"/>
                </a:lnTo>
                <a:close/>
              </a:path>
              <a:path fill="darken" w="35940" h="21600">
                <a:moveTo>
                  <a:pt x="35940" y="0"/>
                </a:moveTo>
                <a:lnTo>
                  <a:pt x="35940" y="21600"/>
                </a:lnTo>
                <a:lnTo>
                  <a:pt x="34540" y="20200"/>
                </a:lnTo>
                <a:lnTo>
                  <a:pt x="34540" y="1400"/>
                </a:lnTo>
                <a:close/>
              </a:path>
              <a:path fill="darkenLess" w="35940" h="21600">
                <a:moveTo>
                  <a:pt x="359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40" y="20200"/>
                </a:lnTo>
                <a:close/>
              </a:path>
              <a:path fill="lighten" w="359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лан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0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год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300720" y="1484280"/>
            <a:ext cx="1438200" cy="865080"/>
          </a:xfrm>
          <a:custGeom>
            <a:avLst/>
            <a:gdLst>
              <a:gd name="textAreaLeft" fmla="*/ 55800 w 1438200"/>
              <a:gd name="textAreaRight" fmla="*/ 1382400 w 143820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35904" h="21600">
                <a:moveTo>
                  <a:pt x="0" y="0"/>
                </a:moveTo>
                <a:lnTo>
                  <a:pt x="35904" y="0"/>
                </a:lnTo>
                <a:lnTo>
                  <a:pt x="35904" y="21600"/>
                </a:lnTo>
                <a:lnTo>
                  <a:pt x="0" y="21600"/>
                </a:lnTo>
                <a:close/>
              </a:path>
              <a:path fill="lightenLess" w="35904" h="21600">
                <a:moveTo>
                  <a:pt x="0" y="0"/>
                </a:moveTo>
                <a:lnTo>
                  <a:pt x="35904" y="0"/>
                </a:lnTo>
                <a:lnTo>
                  <a:pt x="34504" y="1400"/>
                </a:lnTo>
                <a:lnTo>
                  <a:pt x="1400" y="1400"/>
                </a:lnTo>
                <a:close/>
              </a:path>
              <a:path fill="darken" w="35904" h="21600">
                <a:moveTo>
                  <a:pt x="35904" y="0"/>
                </a:moveTo>
                <a:lnTo>
                  <a:pt x="35904" y="21600"/>
                </a:lnTo>
                <a:lnTo>
                  <a:pt x="34504" y="20200"/>
                </a:lnTo>
                <a:lnTo>
                  <a:pt x="34504" y="1400"/>
                </a:lnTo>
                <a:close/>
              </a:path>
              <a:path fill="darkenLess" w="35904" h="21600">
                <a:moveTo>
                  <a:pt x="359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4" y="20200"/>
                </a:lnTo>
                <a:close/>
              </a:path>
              <a:path fill="lighten" w="359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лан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017 год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740720" y="1484280"/>
            <a:ext cx="1403280" cy="865080"/>
          </a:xfrm>
          <a:custGeom>
            <a:avLst/>
            <a:gdLst>
              <a:gd name="textAreaLeft" fmla="*/ 55800 w 1403280"/>
              <a:gd name="textAreaRight" fmla="*/ 1347480 w 140328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35033" h="21600">
                <a:moveTo>
                  <a:pt x="0" y="0"/>
                </a:moveTo>
                <a:lnTo>
                  <a:pt x="35033" y="0"/>
                </a:lnTo>
                <a:lnTo>
                  <a:pt x="35033" y="21600"/>
                </a:lnTo>
                <a:lnTo>
                  <a:pt x="0" y="21600"/>
                </a:lnTo>
                <a:close/>
              </a:path>
              <a:path fill="lightenLess" w="35033" h="21600">
                <a:moveTo>
                  <a:pt x="0" y="0"/>
                </a:moveTo>
                <a:lnTo>
                  <a:pt x="35033" y="0"/>
                </a:lnTo>
                <a:lnTo>
                  <a:pt x="33633" y="1400"/>
                </a:lnTo>
                <a:lnTo>
                  <a:pt x="1400" y="1400"/>
                </a:lnTo>
                <a:close/>
              </a:path>
              <a:path fill="darken" w="35033" h="21600">
                <a:moveTo>
                  <a:pt x="35033" y="0"/>
                </a:moveTo>
                <a:lnTo>
                  <a:pt x="35033" y="21600"/>
                </a:lnTo>
                <a:lnTo>
                  <a:pt x="33633" y="20200"/>
                </a:lnTo>
                <a:lnTo>
                  <a:pt x="33633" y="1400"/>
                </a:lnTo>
                <a:close/>
              </a:path>
              <a:path fill="darkenLess" w="35033" h="21600">
                <a:moveTo>
                  <a:pt x="35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33" y="20200"/>
                </a:lnTo>
                <a:close/>
              </a:path>
              <a:path fill="lighten" w="35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лан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018 год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859280" y="1484280"/>
            <a:ext cx="1440000" cy="865080"/>
          </a:xfrm>
          <a:custGeom>
            <a:avLst/>
            <a:gdLst>
              <a:gd name="textAreaLeft" fmla="*/ 55800 w 1440000"/>
              <a:gd name="textAreaRight" fmla="*/ 1384200 w 144000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35949" h="21600">
                <a:moveTo>
                  <a:pt x="0" y="0"/>
                </a:moveTo>
                <a:lnTo>
                  <a:pt x="35949" y="0"/>
                </a:lnTo>
                <a:lnTo>
                  <a:pt x="35949" y="21600"/>
                </a:lnTo>
                <a:lnTo>
                  <a:pt x="0" y="21600"/>
                </a:lnTo>
                <a:close/>
              </a:path>
              <a:path fill="lightenLess" w="35949" h="21600">
                <a:moveTo>
                  <a:pt x="0" y="0"/>
                </a:moveTo>
                <a:lnTo>
                  <a:pt x="35949" y="0"/>
                </a:lnTo>
                <a:lnTo>
                  <a:pt x="34549" y="1400"/>
                </a:lnTo>
                <a:lnTo>
                  <a:pt x="1400" y="1400"/>
                </a:lnTo>
                <a:close/>
              </a:path>
              <a:path fill="darken" w="35949" h="21600">
                <a:moveTo>
                  <a:pt x="35949" y="0"/>
                </a:moveTo>
                <a:lnTo>
                  <a:pt x="35949" y="21600"/>
                </a:lnTo>
                <a:lnTo>
                  <a:pt x="34549" y="20200"/>
                </a:lnTo>
                <a:lnTo>
                  <a:pt x="34549" y="1400"/>
                </a:lnTo>
                <a:close/>
              </a:path>
              <a:path fill="darkenLess" w="35949" h="21600">
                <a:moveTo>
                  <a:pt x="35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49" y="20200"/>
                </a:lnTo>
                <a:close/>
              </a:path>
              <a:path fill="lighten" w="35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дель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ес, (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19640" y="2349360"/>
            <a:ext cx="1439640" cy="433440"/>
          </a:xfrm>
          <a:custGeom>
            <a:avLst/>
            <a:gdLst>
              <a:gd name="textAreaLeft" fmla="*/ 28080 w 1439640"/>
              <a:gd name="textAreaRight" fmla="*/ 1411560 w 143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01" h="21600">
                <a:moveTo>
                  <a:pt x="0" y="0"/>
                </a:moveTo>
                <a:lnTo>
                  <a:pt x="71701" y="0"/>
                </a:lnTo>
                <a:lnTo>
                  <a:pt x="71701" y="21600"/>
                </a:lnTo>
                <a:lnTo>
                  <a:pt x="0" y="21600"/>
                </a:lnTo>
                <a:close/>
              </a:path>
              <a:path fill="lightenLess" w="71701" h="21600">
                <a:moveTo>
                  <a:pt x="0" y="0"/>
                </a:moveTo>
                <a:lnTo>
                  <a:pt x="71701" y="0"/>
                </a:lnTo>
                <a:lnTo>
                  <a:pt x="70301" y="1400"/>
                </a:lnTo>
                <a:lnTo>
                  <a:pt x="1400" y="1400"/>
                </a:lnTo>
                <a:close/>
              </a:path>
              <a:path fill="darken" w="71701" h="21600">
                <a:moveTo>
                  <a:pt x="71701" y="0"/>
                </a:moveTo>
                <a:lnTo>
                  <a:pt x="71701" y="21600"/>
                </a:lnTo>
                <a:lnTo>
                  <a:pt x="70301" y="20200"/>
                </a:lnTo>
                <a:lnTo>
                  <a:pt x="70301" y="1400"/>
                </a:lnTo>
                <a:close/>
              </a:path>
              <a:path fill="darkenLess" w="71701" h="21600">
                <a:moveTo>
                  <a:pt x="71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01" y="20200"/>
                </a:lnTo>
                <a:close/>
              </a:path>
              <a:path fill="lighten" w="71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8 07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419640" y="2781360"/>
            <a:ext cx="1439640" cy="433440"/>
          </a:xfrm>
          <a:custGeom>
            <a:avLst/>
            <a:gdLst>
              <a:gd name="textAreaLeft" fmla="*/ 28080 w 1439640"/>
              <a:gd name="textAreaRight" fmla="*/ 1411560 w 143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01" h="21600">
                <a:moveTo>
                  <a:pt x="0" y="0"/>
                </a:moveTo>
                <a:lnTo>
                  <a:pt x="71701" y="0"/>
                </a:lnTo>
                <a:lnTo>
                  <a:pt x="71701" y="21600"/>
                </a:lnTo>
                <a:lnTo>
                  <a:pt x="0" y="21600"/>
                </a:lnTo>
                <a:close/>
              </a:path>
              <a:path fill="lightenLess" w="71701" h="21600">
                <a:moveTo>
                  <a:pt x="0" y="0"/>
                </a:moveTo>
                <a:lnTo>
                  <a:pt x="71701" y="0"/>
                </a:lnTo>
                <a:lnTo>
                  <a:pt x="70301" y="1400"/>
                </a:lnTo>
                <a:lnTo>
                  <a:pt x="1400" y="1400"/>
                </a:lnTo>
                <a:close/>
              </a:path>
              <a:path fill="darken" w="71701" h="21600">
                <a:moveTo>
                  <a:pt x="71701" y="0"/>
                </a:moveTo>
                <a:lnTo>
                  <a:pt x="71701" y="21600"/>
                </a:lnTo>
                <a:lnTo>
                  <a:pt x="70301" y="20200"/>
                </a:lnTo>
                <a:lnTo>
                  <a:pt x="70301" y="1400"/>
                </a:lnTo>
                <a:close/>
              </a:path>
              <a:path fill="darkenLess" w="71701" h="21600">
                <a:moveTo>
                  <a:pt x="71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01" y="20200"/>
                </a:lnTo>
                <a:close/>
              </a:path>
              <a:path fill="lighten" w="71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0 96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419640" y="3645000"/>
            <a:ext cx="1439640" cy="433440"/>
          </a:xfrm>
          <a:custGeom>
            <a:avLst/>
            <a:gdLst>
              <a:gd name="textAreaLeft" fmla="*/ 28080 w 1439640"/>
              <a:gd name="textAreaRight" fmla="*/ 1411560 w 143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01" h="21600">
                <a:moveTo>
                  <a:pt x="0" y="0"/>
                </a:moveTo>
                <a:lnTo>
                  <a:pt x="71701" y="0"/>
                </a:lnTo>
                <a:lnTo>
                  <a:pt x="71701" y="21600"/>
                </a:lnTo>
                <a:lnTo>
                  <a:pt x="0" y="21600"/>
                </a:lnTo>
                <a:close/>
              </a:path>
              <a:path fill="lightenLess" w="71701" h="21600">
                <a:moveTo>
                  <a:pt x="0" y="0"/>
                </a:moveTo>
                <a:lnTo>
                  <a:pt x="71701" y="0"/>
                </a:lnTo>
                <a:lnTo>
                  <a:pt x="70301" y="1400"/>
                </a:lnTo>
                <a:lnTo>
                  <a:pt x="1400" y="1400"/>
                </a:lnTo>
                <a:close/>
              </a:path>
              <a:path fill="darken" w="71701" h="21600">
                <a:moveTo>
                  <a:pt x="71701" y="0"/>
                </a:moveTo>
                <a:lnTo>
                  <a:pt x="71701" y="21600"/>
                </a:lnTo>
                <a:lnTo>
                  <a:pt x="70301" y="20200"/>
                </a:lnTo>
                <a:lnTo>
                  <a:pt x="70301" y="1400"/>
                </a:lnTo>
                <a:close/>
              </a:path>
              <a:path fill="darkenLess" w="71701" h="21600">
                <a:moveTo>
                  <a:pt x="71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01" y="20200"/>
                </a:lnTo>
                <a:close/>
              </a:path>
              <a:path fill="lighten" w="71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68 93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419640" y="4076640"/>
            <a:ext cx="1439640" cy="433440"/>
          </a:xfrm>
          <a:custGeom>
            <a:avLst/>
            <a:gdLst>
              <a:gd name="textAreaLeft" fmla="*/ 28080 w 1439640"/>
              <a:gd name="textAreaRight" fmla="*/ 1411560 w 143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01" h="21600">
                <a:moveTo>
                  <a:pt x="0" y="0"/>
                </a:moveTo>
                <a:lnTo>
                  <a:pt x="71701" y="0"/>
                </a:lnTo>
                <a:lnTo>
                  <a:pt x="71701" y="21600"/>
                </a:lnTo>
                <a:lnTo>
                  <a:pt x="0" y="21600"/>
                </a:lnTo>
                <a:close/>
              </a:path>
              <a:path fill="lightenLess" w="71701" h="21600">
                <a:moveTo>
                  <a:pt x="0" y="0"/>
                </a:moveTo>
                <a:lnTo>
                  <a:pt x="71701" y="0"/>
                </a:lnTo>
                <a:lnTo>
                  <a:pt x="70301" y="1400"/>
                </a:lnTo>
                <a:lnTo>
                  <a:pt x="1400" y="1400"/>
                </a:lnTo>
                <a:close/>
              </a:path>
              <a:path fill="darken" w="71701" h="21600">
                <a:moveTo>
                  <a:pt x="71701" y="0"/>
                </a:moveTo>
                <a:lnTo>
                  <a:pt x="71701" y="21600"/>
                </a:lnTo>
                <a:lnTo>
                  <a:pt x="70301" y="20200"/>
                </a:lnTo>
                <a:lnTo>
                  <a:pt x="70301" y="1400"/>
                </a:lnTo>
                <a:close/>
              </a:path>
              <a:path fill="darkenLess" w="71701" h="21600">
                <a:moveTo>
                  <a:pt x="71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01" y="20200"/>
                </a:lnTo>
                <a:close/>
              </a:path>
              <a:path fill="lighten" w="71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5 1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419640" y="4508640"/>
            <a:ext cx="1439640" cy="433080"/>
          </a:xfrm>
          <a:custGeom>
            <a:avLst/>
            <a:gdLst>
              <a:gd name="textAreaLeft" fmla="*/ 28080 w 1439640"/>
              <a:gd name="textAreaRight" fmla="*/ 1411560 w 143964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71761" h="21600">
                <a:moveTo>
                  <a:pt x="0" y="0"/>
                </a:moveTo>
                <a:lnTo>
                  <a:pt x="71761" y="0"/>
                </a:lnTo>
                <a:lnTo>
                  <a:pt x="71761" y="21600"/>
                </a:lnTo>
                <a:lnTo>
                  <a:pt x="0" y="21600"/>
                </a:lnTo>
                <a:close/>
              </a:path>
              <a:path fill="lightenLess" w="71761" h="21600">
                <a:moveTo>
                  <a:pt x="0" y="0"/>
                </a:moveTo>
                <a:lnTo>
                  <a:pt x="71761" y="0"/>
                </a:lnTo>
                <a:lnTo>
                  <a:pt x="70361" y="1400"/>
                </a:lnTo>
                <a:lnTo>
                  <a:pt x="1400" y="1400"/>
                </a:lnTo>
                <a:close/>
              </a:path>
              <a:path fill="darken" w="71761" h="21600">
                <a:moveTo>
                  <a:pt x="71761" y="0"/>
                </a:moveTo>
                <a:lnTo>
                  <a:pt x="71761" y="21600"/>
                </a:lnTo>
                <a:lnTo>
                  <a:pt x="70361" y="20200"/>
                </a:lnTo>
                <a:lnTo>
                  <a:pt x="70361" y="1400"/>
                </a:lnTo>
                <a:close/>
              </a:path>
              <a:path fill="darkenLess" w="71761" h="21600">
                <a:moveTo>
                  <a:pt x="71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61" y="20200"/>
                </a:lnTo>
                <a:close/>
              </a:path>
              <a:path fill="lighten" w="71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5 7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419640" y="4941720"/>
            <a:ext cx="1439640" cy="433440"/>
          </a:xfrm>
          <a:custGeom>
            <a:avLst/>
            <a:gdLst>
              <a:gd name="textAreaLeft" fmla="*/ 28080 w 1439640"/>
              <a:gd name="textAreaRight" fmla="*/ 1411560 w 143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01" h="21600">
                <a:moveTo>
                  <a:pt x="0" y="0"/>
                </a:moveTo>
                <a:lnTo>
                  <a:pt x="71701" y="0"/>
                </a:lnTo>
                <a:lnTo>
                  <a:pt x="71701" y="21600"/>
                </a:lnTo>
                <a:lnTo>
                  <a:pt x="0" y="21600"/>
                </a:lnTo>
                <a:close/>
              </a:path>
              <a:path fill="lightenLess" w="71701" h="21600">
                <a:moveTo>
                  <a:pt x="0" y="0"/>
                </a:moveTo>
                <a:lnTo>
                  <a:pt x="71701" y="0"/>
                </a:lnTo>
                <a:lnTo>
                  <a:pt x="70301" y="1400"/>
                </a:lnTo>
                <a:lnTo>
                  <a:pt x="1400" y="1400"/>
                </a:lnTo>
                <a:close/>
              </a:path>
              <a:path fill="darken" w="71701" h="21600">
                <a:moveTo>
                  <a:pt x="71701" y="0"/>
                </a:moveTo>
                <a:lnTo>
                  <a:pt x="71701" y="21600"/>
                </a:lnTo>
                <a:lnTo>
                  <a:pt x="70301" y="20200"/>
                </a:lnTo>
                <a:lnTo>
                  <a:pt x="70301" y="1400"/>
                </a:lnTo>
                <a:close/>
              </a:path>
              <a:path fill="darkenLess" w="71701" h="21600">
                <a:moveTo>
                  <a:pt x="71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01" y="20200"/>
                </a:lnTo>
                <a:close/>
              </a:path>
              <a:path fill="lighten" w="71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0 7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419640" y="3213000"/>
            <a:ext cx="1439640" cy="433440"/>
          </a:xfrm>
          <a:custGeom>
            <a:avLst/>
            <a:gdLst>
              <a:gd name="textAreaLeft" fmla="*/ 28080 w 1439640"/>
              <a:gd name="textAreaRight" fmla="*/ 1411560 w 143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01" h="21600">
                <a:moveTo>
                  <a:pt x="0" y="0"/>
                </a:moveTo>
                <a:lnTo>
                  <a:pt x="71701" y="0"/>
                </a:lnTo>
                <a:lnTo>
                  <a:pt x="71701" y="21600"/>
                </a:lnTo>
                <a:lnTo>
                  <a:pt x="0" y="21600"/>
                </a:lnTo>
                <a:close/>
              </a:path>
              <a:path fill="lightenLess" w="71701" h="21600">
                <a:moveTo>
                  <a:pt x="0" y="0"/>
                </a:moveTo>
                <a:lnTo>
                  <a:pt x="71701" y="0"/>
                </a:lnTo>
                <a:lnTo>
                  <a:pt x="70301" y="1400"/>
                </a:lnTo>
                <a:lnTo>
                  <a:pt x="1400" y="1400"/>
                </a:lnTo>
                <a:close/>
              </a:path>
              <a:path fill="darken" w="71701" h="21600">
                <a:moveTo>
                  <a:pt x="71701" y="0"/>
                </a:moveTo>
                <a:lnTo>
                  <a:pt x="71701" y="21600"/>
                </a:lnTo>
                <a:lnTo>
                  <a:pt x="70301" y="20200"/>
                </a:lnTo>
                <a:lnTo>
                  <a:pt x="70301" y="1400"/>
                </a:lnTo>
                <a:close/>
              </a:path>
              <a:path fill="darkenLess" w="71701" h="21600">
                <a:moveTo>
                  <a:pt x="71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01" y="20200"/>
                </a:lnTo>
                <a:close/>
              </a:path>
              <a:path fill="lighten" w="71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 1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19640" y="5373720"/>
            <a:ext cx="1439640" cy="433440"/>
          </a:xfrm>
          <a:custGeom>
            <a:avLst/>
            <a:gdLst>
              <a:gd name="textAreaLeft" fmla="*/ 28080 w 1439640"/>
              <a:gd name="textAreaRight" fmla="*/ 1411560 w 143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01" h="21600">
                <a:moveTo>
                  <a:pt x="0" y="0"/>
                </a:moveTo>
                <a:lnTo>
                  <a:pt x="71701" y="0"/>
                </a:lnTo>
                <a:lnTo>
                  <a:pt x="71701" y="21600"/>
                </a:lnTo>
                <a:lnTo>
                  <a:pt x="0" y="21600"/>
                </a:lnTo>
                <a:close/>
              </a:path>
              <a:path fill="lightenLess" w="71701" h="21600">
                <a:moveTo>
                  <a:pt x="0" y="0"/>
                </a:moveTo>
                <a:lnTo>
                  <a:pt x="71701" y="0"/>
                </a:lnTo>
                <a:lnTo>
                  <a:pt x="70301" y="1400"/>
                </a:lnTo>
                <a:lnTo>
                  <a:pt x="1400" y="1400"/>
                </a:lnTo>
                <a:close/>
              </a:path>
              <a:path fill="darken" w="71701" h="21600">
                <a:moveTo>
                  <a:pt x="71701" y="0"/>
                </a:moveTo>
                <a:lnTo>
                  <a:pt x="71701" y="21600"/>
                </a:lnTo>
                <a:lnTo>
                  <a:pt x="70301" y="20200"/>
                </a:lnTo>
                <a:lnTo>
                  <a:pt x="70301" y="1400"/>
                </a:lnTo>
                <a:close/>
              </a:path>
              <a:path fill="darkenLess" w="71701" h="21600">
                <a:moveTo>
                  <a:pt x="71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01" y="20200"/>
                </a:lnTo>
                <a:close/>
              </a:path>
              <a:path fill="lighten" w="71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 3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419640" y="5805360"/>
            <a:ext cx="1439640" cy="1052640"/>
          </a:xfrm>
          <a:custGeom>
            <a:avLst/>
            <a:gdLst>
              <a:gd name="textAreaLeft" fmla="*/ 68040 w 1439640"/>
              <a:gd name="textAreaRight" fmla="*/ 1371600 w 143964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29538" h="21600">
                <a:moveTo>
                  <a:pt x="0" y="0"/>
                </a:moveTo>
                <a:lnTo>
                  <a:pt x="29538" y="0"/>
                </a:lnTo>
                <a:lnTo>
                  <a:pt x="29538" y="21600"/>
                </a:lnTo>
                <a:lnTo>
                  <a:pt x="0" y="21600"/>
                </a:lnTo>
                <a:close/>
              </a:path>
              <a:path fill="lightenLess" w="29538" h="21600">
                <a:moveTo>
                  <a:pt x="0" y="0"/>
                </a:moveTo>
                <a:lnTo>
                  <a:pt x="29538" y="0"/>
                </a:lnTo>
                <a:lnTo>
                  <a:pt x="28139" y="1400"/>
                </a:lnTo>
                <a:lnTo>
                  <a:pt x="1400" y="1400"/>
                </a:lnTo>
                <a:close/>
              </a:path>
              <a:path fill="darken" w="29538" h="21600">
                <a:moveTo>
                  <a:pt x="29538" y="0"/>
                </a:moveTo>
                <a:lnTo>
                  <a:pt x="29538" y="21600"/>
                </a:lnTo>
                <a:lnTo>
                  <a:pt x="28139" y="20200"/>
                </a:lnTo>
                <a:lnTo>
                  <a:pt x="28139" y="1400"/>
                </a:lnTo>
                <a:close/>
              </a:path>
              <a:path fill="darkenLess" w="29538" h="21600">
                <a:moveTo>
                  <a:pt x="29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39" y="20200"/>
                </a:lnTo>
                <a:close/>
              </a:path>
              <a:path fill="lighten" w="29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47 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859280" y="234936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59280" y="278136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,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859280" y="321300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,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859280" y="364500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2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859280" y="407664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,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859280" y="4508640"/>
            <a:ext cx="1440000" cy="43308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71779" h="21600">
                <a:moveTo>
                  <a:pt x="0" y="0"/>
                </a:moveTo>
                <a:lnTo>
                  <a:pt x="71779" y="0"/>
                </a:lnTo>
                <a:lnTo>
                  <a:pt x="71779" y="21600"/>
                </a:lnTo>
                <a:lnTo>
                  <a:pt x="0" y="21600"/>
                </a:lnTo>
                <a:close/>
              </a:path>
              <a:path fill="lightenLess" w="71779" h="21600">
                <a:moveTo>
                  <a:pt x="0" y="0"/>
                </a:moveTo>
                <a:lnTo>
                  <a:pt x="71779" y="0"/>
                </a:lnTo>
                <a:lnTo>
                  <a:pt x="70379" y="1400"/>
                </a:lnTo>
                <a:lnTo>
                  <a:pt x="1400" y="1400"/>
                </a:lnTo>
                <a:close/>
              </a:path>
              <a:path fill="darken" w="71779" h="21600">
                <a:moveTo>
                  <a:pt x="71779" y="0"/>
                </a:moveTo>
                <a:lnTo>
                  <a:pt x="71779" y="21600"/>
                </a:lnTo>
                <a:lnTo>
                  <a:pt x="70379" y="20200"/>
                </a:lnTo>
                <a:lnTo>
                  <a:pt x="70379" y="1400"/>
                </a:lnTo>
                <a:close/>
              </a:path>
              <a:path fill="darkenLess" w="71779" h="21600">
                <a:moveTo>
                  <a:pt x="7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79" y="20200"/>
                </a:lnTo>
                <a:close/>
              </a:path>
              <a:path fill="lighten" w="7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859280" y="494172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6,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59280" y="537372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,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859280" y="5805360"/>
            <a:ext cx="1440000" cy="1052640"/>
          </a:xfrm>
          <a:custGeom>
            <a:avLst/>
            <a:gdLst>
              <a:gd name="textAreaLeft" fmla="*/ 68040 w 1440000"/>
              <a:gd name="textAreaRight" fmla="*/ 1371960 w 1440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29546" h="21600">
                <a:moveTo>
                  <a:pt x="0" y="0"/>
                </a:moveTo>
                <a:lnTo>
                  <a:pt x="29546" y="0"/>
                </a:lnTo>
                <a:lnTo>
                  <a:pt x="29546" y="21600"/>
                </a:lnTo>
                <a:lnTo>
                  <a:pt x="0" y="21600"/>
                </a:lnTo>
                <a:close/>
              </a:path>
              <a:path fill="lightenLess" w="29546" h="21600">
                <a:moveTo>
                  <a:pt x="0" y="0"/>
                </a:moveTo>
                <a:lnTo>
                  <a:pt x="29546" y="0"/>
                </a:lnTo>
                <a:lnTo>
                  <a:pt x="28146" y="1400"/>
                </a:lnTo>
                <a:lnTo>
                  <a:pt x="1400" y="1400"/>
                </a:lnTo>
                <a:close/>
              </a:path>
              <a:path fill="darken" w="29546" h="21600">
                <a:moveTo>
                  <a:pt x="29546" y="0"/>
                </a:moveTo>
                <a:lnTo>
                  <a:pt x="29546" y="21600"/>
                </a:lnTo>
                <a:lnTo>
                  <a:pt x="28146" y="20200"/>
                </a:lnTo>
                <a:lnTo>
                  <a:pt x="28146" y="1400"/>
                </a:lnTo>
                <a:close/>
              </a:path>
              <a:path fill="darkenLess" w="29546" h="21600">
                <a:moveTo>
                  <a:pt x="29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46" y="20200"/>
                </a:lnTo>
                <a:close/>
              </a:path>
              <a:path fill="lighten" w="29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,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300720" y="234936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3 3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300720" y="278136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6 03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300720" y="321300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 27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300720" y="364500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14 86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00720" y="407664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8 88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4508640"/>
            <a:ext cx="1440000" cy="43308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71779" h="21600">
                <a:moveTo>
                  <a:pt x="0" y="0"/>
                </a:moveTo>
                <a:lnTo>
                  <a:pt x="71779" y="0"/>
                </a:lnTo>
                <a:lnTo>
                  <a:pt x="71779" y="21600"/>
                </a:lnTo>
                <a:lnTo>
                  <a:pt x="0" y="21600"/>
                </a:lnTo>
                <a:close/>
              </a:path>
              <a:path fill="lightenLess" w="71779" h="21600">
                <a:moveTo>
                  <a:pt x="0" y="0"/>
                </a:moveTo>
                <a:lnTo>
                  <a:pt x="71779" y="0"/>
                </a:lnTo>
                <a:lnTo>
                  <a:pt x="70379" y="1400"/>
                </a:lnTo>
                <a:lnTo>
                  <a:pt x="1400" y="1400"/>
                </a:lnTo>
                <a:close/>
              </a:path>
              <a:path fill="darken" w="71779" h="21600">
                <a:moveTo>
                  <a:pt x="71779" y="0"/>
                </a:moveTo>
                <a:lnTo>
                  <a:pt x="71779" y="21600"/>
                </a:lnTo>
                <a:lnTo>
                  <a:pt x="70379" y="20200"/>
                </a:lnTo>
                <a:lnTo>
                  <a:pt x="70379" y="1400"/>
                </a:lnTo>
                <a:close/>
              </a:path>
              <a:path fill="darkenLess" w="71779" h="21600">
                <a:moveTo>
                  <a:pt x="7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79" y="20200"/>
                </a:lnTo>
                <a:close/>
              </a:path>
              <a:path fill="lighten" w="7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 95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300720" y="494172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7 6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300720" y="537372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 3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300720" y="5805360"/>
            <a:ext cx="1440000" cy="1052640"/>
          </a:xfrm>
          <a:custGeom>
            <a:avLst/>
            <a:gdLst>
              <a:gd name="textAreaLeft" fmla="*/ 68040 w 1440000"/>
              <a:gd name="textAreaRight" fmla="*/ 1371960 w 1440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29546" h="21600">
                <a:moveTo>
                  <a:pt x="0" y="0"/>
                </a:moveTo>
                <a:lnTo>
                  <a:pt x="29546" y="0"/>
                </a:lnTo>
                <a:lnTo>
                  <a:pt x="29546" y="21600"/>
                </a:lnTo>
                <a:lnTo>
                  <a:pt x="0" y="21600"/>
                </a:lnTo>
                <a:close/>
              </a:path>
              <a:path fill="lightenLess" w="29546" h="21600">
                <a:moveTo>
                  <a:pt x="0" y="0"/>
                </a:moveTo>
                <a:lnTo>
                  <a:pt x="29546" y="0"/>
                </a:lnTo>
                <a:lnTo>
                  <a:pt x="28146" y="1400"/>
                </a:lnTo>
                <a:lnTo>
                  <a:pt x="1400" y="1400"/>
                </a:lnTo>
                <a:close/>
              </a:path>
              <a:path fill="darken" w="29546" h="21600">
                <a:moveTo>
                  <a:pt x="29546" y="0"/>
                </a:moveTo>
                <a:lnTo>
                  <a:pt x="29546" y="21600"/>
                </a:lnTo>
                <a:lnTo>
                  <a:pt x="28146" y="20200"/>
                </a:lnTo>
                <a:lnTo>
                  <a:pt x="28146" y="1400"/>
                </a:lnTo>
                <a:close/>
              </a:path>
              <a:path fill="darkenLess" w="29546" h="21600">
                <a:moveTo>
                  <a:pt x="29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146" y="20200"/>
                </a:lnTo>
                <a:close/>
              </a:path>
              <a:path fill="lighten" w="29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98 17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740720" y="2349360"/>
            <a:ext cx="1403280" cy="433440"/>
          </a:xfrm>
          <a:custGeom>
            <a:avLst/>
            <a:gdLst>
              <a:gd name="textAreaLeft" fmla="*/ 28080 w 1403280"/>
              <a:gd name="textAreaRight" fmla="*/ 1375200 w 14032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69891" h="21600">
                <a:moveTo>
                  <a:pt x="0" y="0"/>
                </a:moveTo>
                <a:lnTo>
                  <a:pt x="69891" y="0"/>
                </a:lnTo>
                <a:lnTo>
                  <a:pt x="69891" y="21600"/>
                </a:lnTo>
                <a:lnTo>
                  <a:pt x="0" y="21600"/>
                </a:lnTo>
                <a:close/>
              </a:path>
              <a:path fill="lightenLess" w="69891" h="21600">
                <a:moveTo>
                  <a:pt x="0" y="0"/>
                </a:moveTo>
                <a:lnTo>
                  <a:pt x="69891" y="0"/>
                </a:lnTo>
                <a:lnTo>
                  <a:pt x="68491" y="1400"/>
                </a:lnTo>
                <a:lnTo>
                  <a:pt x="1400" y="1400"/>
                </a:lnTo>
                <a:close/>
              </a:path>
              <a:path fill="darken" w="69891" h="21600">
                <a:moveTo>
                  <a:pt x="69891" y="0"/>
                </a:moveTo>
                <a:lnTo>
                  <a:pt x="69891" y="21600"/>
                </a:lnTo>
                <a:lnTo>
                  <a:pt x="68491" y="20200"/>
                </a:lnTo>
                <a:lnTo>
                  <a:pt x="68491" y="1400"/>
                </a:lnTo>
                <a:close/>
              </a:path>
              <a:path fill="darkenLess" w="69891" h="21600">
                <a:moveTo>
                  <a:pt x="69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91" y="20200"/>
                </a:lnTo>
                <a:close/>
              </a:path>
              <a:path fill="lighten" w="69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1 29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740720" y="2781360"/>
            <a:ext cx="1403280" cy="433440"/>
          </a:xfrm>
          <a:custGeom>
            <a:avLst/>
            <a:gdLst>
              <a:gd name="textAreaLeft" fmla="*/ 28080 w 1403280"/>
              <a:gd name="textAreaRight" fmla="*/ 1375200 w 14032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69891" h="21600">
                <a:moveTo>
                  <a:pt x="0" y="0"/>
                </a:moveTo>
                <a:lnTo>
                  <a:pt x="69891" y="0"/>
                </a:lnTo>
                <a:lnTo>
                  <a:pt x="69891" y="21600"/>
                </a:lnTo>
                <a:lnTo>
                  <a:pt x="0" y="21600"/>
                </a:lnTo>
                <a:close/>
              </a:path>
              <a:path fill="lightenLess" w="69891" h="21600">
                <a:moveTo>
                  <a:pt x="0" y="0"/>
                </a:moveTo>
                <a:lnTo>
                  <a:pt x="69891" y="0"/>
                </a:lnTo>
                <a:lnTo>
                  <a:pt x="68491" y="1400"/>
                </a:lnTo>
                <a:lnTo>
                  <a:pt x="1400" y="1400"/>
                </a:lnTo>
                <a:close/>
              </a:path>
              <a:path fill="darken" w="69891" h="21600">
                <a:moveTo>
                  <a:pt x="69891" y="0"/>
                </a:moveTo>
                <a:lnTo>
                  <a:pt x="69891" y="21600"/>
                </a:lnTo>
                <a:lnTo>
                  <a:pt x="68491" y="20200"/>
                </a:lnTo>
                <a:lnTo>
                  <a:pt x="68491" y="1400"/>
                </a:lnTo>
                <a:close/>
              </a:path>
              <a:path fill="darkenLess" w="69891" h="21600">
                <a:moveTo>
                  <a:pt x="69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91" y="20200"/>
                </a:lnTo>
                <a:close/>
              </a:path>
              <a:path fill="lighten" w="69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3 9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740720" y="3213000"/>
            <a:ext cx="1403280" cy="433440"/>
          </a:xfrm>
          <a:custGeom>
            <a:avLst/>
            <a:gdLst>
              <a:gd name="textAreaLeft" fmla="*/ 28080 w 1403280"/>
              <a:gd name="textAreaRight" fmla="*/ 1375200 w 14032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69891" h="21600">
                <a:moveTo>
                  <a:pt x="0" y="0"/>
                </a:moveTo>
                <a:lnTo>
                  <a:pt x="69891" y="0"/>
                </a:lnTo>
                <a:lnTo>
                  <a:pt x="69891" y="21600"/>
                </a:lnTo>
                <a:lnTo>
                  <a:pt x="0" y="21600"/>
                </a:lnTo>
                <a:close/>
              </a:path>
              <a:path fill="lightenLess" w="69891" h="21600">
                <a:moveTo>
                  <a:pt x="0" y="0"/>
                </a:moveTo>
                <a:lnTo>
                  <a:pt x="69891" y="0"/>
                </a:lnTo>
                <a:lnTo>
                  <a:pt x="68491" y="1400"/>
                </a:lnTo>
                <a:lnTo>
                  <a:pt x="1400" y="1400"/>
                </a:lnTo>
                <a:close/>
              </a:path>
              <a:path fill="darken" w="69891" h="21600">
                <a:moveTo>
                  <a:pt x="69891" y="0"/>
                </a:moveTo>
                <a:lnTo>
                  <a:pt x="69891" y="21600"/>
                </a:lnTo>
                <a:lnTo>
                  <a:pt x="68491" y="20200"/>
                </a:lnTo>
                <a:lnTo>
                  <a:pt x="68491" y="1400"/>
                </a:lnTo>
                <a:close/>
              </a:path>
              <a:path fill="darkenLess" w="69891" h="21600">
                <a:moveTo>
                  <a:pt x="69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91" y="20200"/>
                </a:lnTo>
                <a:close/>
              </a:path>
              <a:path fill="lighten" w="69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 34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740720" y="3645000"/>
            <a:ext cx="1403280" cy="433440"/>
          </a:xfrm>
          <a:custGeom>
            <a:avLst/>
            <a:gdLst>
              <a:gd name="textAreaLeft" fmla="*/ 28080 w 1403280"/>
              <a:gd name="textAreaRight" fmla="*/ 1375200 w 14032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69891" h="21600">
                <a:moveTo>
                  <a:pt x="0" y="0"/>
                </a:moveTo>
                <a:lnTo>
                  <a:pt x="69891" y="0"/>
                </a:lnTo>
                <a:lnTo>
                  <a:pt x="69891" y="21600"/>
                </a:lnTo>
                <a:lnTo>
                  <a:pt x="0" y="21600"/>
                </a:lnTo>
                <a:close/>
              </a:path>
              <a:path fill="lightenLess" w="69891" h="21600">
                <a:moveTo>
                  <a:pt x="0" y="0"/>
                </a:moveTo>
                <a:lnTo>
                  <a:pt x="69891" y="0"/>
                </a:lnTo>
                <a:lnTo>
                  <a:pt x="68491" y="1400"/>
                </a:lnTo>
                <a:lnTo>
                  <a:pt x="1400" y="1400"/>
                </a:lnTo>
                <a:close/>
              </a:path>
              <a:path fill="darken" w="69891" h="21600">
                <a:moveTo>
                  <a:pt x="69891" y="0"/>
                </a:moveTo>
                <a:lnTo>
                  <a:pt x="69891" y="21600"/>
                </a:lnTo>
                <a:lnTo>
                  <a:pt x="68491" y="20200"/>
                </a:lnTo>
                <a:lnTo>
                  <a:pt x="68491" y="1400"/>
                </a:lnTo>
                <a:close/>
              </a:path>
              <a:path fill="darkenLess" w="69891" h="21600">
                <a:moveTo>
                  <a:pt x="69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91" y="20200"/>
                </a:lnTo>
                <a:close/>
              </a:path>
              <a:path fill="lighten" w="69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10 72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740720" y="4076640"/>
            <a:ext cx="1403280" cy="433440"/>
          </a:xfrm>
          <a:custGeom>
            <a:avLst/>
            <a:gdLst>
              <a:gd name="textAreaLeft" fmla="*/ 28080 w 1403280"/>
              <a:gd name="textAreaRight" fmla="*/ 1375200 w 14032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69891" h="21600">
                <a:moveTo>
                  <a:pt x="0" y="0"/>
                </a:moveTo>
                <a:lnTo>
                  <a:pt x="69891" y="0"/>
                </a:lnTo>
                <a:lnTo>
                  <a:pt x="69891" y="21600"/>
                </a:lnTo>
                <a:lnTo>
                  <a:pt x="0" y="21600"/>
                </a:lnTo>
                <a:close/>
              </a:path>
              <a:path fill="lightenLess" w="69891" h="21600">
                <a:moveTo>
                  <a:pt x="0" y="0"/>
                </a:moveTo>
                <a:lnTo>
                  <a:pt x="69891" y="0"/>
                </a:lnTo>
                <a:lnTo>
                  <a:pt x="68491" y="1400"/>
                </a:lnTo>
                <a:lnTo>
                  <a:pt x="1400" y="1400"/>
                </a:lnTo>
                <a:close/>
              </a:path>
              <a:path fill="darken" w="69891" h="21600">
                <a:moveTo>
                  <a:pt x="69891" y="0"/>
                </a:moveTo>
                <a:lnTo>
                  <a:pt x="69891" y="21600"/>
                </a:lnTo>
                <a:lnTo>
                  <a:pt x="68491" y="20200"/>
                </a:lnTo>
                <a:lnTo>
                  <a:pt x="68491" y="1400"/>
                </a:lnTo>
                <a:close/>
              </a:path>
              <a:path fill="darkenLess" w="69891" h="21600">
                <a:moveTo>
                  <a:pt x="69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91" y="20200"/>
                </a:lnTo>
                <a:close/>
              </a:path>
              <a:path fill="lighten" w="69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1 5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40720" y="4508640"/>
            <a:ext cx="1403280" cy="433080"/>
          </a:xfrm>
          <a:custGeom>
            <a:avLst/>
            <a:gdLst>
              <a:gd name="textAreaLeft" fmla="*/ 28080 w 1403280"/>
              <a:gd name="textAreaRight" fmla="*/ 1375200 w 140328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69949" h="21600">
                <a:moveTo>
                  <a:pt x="0" y="0"/>
                </a:moveTo>
                <a:lnTo>
                  <a:pt x="69949" y="0"/>
                </a:lnTo>
                <a:lnTo>
                  <a:pt x="69949" y="21600"/>
                </a:lnTo>
                <a:lnTo>
                  <a:pt x="0" y="21600"/>
                </a:lnTo>
                <a:close/>
              </a:path>
              <a:path fill="lightenLess" w="69949" h="21600">
                <a:moveTo>
                  <a:pt x="0" y="0"/>
                </a:moveTo>
                <a:lnTo>
                  <a:pt x="69949" y="0"/>
                </a:lnTo>
                <a:lnTo>
                  <a:pt x="68549" y="1400"/>
                </a:lnTo>
                <a:lnTo>
                  <a:pt x="1400" y="1400"/>
                </a:lnTo>
                <a:close/>
              </a:path>
              <a:path fill="darken" w="69949" h="21600">
                <a:moveTo>
                  <a:pt x="69949" y="0"/>
                </a:moveTo>
                <a:lnTo>
                  <a:pt x="69949" y="21600"/>
                </a:lnTo>
                <a:lnTo>
                  <a:pt x="68549" y="20200"/>
                </a:lnTo>
                <a:lnTo>
                  <a:pt x="68549" y="1400"/>
                </a:lnTo>
                <a:close/>
              </a:path>
              <a:path fill="darkenLess" w="69949" h="21600">
                <a:moveTo>
                  <a:pt x="69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549" y="20200"/>
                </a:lnTo>
                <a:close/>
              </a:path>
              <a:path fill="lighten" w="69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 1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40720" y="4941720"/>
            <a:ext cx="1403280" cy="433440"/>
          </a:xfrm>
          <a:custGeom>
            <a:avLst/>
            <a:gdLst>
              <a:gd name="textAreaLeft" fmla="*/ 28080 w 1403280"/>
              <a:gd name="textAreaRight" fmla="*/ 1375200 w 14032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69891" h="21600">
                <a:moveTo>
                  <a:pt x="0" y="0"/>
                </a:moveTo>
                <a:lnTo>
                  <a:pt x="69891" y="0"/>
                </a:lnTo>
                <a:lnTo>
                  <a:pt x="69891" y="21600"/>
                </a:lnTo>
                <a:lnTo>
                  <a:pt x="0" y="21600"/>
                </a:lnTo>
                <a:close/>
              </a:path>
              <a:path fill="lightenLess" w="69891" h="21600">
                <a:moveTo>
                  <a:pt x="0" y="0"/>
                </a:moveTo>
                <a:lnTo>
                  <a:pt x="69891" y="0"/>
                </a:lnTo>
                <a:lnTo>
                  <a:pt x="68491" y="1400"/>
                </a:lnTo>
                <a:lnTo>
                  <a:pt x="1400" y="1400"/>
                </a:lnTo>
                <a:close/>
              </a:path>
              <a:path fill="darken" w="69891" h="21600">
                <a:moveTo>
                  <a:pt x="69891" y="0"/>
                </a:moveTo>
                <a:lnTo>
                  <a:pt x="69891" y="21600"/>
                </a:lnTo>
                <a:lnTo>
                  <a:pt x="68491" y="20200"/>
                </a:lnTo>
                <a:lnTo>
                  <a:pt x="68491" y="1400"/>
                </a:lnTo>
                <a:close/>
              </a:path>
              <a:path fill="darkenLess" w="69891" h="21600">
                <a:moveTo>
                  <a:pt x="69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91" y="20200"/>
                </a:lnTo>
                <a:close/>
              </a:path>
              <a:path fill="lighten" w="69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1 7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740720" y="5805360"/>
            <a:ext cx="1403280" cy="1052640"/>
          </a:xfrm>
          <a:custGeom>
            <a:avLst/>
            <a:gdLst>
              <a:gd name="textAreaLeft" fmla="*/ 68040 w 1403280"/>
              <a:gd name="textAreaRight" fmla="*/ 1335240 w 140328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28793" h="21600">
                <a:moveTo>
                  <a:pt x="0" y="0"/>
                </a:moveTo>
                <a:lnTo>
                  <a:pt x="28793" y="0"/>
                </a:lnTo>
                <a:lnTo>
                  <a:pt x="28793" y="21600"/>
                </a:lnTo>
                <a:lnTo>
                  <a:pt x="0" y="21600"/>
                </a:lnTo>
                <a:close/>
              </a:path>
              <a:path fill="lightenLess" w="28793" h="21600">
                <a:moveTo>
                  <a:pt x="0" y="0"/>
                </a:moveTo>
                <a:lnTo>
                  <a:pt x="28793" y="0"/>
                </a:lnTo>
                <a:lnTo>
                  <a:pt x="27393" y="1400"/>
                </a:lnTo>
                <a:lnTo>
                  <a:pt x="1400" y="1400"/>
                </a:lnTo>
                <a:close/>
              </a:path>
              <a:path fill="darken" w="28793" h="21600">
                <a:moveTo>
                  <a:pt x="28793" y="0"/>
                </a:moveTo>
                <a:lnTo>
                  <a:pt x="28793" y="21600"/>
                </a:lnTo>
                <a:lnTo>
                  <a:pt x="27393" y="20200"/>
                </a:lnTo>
                <a:lnTo>
                  <a:pt x="27393" y="1400"/>
                </a:lnTo>
                <a:close/>
              </a:path>
              <a:path fill="darkenLess" w="28793" h="21600">
                <a:moveTo>
                  <a:pt x="287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3" y="20200"/>
                </a:lnTo>
                <a:close/>
              </a:path>
              <a:path fill="lighten" w="287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2 0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740720" y="5373720"/>
            <a:ext cx="1403280" cy="433440"/>
          </a:xfrm>
          <a:custGeom>
            <a:avLst/>
            <a:gdLst>
              <a:gd name="textAreaLeft" fmla="*/ 28080 w 1403280"/>
              <a:gd name="textAreaRight" fmla="*/ 1375200 w 14032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69891" h="21600">
                <a:moveTo>
                  <a:pt x="0" y="0"/>
                </a:moveTo>
                <a:lnTo>
                  <a:pt x="69891" y="0"/>
                </a:lnTo>
                <a:lnTo>
                  <a:pt x="69891" y="21600"/>
                </a:lnTo>
                <a:lnTo>
                  <a:pt x="0" y="21600"/>
                </a:lnTo>
                <a:close/>
              </a:path>
              <a:path fill="lightenLess" w="69891" h="21600">
                <a:moveTo>
                  <a:pt x="0" y="0"/>
                </a:moveTo>
                <a:lnTo>
                  <a:pt x="69891" y="0"/>
                </a:lnTo>
                <a:lnTo>
                  <a:pt x="68491" y="1400"/>
                </a:lnTo>
                <a:lnTo>
                  <a:pt x="1400" y="1400"/>
                </a:lnTo>
                <a:close/>
              </a:path>
              <a:path fill="darken" w="69891" h="21600">
                <a:moveTo>
                  <a:pt x="69891" y="0"/>
                </a:moveTo>
                <a:lnTo>
                  <a:pt x="69891" y="21600"/>
                </a:lnTo>
                <a:lnTo>
                  <a:pt x="68491" y="20200"/>
                </a:lnTo>
                <a:lnTo>
                  <a:pt x="68491" y="1400"/>
                </a:lnTo>
                <a:close/>
              </a:path>
              <a:path fill="darkenLess" w="69891" h="21600">
                <a:moveTo>
                  <a:pt x="69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91" y="20200"/>
                </a:lnTo>
                <a:close/>
              </a:path>
              <a:path fill="lighten" w="69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 3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9144000" cy="1484280"/>
          </a:xfrm>
          <a:custGeom>
            <a:avLst/>
            <a:gdLst>
              <a:gd name="textAreaLeft" fmla="*/ 96120 w 9144000"/>
              <a:gd name="textAreaRight" fmla="*/ 9047880 w 9144000"/>
              <a:gd name="textAreaTop" fmla="*/ 96120 h 1484280"/>
              <a:gd name="textAreaBottom" fmla="*/ 1388160 h 1484280"/>
            </a:gdLst>
            <a:ahLst/>
            <a:rect l="textAreaLeft" t="textAreaTop" r="textAreaRight" b="textAreaBottom"/>
            <a:pathLst>
              <a:path w="133041" h="21600">
                <a:moveTo>
                  <a:pt x="0" y="0"/>
                </a:moveTo>
                <a:lnTo>
                  <a:pt x="133041" y="0"/>
                </a:lnTo>
                <a:lnTo>
                  <a:pt x="133041" y="21600"/>
                </a:lnTo>
                <a:lnTo>
                  <a:pt x="0" y="21600"/>
                </a:lnTo>
                <a:close/>
              </a:path>
              <a:path fill="lightenLess" w="133041" h="21600">
                <a:moveTo>
                  <a:pt x="0" y="0"/>
                </a:moveTo>
                <a:lnTo>
                  <a:pt x="133041" y="0"/>
                </a:lnTo>
                <a:lnTo>
                  <a:pt x="131641" y="1400"/>
                </a:lnTo>
                <a:lnTo>
                  <a:pt x="1400" y="1400"/>
                </a:lnTo>
                <a:close/>
              </a:path>
              <a:path fill="darken" w="133041" h="21600">
                <a:moveTo>
                  <a:pt x="133041" y="0"/>
                </a:moveTo>
                <a:lnTo>
                  <a:pt x="133041" y="21600"/>
                </a:lnTo>
                <a:lnTo>
                  <a:pt x="131641" y="20200"/>
                </a:lnTo>
                <a:lnTo>
                  <a:pt x="131641" y="1400"/>
                </a:lnTo>
                <a:close/>
              </a:path>
              <a:path fill="darkenLess" w="133041" h="21600">
                <a:moveTo>
                  <a:pt x="133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1641" y="20200"/>
                </a:lnTo>
                <a:close/>
              </a:path>
              <a:path fill="lighten" w="133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труктура доходов консолидированного бюджет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униципального образования «Зырянский район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 20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- 20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г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1052640"/>
            <a:ext cx="3419640" cy="1008000"/>
          </a:xfrm>
          <a:custGeom>
            <a:avLst/>
            <a:gdLst>
              <a:gd name="textAreaLeft" fmla="*/ 65160 w 3419640"/>
              <a:gd name="textAreaRight" fmla="*/ 3354480 w 3419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73260" h="21600">
                <a:moveTo>
                  <a:pt x="0" y="0"/>
                </a:moveTo>
                <a:lnTo>
                  <a:pt x="73260" y="0"/>
                </a:lnTo>
                <a:lnTo>
                  <a:pt x="73260" y="21600"/>
                </a:lnTo>
                <a:lnTo>
                  <a:pt x="0" y="21600"/>
                </a:lnTo>
                <a:close/>
              </a:path>
              <a:path fill="lightenLess" w="73260" h="21600">
                <a:moveTo>
                  <a:pt x="0" y="0"/>
                </a:moveTo>
                <a:lnTo>
                  <a:pt x="73260" y="0"/>
                </a:lnTo>
                <a:lnTo>
                  <a:pt x="71860" y="1400"/>
                </a:lnTo>
                <a:lnTo>
                  <a:pt x="1400" y="1400"/>
                </a:lnTo>
                <a:close/>
              </a:path>
              <a:path fill="darken" w="73260" h="21600">
                <a:moveTo>
                  <a:pt x="73260" y="0"/>
                </a:moveTo>
                <a:lnTo>
                  <a:pt x="73260" y="21600"/>
                </a:lnTo>
                <a:lnTo>
                  <a:pt x="71860" y="20200"/>
                </a:lnTo>
                <a:lnTo>
                  <a:pt x="71860" y="1400"/>
                </a:lnTo>
                <a:close/>
              </a:path>
              <a:path fill="darkenLess" w="73260" h="21600">
                <a:moveTo>
                  <a:pt x="73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860" y="20200"/>
                </a:lnTo>
                <a:close/>
              </a:path>
              <a:path fill="lighten" w="73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аименование доход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419640" y="1052640"/>
            <a:ext cx="1439640" cy="1008000"/>
          </a:xfrm>
          <a:custGeom>
            <a:avLst/>
            <a:gdLst>
              <a:gd name="textAreaLeft" fmla="*/ 65160 w 1439640"/>
              <a:gd name="textAreaRight" fmla="*/ 1374480 w 1439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лан н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016 год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859280" y="1052640"/>
            <a:ext cx="1440000" cy="1008000"/>
          </a:xfrm>
          <a:custGeom>
            <a:avLst/>
            <a:gdLst>
              <a:gd name="textAreaLeft" fmla="*/ 65160 w 1440000"/>
              <a:gd name="textAreaRight" fmla="*/ 1374840 w 14400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0854" h="21600">
                <a:moveTo>
                  <a:pt x="0" y="0"/>
                </a:moveTo>
                <a:lnTo>
                  <a:pt x="30854" y="0"/>
                </a:lnTo>
                <a:lnTo>
                  <a:pt x="30854" y="21600"/>
                </a:lnTo>
                <a:lnTo>
                  <a:pt x="0" y="21600"/>
                </a:lnTo>
                <a:close/>
              </a:path>
              <a:path fill="lightenLess" w="30854" h="21600">
                <a:moveTo>
                  <a:pt x="0" y="0"/>
                </a:moveTo>
                <a:lnTo>
                  <a:pt x="30854" y="0"/>
                </a:lnTo>
                <a:lnTo>
                  <a:pt x="29454" y="1400"/>
                </a:lnTo>
                <a:lnTo>
                  <a:pt x="1400" y="1400"/>
                </a:lnTo>
                <a:close/>
              </a:path>
              <a:path fill="darken" w="30854" h="21600">
                <a:moveTo>
                  <a:pt x="30854" y="0"/>
                </a:moveTo>
                <a:lnTo>
                  <a:pt x="30854" y="21600"/>
                </a:lnTo>
                <a:lnTo>
                  <a:pt x="29454" y="20200"/>
                </a:lnTo>
                <a:lnTo>
                  <a:pt x="29454" y="1400"/>
                </a:lnTo>
                <a:close/>
              </a:path>
              <a:path fill="darkenLess" w="30854" h="21600">
                <a:moveTo>
                  <a:pt x="30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54" y="20200"/>
                </a:lnTo>
                <a:close/>
              </a:path>
              <a:path fill="lighten" w="30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Удельны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ес, (%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300720" y="1052640"/>
            <a:ext cx="1438200" cy="1008000"/>
          </a:xfrm>
          <a:custGeom>
            <a:avLst/>
            <a:gdLst>
              <a:gd name="textAreaLeft" fmla="*/ 65160 w 1438200"/>
              <a:gd name="textAreaRight" fmla="*/ 1373040 w 143820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0815" h="21600">
                <a:moveTo>
                  <a:pt x="0" y="0"/>
                </a:moveTo>
                <a:lnTo>
                  <a:pt x="30815" y="0"/>
                </a:lnTo>
                <a:lnTo>
                  <a:pt x="30815" y="21600"/>
                </a:lnTo>
                <a:lnTo>
                  <a:pt x="0" y="21600"/>
                </a:lnTo>
                <a:close/>
              </a:path>
              <a:path fill="lightenLess" w="30815" h="21600">
                <a:moveTo>
                  <a:pt x="0" y="0"/>
                </a:moveTo>
                <a:lnTo>
                  <a:pt x="30815" y="0"/>
                </a:lnTo>
                <a:lnTo>
                  <a:pt x="29415" y="1400"/>
                </a:lnTo>
                <a:lnTo>
                  <a:pt x="1400" y="1400"/>
                </a:lnTo>
                <a:close/>
              </a:path>
              <a:path fill="darken" w="30815" h="21600">
                <a:moveTo>
                  <a:pt x="30815" y="0"/>
                </a:moveTo>
                <a:lnTo>
                  <a:pt x="30815" y="21600"/>
                </a:lnTo>
                <a:lnTo>
                  <a:pt x="29415" y="20200"/>
                </a:lnTo>
                <a:lnTo>
                  <a:pt x="29415" y="1400"/>
                </a:lnTo>
                <a:close/>
              </a:path>
              <a:path fill="darkenLess" w="30815" h="21600">
                <a:moveTo>
                  <a:pt x="308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15" y="20200"/>
                </a:lnTo>
                <a:close/>
              </a:path>
              <a:path fill="lighten" w="308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лан н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017 год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740720" y="1052640"/>
            <a:ext cx="1403280" cy="1008000"/>
          </a:xfrm>
          <a:custGeom>
            <a:avLst/>
            <a:gdLst>
              <a:gd name="textAreaLeft" fmla="*/ 65160 w 1403280"/>
              <a:gd name="textAreaRight" fmla="*/ 1338120 w 140328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0067" h="21600">
                <a:moveTo>
                  <a:pt x="0" y="0"/>
                </a:moveTo>
                <a:lnTo>
                  <a:pt x="30067" y="0"/>
                </a:lnTo>
                <a:lnTo>
                  <a:pt x="30067" y="21600"/>
                </a:lnTo>
                <a:lnTo>
                  <a:pt x="0" y="21600"/>
                </a:lnTo>
                <a:close/>
              </a:path>
              <a:path fill="lightenLess" w="30067" h="21600">
                <a:moveTo>
                  <a:pt x="0" y="0"/>
                </a:moveTo>
                <a:lnTo>
                  <a:pt x="30067" y="0"/>
                </a:lnTo>
                <a:lnTo>
                  <a:pt x="28667" y="1400"/>
                </a:lnTo>
                <a:lnTo>
                  <a:pt x="1400" y="1400"/>
                </a:lnTo>
                <a:close/>
              </a:path>
              <a:path fill="darken" w="30067" h="21600">
                <a:moveTo>
                  <a:pt x="30067" y="0"/>
                </a:moveTo>
                <a:lnTo>
                  <a:pt x="30067" y="21600"/>
                </a:lnTo>
                <a:lnTo>
                  <a:pt x="28667" y="20200"/>
                </a:lnTo>
                <a:lnTo>
                  <a:pt x="28667" y="1400"/>
                </a:lnTo>
                <a:close/>
              </a:path>
              <a:path fill="darkenLess" w="30067" h="21600">
                <a:moveTo>
                  <a:pt x="300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67" y="20200"/>
                </a:lnTo>
                <a:close/>
              </a:path>
              <a:path fill="lighten" w="300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лан н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018 год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2060640"/>
            <a:ext cx="3419640" cy="649080"/>
          </a:xfrm>
          <a:custGeom>
            <a:avLst/>
            <a:gdLst>
              <a:gd name="textAreaLeft" fmla="*/ 41760 w 3419640"/>
              <a:gd name="textAreaRight" fmla="*/ 3377880 w 3419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113747" h="21600">
                <a:moveTo>
                  <a:pt x="0" y="0"/>
                </a:moveTo>
                <a:lnTo>
                  <a:pt x="113747" y="0"/>
                </a:lnTo>
                <a:lnTo>
                  <a:pt x="113747" y="21600"/>
                </a:lnTo>
                <a:lnTo>
                  <a:pt x="0" y="21600"/>
                </a:lnTo>
                <a:close/>
              </a:path>
              <a:path fill="lightenLess" w="113747" h="21600">
                <a:moveTo>
                  <a:pt x="0" y="0"/>
                </a:moveTo>
                <a:lnTo>
                  <a:pt x="113747" y="0"/>
                </a:lnTo>
                <a:lnTo>
                  <a:pt x="112347" y="1400"/>
                </a:lnTo>
                <a:lnTo>
                  <a:pt x="1400" y="1400"/>
                </a:lnTo>
                <a:close/>
              </a:path>
              <a:path fill="darken" w="113747" h="21600">
                <a:moveTo>
                  <a:pt x="113747" y="0"/>
                </a:moveTo>
                <a:lnTo>
                  <a:pt x="113747" y="21600"/>
                </a:lnTo>
                <a:lnTo>
                  <a:pt x="112347" y="20200"/>
                </a:lnTo>
                <a:lnTo>
                  <a:pt x="112347" y="1400"/>
                </a:lnTo>
                <a:close/>
              </a:path>
              <a:path fill="darkenLess" w="113747" h="21600">
                <a:moveTo>
                  <a:pt x="1137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347" y="20200"/>
                </a:lnTo>
                <a:close/>
              </a:path>
              <a:path fill="lighten" w="1137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обственные доход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2708280"/>
            <a:ext cx="3419640" cy="433440"/>
          </a:xfrm>
          <a:custGeom>
            <a:avLst/>
            <a:gdLst>
              <a:gd name="textAreaLeft" fmla="*/ 28080 w 3419640"/>
              <a:gd name="textAreaRight" fmla="*/ 3391560 w 341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70290" h="21600">
                <a:moveTo>
                  <a:pt x="0" y="0"/>
                </a:moveTo>
                <a:lnTo>
                  <a:pt x="170290" y="0"/>
                </a:lnTo>
                <a:lnTo>
                  <a:pt x="170290" y="21600"/>
                </a:lnTo>
                <a:lnTo>
                  <a:pt x="0" y="21600"/>
                </a:lnTo>
                <a:close/>
              </a:path>
              <a:path fill="lightenLess" w="170290" h="21600">
                <a:moveTo>
                  <a:pt x="0" y="0"/>
                </a:moveTo>
                <a:lnTo>
                  <a:pt x="170290" y="0"/>
                </a:lnTo>
                <a:lnTo>
                  <a:pt x="168891" y="1400"/>
                </a:lnTo>
                <a:lnTo>
                  <a:pt x="1400" y="1400"/>
                </a:lnTo>
                <a:close/>
              </a:path>
              <a:path fill="darken" w="170290" h="21600">
                <a:moveTo>
                  <a:pt x="170290" y="0"/>
                </a:moveTo>
                <a:lnTo>
                  <a:pt x="170290" y="21600"/>
                </a:lnTo>
                <a:lnTo>
                  <a:pt x="168891" y="20200"/>
                </a:lnTo>
                <a:lnTo>
                  <a:pt x="168891" y="1400"/>
                </a:lnTo>
                <a:close/>
              </a:path>
              <a:path fill="darkenLess" w="170290" h="21600">
                <a:moveTo>
                  <a:pt x="170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891" y="20200"/>
                </a:lnTo>
                <a:close/>
              </a:path>
              <a:path fill="lighten" w="170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алоговые доход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3141720"/>
            <a:ext cx="3419640" cy="433440"/>
          </a:xfrm>
          <a:custGeom>
            <a:avLst/>
            <a:gdLst>
              <a:gd name="textAreaLeft" fmla="*/ 28080 w 3419640"/>
              <a:gd name="textAreaRight" fmla="*/ 3391560 w 341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70290" h="21600">
                <a:moveTo>
                  <a:pt x="0" y="0"/>
                </a:moveTo>
                <a:lnTo>
                  <a:pt x="170290" y="0"/>
                </a:lnTo>
                <a:lnTo>
                  <a:pt x="170290" y="21600"/>
                </a:lnTo>
                <a:lnTo>
                  <a:pt x="0" y="21600"/>
                </a:lnTo>
                <a:close/>
              </a:path>
              <a:path fill="lightenLess" w="170290" h="21600">
                <a:moveTo>
                  <a:pt x="0" y="0"/>
                </a:moveTo>
                <a:lnTo>
                  <a:pt x="170290" y="0"/>
                </a:lnTo>
                <a:lnTo>
                  <a:pt x="168891" y="1400"/>
                </a:lnTo>
                <a:lnTo>
                  <a:pt x="1400" y="1400"/>
                </a:lnTo>
                <a:close/>
              </a:path>
              <a:path fill="darken" w="170290" h="21600">
                <a:moveTo>
                  <a:pt x="170290" y="0"/>
                </a:moveTo>
                <a:lnTo>
                  <a:pt x="170290" y="21600"/>
                </a:lnTo>
                <a:lnTo>
                  <a:pt x="168891" y="20200"/>
                </a:lnTo>
                <a:lnTo>
                  <a:pt x="168891" y="1400"/>
                </a:lnTo>
                <a:close/>
              </a:path>
              <a:path fill="darkenLess" w="170290" h="21600">
                <a:moveTo>
                  <a:pt x="170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891" y="20200"/>
                </a:lnTo>
                <a:close/>
              </a:path>
              <a:path fill="lighten" w="170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еналоговые доход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3573360"/>
            <a:ext cx="3419640" cy="792360"/>
          </a:xfrm>
          <a:custGeom>
            <a:avLst/>
            <a:gdLst>
              <a:gd name="textAreaLeft" fmla="*/ 51120 w 3419640"/>
              <a:gd name="textAreaRight" fmla="*/ 3368520 w 3419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93188" h="21600">
                <a:moveTo>
                  <a:pt x="0" y="0"/>
                </a:moveTo>
                <a:lnTo>
                  <a:pt x="93188" y="0"/>
                </a:lnTo>
                <a:lnTo>
                  <a:pt x="93188" y="21600"/>
                </a:lnTo>
                <a:lnTo>
                  <a:pt x="0" y="21600"/>
                </a:lnTo>
                <a:close/>
              </a:path>
              <a:path fill="lightenLess" w="93188" h="21600">
                <a:moveTo>
                  <a:pt x="0" y="0"/>
                </a:moveTo>
                <a:lnTo>
                  <a:pt x="93188" y="0"/>
                </a:lnTo>
                <a:lnTo>
                  <a:pt x="91788" y="1400"/>
                </a:lnTo>
                <a:lnTo>
                  <a:pt x="1400" y="1400"/>
                </a:lnTo>
                <a:close/>
              </a:path>
              <a:path fill="darken" w="93188" h="21600">
                <a:moveTo>
                  <a:pt x="93188" y="0"/>
                </a:moveTo>
                <a:lnTo>
                  <a:pt x="93188" y="21600"/>
                </a:lnTo>
                <a:lnTo>
                  <a:pt x="91788" y="20200"/>
                </a:lnTo>
                <a:lnTo>
                  <a:pt x="91788" y="1400"/>
                </a:lnTo>
                <a:close/>
              </a:path>
              <a:path fill="darkenLess" w="93188" h="21600">
                <a:moveTo>
                  <a:pt x="93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788" y="20200"/>
                </a:lnTo>
                <a:close/>
              </a:path>
              <a:path fill="lighten" w="93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4365720"/>
            <a:ext cx="3419640" cy="433440"/>
          </a:xfrm>
          <a:custGeom>
            <a:avLst/>
            <a:gdLst>
              <a:gd name="textAreaLeft" fmla="*/ 28080 w 3419640"/>
              <a:gd name="textAreaRight" fmla="*/ 3391560 w 341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70290" h="21600">
                <a:moveTo>
                  <a:pt x="0" y="0"/>
                </a:moveTo>
                <a:lnTo>
                  <a:pt x="170290" y="0"/>
                </a:lnTo>
                <a:lnTo>
                  <a:pt x="170290" y="21600"/>
                </a:lnTo>
                <a:lnTo>
                  <a:pt x="0" y="21600"/>
                </a:lnTo>
                <a:close/>
              </a:path>
              <a:path fill="lightenLess" w="170290" h="21600">
                <a:moveTo>
                  <a:pt x="0" y="0"/>
                </a:moveTo>
                <a:lnTo>
                  <a:pt x="170290" y="0"/>
                </a:lnTo>
                <a:lnTo>
                  <a:pt x="168891" y="1400"/>
                </a:lnTo>
                <a:lnTo>
                  <a:pt x="1400" y="1400"/>
                </a:lnTo>
                <a:close/>
              </a:path>
              <a:path fill="darken" w="170290" h="21600">
                <a:moveTo>
                  <a:pt x="170290" y="0"/>
                </a:moveTo>
                <a:lnTo>
                  <a:pt x="170290" y="21600"/>
                </a:lnTo>
                <a:lnTo>
                  <a:pt x="168891" y="20200"/>
                </a:lnTo>
                <a:lnTo>
                  <a:pt x="168891" y="1400"/>
                </a:lnTo>
                <a:close/>
              </a:path>
              <a:path fill="darkenLess" w="170290" h="21600">
                <a:moveTo>
                  <a:pt x="170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891" y="20200"/>
                </a:lnTo>
                <a:close/>
              </a:path>
              <a:path fill="lighten" w="170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Дота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4797360"/>
            <a:ext cx="3419640" cy="433440"/>
          </a:xfrm>
          <a:custGeom>
            <a:avLst/>
            <a:gdLst>
              <a:gd name="textAreaLeft" fmla="*/ 28080 w 3419640"/>
              <a:gd name="textAreaRight" fmla="*/ 3391560 w 341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170290" h="21600">
                <a:moveTo>
                  <a:pt x="0" y="0"/>
                </a:moveTo>
                <a:lnTo>
                  <a:pt x="170290" y="0"/>
                </a:lnTo>
                <a:lnTo>
                  <a:pt x="170290" y="21600"/>
                </a:lnTo>
                <a:lnTo>
                  <a:pt x="0" y="21600"/>
                </a:lnTo>
                <a:close/>
              </a:path>
              <a:path fill="lightenLess" w="170290" h="21600">
                <a:moveTo>
                  <a:pt x="0" y="0"/>
                </a:moveTo>
                <a:lnTo>
                  <a:pt x="170290" y="0"/>
                </a:lnTo>
                <a:lnTo>
                  <a:pt x="168891" y="1400"/>
                </a:lnTo>
                <a:lnTo>
                  <a:pt x="1400" y="1400"/>
                </a:lnTo>
                <a:close/>
              </a:path>
              <a:path fill="darken" w="170290" h="21600">
                <a:moveTo>
                  <a:pt x="170290" y="0"/>
                </a:moveTo>
                <a:lnTo>
                  <a:pt x="170290" y="21600"/>
                </a:lnTo>
                <a:lnTo>
                  <a:pt x="168891" y="20200"/>
                </a:lnTo>
                <a:lnTo>
                  <a:pt x="168891" y="1400"/>
                </a:lnTo>
                <a:close/>
              </a:path>
              <a:path fill="darkenLess" w="170290" h="21600">
                <a:moveTo>
                  <a:pt x="170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8891" y="20200"/>
                </a:lnTo>
                <a:close/>
              </a:path>
              <a:path fill="lighten" w="170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убсид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5229360"/>
            <a:ext cx="3419640" cy="433080"/>
          </a:xfrm>
          <a:custGeom>
            <a:avLst/>
            <a:gdLst>
              <a:gd name="textAreaLeft" fmla="*/ 28080 w 3419640"/>
              <a:gd name="textAreaRight" fmla="*/ 3391560 w 341964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170432" h="21600">
                <a:moveTo>
                  <a:pt x="0" y="0"/>
                </a:moveTo>
                <a:lnTo>
                  <a:pt x="170432" y="0"/>
                </a:lnTo>
                <a:lnTo>
                  <a:pt x="170432" y="21600"/>
                </a:lnTo>
                <a:lnTo>
                  <a:pt x="0" y="21600"/>
                </a:lnTo>
                <a:close/>
              </a:path>
              <a:path fill="lightenLess" w="170432" h="21600">
                <a:moveTo>
                  <a:pt x="0" y="0"/>
                </a:moveTo>
                <a:lnTo>
                  <a:pt x="170432" y="0"/>
                </a:lnTo>
                <a:lnTo>
                  <a:pt x="169032" y="1400"/>
                </a:lnTo>
                <a:lnTo>
                  <a:pt x="1400" y="1400"/>
                </a:lnTo>
                <a:close/>
              </a:path>
              <a:path fill="darken" w="170432" h="21600">
                <a:moveTo>
                  <a:pt x="170432" y="0"/>
                </a:moveTo>
                <a:lnTo>
                  <a:pt x="170432" y="21600"/>
                </a:lnTo>
                <a:lnTo>
                  <a:pt x="169032" y="20200"/>
                </a:lnTo>
                <a:lnTo>
                  <a:pt x="169032" y="1400"/>
                </a:lnTo>
                <a:close/>
              </a:path>
              <a:path fill="darkenLess" w="170432" h="21600">
                <a:moveTo>
                  <a:pt x="170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9032" y="20200"/>
                </a:lnTo>
                <a:close/>
              </a:path>
              <a:path fill="lighten" w="170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убвен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5661000"/>
            <a:ext cx="3419640" cy="503280"/>
          </a:xfrm>
          <a:custGeom>
            <a:avLst/>
            <a:gdLst>
              <a:gd name="textAreaLeft" fmla="*/ 32400 w 3419640"/>
              <a:gd name="textAreaRight" fmla="*/ 3387240 w 3419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146676" h="21600">
                <a:moveTo>
                  <a:pt x="0" y="0"/>
                </a:moveTo>
                <a:lnTo>
                  <a:pt x="146676" y="0"/>
                </a:lnTo>
                <a:lnTo>
                  <a:pt x="146676" y="21600"/>
                </a:lnTo>
                <a:lnTo>
                  <a:pt x="0" y="21600"/>
                </a:lnTo>
                <a:close/>
              </a:path>
              <a:path fill="lightenLess" w="146676" h="21600">
                <a:moveTo>
                  <a:pt x="0" y="0"/>
                </a:moveTo>
                <a:lnTo>
                  <a:pt x="146676" y="0"/>
                </a:lnTo>
                <a:lnTo>
                  <a:pt x="145276" y="1400"/>
                </a:lnTo>
                <a:lnTo>
                  <a:pt x="1400" y="1400"/>
                </a:lnTo>
                <a:close/>
              </a:path>
              <a:path fill="darken" w="146676" h="21600">
                <a:moveTo>
                  <a:pt x="146676" y="0"/>
                </a:moveTo>
                <a:lnTo>
                  <a:pt x="146676" y="21600"/>
                </a:lnTo>
                <a:lnTo>
                  <a:pt x="145276" y="20200"/>
                </a:lnTo>
                <a:lnTo>
                  <a:pt x="145276" y="1400"/>
                </a:lnTo>
                <a:close/>
              </a:path>
              <a:path fill="darkenLess" w="146676" h="21600">
                <a:moveTo>
                  <a:pt x="146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5276" y="20200"/>
                </a:lnTo>
                <a:close/>
              </a:path>
              <a:path fill="lighten" w="146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ные межбюджетные трансфер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6165720"/>
            <a:ext cx="3419640" cy="692280"/>
          </a:xfrm>
          <a:custGeom>
            <a:avLst/>
            <a:gdLst>
              <a:gd name="textAreaLeft" fmla="*/ 44640 w 3419640"/>
              <a:gd name="textAreaRight" fmla="*/ 3375000 w 3419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106653" h="21600">
                <a:moveTo>
                  <a:pt x="0" y="0"/>
                </a:moveTo>
                <a:lnTo>
                  <a:pt x="106653" y="0"/>
                </a:lnTo>
                <a:lnTo>
                  <a:pt x="106653" y="21600"/>
                </a:lnTo>
                <a:lnTo>
                  <a:pt x="0" y="21600"/>
                </a:lnTo>
                <a:close/>
              </a:path>
              <a:path fill="lightenLess" w="106653" h="21600">
                <a:moveTo>
                  <a:pt x="0" y="0"/>
                </a:moveTo>
                <a:lnTo>
                  <a:pt x="106653" y="0"/>
                </a:lnTo>
                <a:lnTo>
                  <a:pt x="105253" y="1400"/>
                </a:lnTo>
                <a:lnTo>
                  <a:pt x="1400" y="1400"/>
                </a:lnTo>
                <a:close/>
              </a:path>
              <a:path fill="darken" w="106653" h="21600">
                <a:moveTo>
                  <a:pt x="106653" y="0"/>
                </a:moveTo>
                <a:lnTo>
                  <a:pt x="106653" y="21600"/>
                </a:lnTo>
                <a:lnTo>
                  <a:pt x="105253" y="20200"/>
                </a:lnTo>
                <a:lnTo>
                  <a:pt x="105253" y="1400"/>
                </a:lnTo>
                <a:close/>
              </a:path>
              <a:path fill="darkenLess" w="106653" h="21600">
                <a:moveTo>
                  <a:pt x="1066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5253" y="20200"/>
                </a:lnTo>
                <a:close/>
              </a:path>
              <a:path fill="lighten" w="1066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тог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419640" y="2060640"/>
            <a:ext cx="1439640" cy="647640"/>
          </a:xfrm>
          <a:custGeom>
            <a:avLst/>
            <a:gdLst>
              <a:gd name="textAreaLeft" fmla="*/ 41760 w 1439640"/>
              <a:gd name="textAreaRight" fmla="*/ 1397880 w 1439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8000" h="21600">
                <a:moveTo>
                  <a:pt x="0" y="0"/>
                </a:moveTo>
                <a:lnTo>
                  <a:pt x="48000" y="0"/>
                </a:lnTo>
                <a:lnTo>
                  <a:pt x="48000" y="21600"/>
                </a:lnTo>
                <a:lnTo>
                  <a:pt x="0" y="21600"/>
                </a:lnTo>
                <a:close/>
              </a:path>
              <a:path fill="lightenLess" w="48000" h="21600">
                <a:moveTo>
                  <a:pt x="0" y="0"/>
                </a:moveTo>
                <a:lnTo>
                  <a:pt x="48000" y="0"/>
                </a:lnTo>
                <a:lnTo>
                  <a:pt x="46600" y="1400"/>
                </a:lnTo>
                <a:lnTo>
                  <a:pt x="1400" y="1400"/>
                </a:lnTo>
                <a:close/>
              </a:path>
              <a:path fill="darken" w="48000" h="21600">
                <a:moveTo>
                  <a:pt x="48000" y="0"/>
                </a:moveTo>
                <a:lnTo>
                  <a:pt x="48000" y="21600"/>
                </a:lnTo>
                <a:lnTo>
                  <a:pt x="46600" y="20200"/>
                </a:lnTo>
                <a:lnTo>
                  <a:pt x="46600" y="1400"/>
                </a:lnTo>
                <a:close/>
              </a:path>
              <a:path fill="darkenLess" w="48000" h="21600">
                <a:moveTo>
                  <a:pt x="4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00" y="20200"/>
                </a:lnTo>
                <a:close/>
              </a:path>
              <a:path fill="lighten" w="4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4 64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859280" y="2060640"/>
            <a:ext cx="1440000" cy="647640"/>
          </a:xfrm>
          <a:custGeom>
            <a:avLst/>
            <a:gdLst>
              <a:gd name="textAreaLeft" fmla="*/ 41760 w 1440000"/>
              <a:gd name="textAreaRight" fmla="*/ 1398240 w 1440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8012" h="21600">
                <a:moveTo>
                  <a:pt x="0" y="0"/>
                </a:moveTo>
                <a:lnTo>
                  <a:pt x="48012" y="0"/>
                </a:lnTo>
                <a:lnTo>
                  <a:pt x="48012" y="21600"/>
                </a:lnTo>
                <a:lnTo>
                  <a:pt x="0" y="21600"/>
                </a:lnTo>
                <a:close/>
              </a:path>
              <a:path fill="lightenLess" w="48012" h="21600">
                <a:moveTo>
                  <a:pt x="0" y="0"/>
                </a:moveTo>
                <a:lnTo>
                  <a:pt x="48012" y="0"/>
                </a:lnTo>
                <a:lnTo>
                  <a:pt x="46612" y="1400"/>
                </a:lnTo>
                <a:lnTo>
                  <a:pt x="1400" y="1400"/>
                </a:lnTo>
                <a:close/>
              </a:path>
              <a:path fill="darken" w="48012" h="21600">
                <a:moveTo>
                  <a:pt x="48012" y="0"/>
                </a:moveTo>
                <a:lnTo>
                  <a:pt x="48012" y="21600"/>
                </a:lnTo>
                <a:lnTo>
                  <a:pt x="46612" y="20200"/>
                </a:lnTo>
                <a:lnTo>
                  <a:pt x="46612" y="1400"/>
                </a:lnTo>
                <a:close/>
              </a:path>
              <a:path fill="darkenLess" w="48012" h="21600">
                <a:moveTo>
                  <a:pt x="48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12" y="20200"/>
                </a:lnTo>
                <a:close/>
              </a:path>
              <a:path fill="lighten" w="48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,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300720" y="2060640"/>
            <a:ext cx="1440000" cy="647640"/>
          </a:xfrm>
          <a:custGeom>
            <a:avLst/>
            <a:gdLst>
              <a:gd name="textAreaLeft" fmla="*/ 41760 w 1440000"/>
              <a:gd name="textAreaRight" fmla="*/ 1398240 w 1440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8012" h="21600">
                <a:moveTo>
                  <a:pt x="0" y="0"/>
                </a:moveTo>
                <a:lnTo>
                  <a:pt x="48012" y="0"/>
                </a:lnTo>
                <a:lnTo>
                  <a:pt x="48012" y="21600"/>
                </a:lnTo>
                <a:lnTo>
                  <a:pt x="0" y="21600"/>
                </a:lnTo>
                <a:close/>
              </a:path>
              <a:path fill="lightenLess" w="48012" h="21600">
                <a:moveTo>
                  <a:pt x="0" y="0"/>
                </a:moveTo>
                <a:lnTo>
                  <a:pt x="48012" y="0"/>
                </a:lnTo>
                <a:lnTo>
                  <a:pt x="46612" y="1400"/>
                </a:lnTo>
                <a:lnTo>
                  <a:pt x="1400" y="1400"/>
                </a:lnTo>
                <a:close/>
              </a:path>
              <a:path fill="darken" w="48012" h="21600">
                <a:moveTo>
                  <a:pt x="48012" y="0"/>
                </a:moveTo>
                <a:lnTo>
                  <a:pt x="48012" y="21600"/>
                </a:lnTo>
                <a:lnTo>
                  <a:pt x="46612" y="20200"/>
                </a:lnTo>
                <a:lnTo>
                  <a:pt x="46612" y="1400"/>
                </a:lnTo>
                <a:close/>
              </a:path>
              <a:path fill="darkenLess" w="48012" h="21600">
                <a:moveTo>
                  <a:pt x="48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12" y="20200"/>
                </a:lnTo>
                <a:close/>
              </a:path>
              <a:path fill="lighten" w="48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9 6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740720" y="2060640"/>
            <a:ext cx="1403280" cy="647640"/>
          </a:xfrm>
          <a:custGeom>
            <a:avLst/>
            <a:gdLst>
              <a:gd name="textAreaLeft" fmla="*/ 41760 w 1403280"/>
              <a:gd name="textAreaRight" fmla="*/ 1361520 w 140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6788" h="21600">
                <a:moveTo>
                  <a:pt x="0" y="0"/>
                </a:moveTo>
                <a:lnTo>
                  <a:pt x="46788" y="0"/>
                </a:lnTo>
                <a:lnTo>
                  <a:pt x="46788" y="21600"/>
                </a:lnTo>
                <a:lnTo>
                  <a:pt x="0" y="21600"/>
                </a:lnTo>
                <a:close/>
              </a:path>
              <a:path fill="lightenLess" w="46788" h="21600">
                <a:moveTo>
                  <a:pt x="0" y="0"/>
                </a:moveTo>
                <a:lnTo>
                  <a:pt x="46788" y="0"/>
                </a:lnTo>
                <a:lnTo>
                  <a:pt x="45388" y="1400"/>
                </a:lnTo>
                <a:lnTo>
                  <a:pt x="1400" y="1400"/>
                </a:lnTo>
                <a:close/>
              </a:path>
              <a:path fill="darken" w="46788" h="21600">
                <a:moveTo>
                  <a:pt x="46788" y="0"/>
                </a:moveTo>
                <a:lnTo>
                  <a:pt x="46788" y="21600"/>
                </a:lnTo>
                <a:lnTo>
                  <a:pt x="45388" y="20200"/>
                </a:lnTo>
                <a:lnTo>
                  <a:pt x="45388" y="1400"/>
                </a:lnTo>
                <a:close/>
              </a:path>
              <a:path fill="darkenLess" w="46788" h="21600">
                <a:moveTo>
                  <a:pt x="46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8" y="20200"/>
                </a:lnTo>
                <a:close/>
              </a:path>
              <a:path fill="lighten" w="46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5 95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419640" y="2708280"/>
            <a:ext cx="1439640" cy="433440"/>
          </a:xfrm>
          <a:custGeom>
            <a:avLst/>
            <a:gdLst>
              <a:gd name="textAreaLeft" fmla="*/ 28080 w 1439640"/>
              <a:gd name="textAreaRight" fmla="*/ 1411560 w 143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01" h="21600">
                <a:moveTo>
                  <a:pt x="0" y="0"/>
                </a:moveTo>
                <a:lnTo>
                  <a:pt x="71701" y="0"/>
                </a:lnTo>
                <a:lnTo>
                  <a:pt x="71701" y="21600"/>
                </a:lnTo>
                <a:lnTo>
                  <a:pt x="0" y="21600"/>
                </a:lnTo>
                <a:close/>
              </a:path>
              <a:path fill="lightenLess" w="71701" h="21600">
                <a:moveTo>
                  <a:pt x="0" y="0"/>
                </a:moveTo>
                <a:lnTo>
                  <a:pt x="71701" y="0"/>
                </a:lnTo>
                <a:lnTo>
                  <a:pt x="70301" y="1400"/>
                </a:lnTo>
                <a:lnTo>
                  <a:pt x="1400" y="1400"/>
                </a:lnTo>
                <a:close/>
              </a:path>
              <a:path fill="darken" w="71701" h="21600">
                <a:moveTo>
                  <a:pt x="71701" y="0"/>
                </a:moveTo>
                <a:lnTo>
                  <a:pt x="71701" y="21600"/>
                </a:lnTo>
                <a:lnTo>
                  <a:pt x="70301" y="20200"/>
                </a:lnTo>
                <a:lnTo>
                  <a:pt x="70301" y="1400"/>
                </a:lnTo>
                <a:close/>
              </a:path>
              <a:path fill="darkenLess" w="71701" h="21600">
                <a:moveTo>
                  <a:pt x="71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01" y="20200"/>
                </a:lnTo>
                <a:close/>
              </a:path>
              <a:path fill="lighten" w="71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 38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859280" y="270828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,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300720" y="270828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5 38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740720" y="2708280"/>
            <a:ext cx="1403280" cy="433440"/>
          </a:xfrm>
          <a:custGeom>
            <a:avLst/>
            <a:gdLst>
              <a:gd name="textAreaLeft" fmla="*/ 28080 w 1403280"/>
              <a:gd name="textAreaRight" fmla="*/ 1375200 w 14032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69891" h="21600">
                <a:moveTo>
                  <a:pt x="0" y="0"/>
                </a:moveTo>
                <a:lnTo>
                  <a:pt x="69891" y="0"/>
                </a:lnTo>
                <a:lnTo>
                  <a:pt x="69891" y="21600"/>
                </a:lnTo>
                <a:lnTo>
                  <a:pt x="0" y="21600"/>
                </a:lnTo>
                <a:close/>
              </a:path>
              <a:path fill="lightenLess" w="69891" h="21600">
                <a:moveTo>
                  <a:pt x="0" y="0"/>
                </a:moveTo>
                <a:lnTo>
                  <a:pt x="69891" y="0"/>
                </a:lnTo>
                <a:lnTo>
                  <a:pt x="68491" y="1400"/>
                </a:lnTo>
                <a:lnTo>
                  <a:pt x="1400" y="1400"/>
                </a:lnTo>
                <a:close/>
              </a:path>
              <a:path fill="darken" w="69891" h="21600">
                <a:moveTo>
                  <a:pt x="69891" y="0"/>
                </a:moveTo>
                <a:lnTo>
                  <a:pt x="69891" y="21600"/>
                </a:lnTo>
                <a:lnTo>
                  <a:pt x="68491" y="20200"/>
                </a:lnTo>
                <a:lnTo>
                  <a:pt x="68491" y="1400"/>
                </a:lnTo>
                <a:close/>
              </a:path>
              <a:path fill="darkenLess" w="69891" h="21600">
                <a:moveTo>
                  <a:pt x="69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91" y="20200"/>
                </a:lnTo>
                <a:close/>
              </a:path>
              <a:path fill="lighten" w="69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1 8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419640" y="3141720"/>
            <a:ext cx="1439640" cy="433440"/>
          </a:xfrm>
          <a:custGeom>
            <a:avLst/>
            <a:gdLst>
              <a:gd name="textAreaLeft" fmla="*/ 28080 w 1439640"/>
              <a:gd name="textAreaRight" fmla="*/ 1411560 w 143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01" h="21600">
                <a:moveTo>
                  <a:pt x="0" y="0"/>
                </a:moveTo>
                <a:lnTo>
                  <a:pt x="71701" y="0"/>
                </a:lnTo>
                <a:lnTo>
                  <a:pt x="71701" y="21600"/>
                </a:lnTo>
                <a:lnTo>
                  <a:pt x="0" y="21600"/>
                </a:lnTo>
                <a:close/>
              </a:path>
              <a:path fill="lightenLess" w="71701" h="21600">
                <a:moveTo>
                  <a:pt x="0" y="0"/>
                </a:moveTo>
                <a:lnTo>
                  <a:pt x="71701" y="0"/>
                </a:lnTo>
                <a:lnTo>
                  <a:pt x="70301" y="1400"/>
                </a:lnTo>
                <a:lnTo>
                  <a:pt x="1400" y="1400"/>
                </a:lnTo>
                <a:close/>
              </a:path>
              <a:path fill="darken" w="71701" h="21600">
                <a:moveTo>
                  <a:pt x="71701" y="0"/>
                </a:moveTo>
                <a:lnTo>
                  <a:pt x="71701" y="21600"/>
                </a:lnTo>
                <a:lnTo>
                  <a:pt x="70301" y="20200"/>
                </a:lnTo>
                <a:lnTo>
                  <a:pt x="70301" y="1400"/>
                </a:lnTo>
                <a:close/>
              </a:path>
              <a:path fill="darkenLess" w="71701" h="21600">
                <a:moveTo>
                  <a:pt x="71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01" y="20200"/>
                </a:lnTo>
                <a:close/>
              </a:path>
              <a:path fill="lighten" w="71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 25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419640" y="3573360"/>
            <a:ext cx="1439640" cy="792360"/>
          </a:xfrm>
          <a:custGeom>
            <a:avLst/>
            <a:gdLst>
              <a:gd name="textAreaLeft" fmla="*/ 51120 w 1439640"/>
              <a:gd name="textAreaRight" fmla="*/ 1388520 w 1439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39237" h="21600">
                <a:moveTo>
                  <a:pt x="0" y="0"/>
                </a:moveTo>
                <a:lnTo>
                  <a:pt x="39237" y="0"/>
                </a:lnTo>
                <a:lnTo>
                  <a:pt x="39237" y="21600"/>
                </a:lnTo>
                <a:lnTo>
                  <a:pt x="0" y="21600"/>
                </a:lnTo>
                <a:close/>
              </a:path>
              <a:path fill="lightenLess" w="39237" h="21600">
                <a:moveTo>
                  <a:pt x="0" y="0"/>
                </a:moveTo>
                <a:lnTo>
                  <a:pt x="39237" y="0"/>
                </a:lnTo>
                <a:lnTo>
                  <a:pt x="37837" y="1400"/>
                </a:lnTo>
                <a:lnTo>
                  <a:pt x="1400" y="1400"/>
                </a:lnTo>
                <a:close/>
              </a:path>
              <a:path fill="darken" w="39237" h="21600">
                <a:moveTo>
                  <a:pt x="39237" y="0"/>
                </a:moveTo>
                <a:lnTo>
                  <a:pt x="39237" y="21600"/>
                </a:lnTo>
                <a:lnTo>
                  <a:pt x="37837" y="20200"/>
                </a:lnTo>
                <a:lnTo>
                  <a:pt x="37837" y="1400"/>
                </a:lnTo>
                <a:close/>
              </a:path>
              <a:path fill="darkenLess" w="39237" h="21600">
                <a:moveTo>
                  <a:pt x="392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37" y="20200"/>
                </a:lnTo>
                <a:close/>
              </a:path>
              <a:path fill="lighten" w="392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76 73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419640" y="4365720"/>
            <a:ext cx="1439640" cy="433440"/>
          </a:xfrm>
          <a:custGeom>
            <a:avLst/>
            <a:gdLst>
              <a:gd name="textAreaLeft" fmla="*/ 28080 w 1439640"/>
              <a:gd name="textAreaRight" fmla="*/ 1411560 w 143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01" h="21600">
                <a:moveTo>
                  <a:pt x="0" y="0"/>
                </a:moveTo>
                <a:lnTo>
                  <a:pt x="71701" y="0"/>
                </a:lnTo>
                <a:lnTo>
                  <a:pt x="71701" y="21600"/>
                </a:lnTo>
                <a:lnTo>
                  <a:pt x="0" y="21600"/>
                </a:lnTo>
                <a:close/>
              </a:path>
              <a:path fill="lightenLess" w="71701" h="21600">
                <a:moveTo>
                  <a:pt x="0" y="0"/>
                </a:moveTo>
                <a:lnTo>
                  <a:pt x="71701" y="0"/>
                </a:lnTo>
                <a:lnTo>
                  <a:pt x="70301" y="1400"/>
                </a:lnTo>
                <a:lnTo>
                  <a:pt x="1400" y="1400"/>
                </a:lnTo>
                <a:close/>
              </a:path>
              <a:path fill="darken" w="71701" h="21600">
                <a:moveTo>
                  <a:pt x="71701" y="0"/>
                </a:moveTo>
                <a:lnTo>
                  <a:pt x="71701" y="21600"/>
                </a:lnTo>
                <a:lnTo>
                  <a:pt x="70301" y="20200"/>
                </a:lnTo>
                <a:lnTo>
                  <a:pt x="70301" y="1400"/>
                </a:lnTo>
                <a:close/>
              </a:path>
              <a:path fill="darkenLess" w="71701" h="21600">
                <a:moveTo>
                  <a:pt x="71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01" y="20200"/>
                </a:lnTo>
                <a:close/>
              </a:path>
              <a:path fill="lighten" w="71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419640" y="4797360"/>
            <a:ext cx="1439640" cy="433440"/>
          </a:xfrm>
          <a:custGeom>
            <a:avLst/>
            <a:gdLst>
              <a:gd name="textAreaLeft" fmla="*/ 28080 w 1439640"/>
              <a:gd name="textAreaRight" fmla="*/ 1411560 w 1439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01" h="21600">
                <a:moveTo>
                  <a:pt x="0" y="0"/>
                </a:moveTo>
                <a:lnTo>
                  <a:pt x="71701" y="0"/>
                </a:lnTo>
                <a:lnTo>
                  <a:pt x="71701" y="21600"/>
                </a:lnTo>
                <a:lnTo>
                  <a:pt x="0" y="21600"/>
                </a:lnTo>
                <a:close/>
              </a:path>
              <a:path fill="lightenLess" w="71701" h="21600">
                <a:moveTo>
                  <a:pt x="0" y="0"/>
                </a:moveTo>
                <a:lnTo>
                  <a:pt x="71701" y="0"/>
                </a:lnTo>
                <a:lnTo>
                  <a:pt x="70301" y="1400"/>
                </a:lnTo>
                <a:lnTo>
                  <a:pt x="1400" y="1400"/>
                </a:lnTo>
                <a:close/>
              </a:path>
              <a:path fill="darken" w="71701" h="21600">
                <a:moveTo>
                  <a:pt x="71701" y="0"/>
                </a:moveTo>
                <a:lnTo>
                  <a:pt x="71701" y="21600"/>
                </a:lnTo>
                <a:lnTo>
                  <a:pt x="70301" y="20200"/>
                </a:lnTo>
                <a:lnTo>
                  <a:pt x="70301" y="1400"/>
                </a:lnTo>
                <a:close/>
              </a:path>
              <a:path fill="darkenLess" w="71701" h="21600">
                <a:moveTo>
                  <a:pt x="71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01" y="20200"/>
                </a:lnTo>
                <a:close/>
              </a:path>
              <a:path fill="lighten" w="71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5 7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419640" y="5229360"/>
            <a:ext cx="1439640" cy="433080"/>
          </a:xfrm>
          <a:custGeom>
            <a:avLst/>
            <a:gdLst>
              <a:gd name="textAreaLeft" fmla="*/ 28080 w 1439640"/>
              <a:gd name="textAreaRight" fmla="*/ 1411560 w 143964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71761" h="21600">
                <a:moveTo>
                  <a:pt x="0" y="0"/>
                </a:moveTo>
                <a:lnTo>
                  <a:pt x="71761" y="0"/>
                </a:lnTo>
                <a:lnTo>
                  <a:pt x="71761" y="21600"/>
                </a:lnTo>
                <a:lnTo>
                  <a:pt x="0" y="21600"/>
                </a:lnTo>
                <a:close/>
              </a:path>
              <a:path fill="lightenLess" w="71761" h="21600">
                <a:moveTo>
                  <a:pt x="0" y="0"/>
                </a:moveTo>
                <a:lnTo>
                  <a:pt x="71761" y="0"/>
                </a:lnTo>
                <a:lnTo>
                  <a:pt x="70361" y="1400"/>
                </a:lnTo>
                <a:lnTo>
                  <a:pt x="1400" y="1400"/>
                </a:lnTo>
                <a:close/>
              </a:path>
              <a:path fill="darken" w="71761" h="21600">
                <a:moveTo>
                  <a:pt x="71761" y="0"/>
                </a:moveTo>
                <a:lnTo>
                  <a:pt x="71761" y="21600"/>
                </a:lnTo>
                <a:lnTo>
                  <a:pt x="70361" y="20200"/>
                </a:lnTo>
                <a:lnTo>
                  <a:pt x="70361" y="1400"/>
                </a:lnTo>
                <a:close/>
              </a:path>
              <a:path fill="darkenLess" w="71761" h="21600">
                <a:moveTo>
                  <a:pt x="71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61" y="20200"/>
                </a:lnTo>
                <a:close/>
              </a:path>
              <a:path fill="lighten" w="71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50 72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419640" y="5661000"/>
            <a:ext cx="1439640" cy="503280"/>
          </a:xfrm>
          <a:custGeom>
            <a:avLst/>
            <a:gdLst>
              <a:gd name="textAreaLeft" fmla="*/ 32400 w 1439640"/>
              <a:gd name="textAreaRight" fmla="*/ 1407240 w 1439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1758" h="21600">
                <a:moveTo>
                  <a:pt x="0" y="0"/>
                </a:moveTo>
                <a:lnTo>
                  <a:pt x="61758" y="0"/>
                </a:lnTo>
                <a:lnTo>
                  <a:pt x="61758" y="21600"/>
                </a:lnTo>
                <a:lnTo>
                  <a:pt x="0" y="21600"/>
                </a:lnTo>
                <a:close/>
              </a:path>
              <a:path fill="lightenLess" w="61758" h="21600">
                <a:moveTo>
                  <a:pt x="0" y="0"/>
                </a:moveTo>
                <a:lnTo>
                  <a:pt x="61758" y="0"/>
                </a:lnTo>
                <a:lnTo>
                  <a:pt x="60358" y="1400"/>
                </a:lnTo>
                <a:lnTo>
                  <a:pt x="1400" y="1400"/>
                </a:lnTo>
                <a:close/>
              </a:path>
              <a:path fill="darken" w="61758" h="21600">
                <a:moveTo>
                  <a:pt x="61758" y="0"/>
                </a:moveTo>
                <a:lnTo>
                  <a:pt x="61758" y="21600"/>
                </a:lnTo>
                <a:lnTo>
                  <a:pt x="60358" y="20200"/>
                </a:lnTo>
                <a:lnTo>
                  <a:pt x="60358" y="1400"/>
                </a:lnTo>
                <a:close/>
              </a:path>
              <a:path fill="darkenLess" w="61758" h="21600">
                <a:moveTo>
                  <a:pt x="61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358" y="20200"/>
                </a:lnTo>
                <a:close/>
              </a:path>
              <a:path fill="lighten" w="61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 14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419640" y="6165720"/>
            <a:ext cx="1439640" cy="692280"/>
          </a:xfrm>
          <a:custGeom>
            <a:avLst/>
            <a:gdLst>
              <a:gd name="textAreaLeft" fmla="*/ 44640 w 1439640"/>
              <a:gd name="textAreaRight" fmla="*/ 1395000 w 1439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4906" h="21600">
                <a:moveTo>
                  <a:pt x="0" y="0"/>
                </a:moveTo>
                <a:lnTo>
                  <a:pt x="44906" y="0"/>
                </a:lnTo>
                <a:lnTo>
                  <a:pt x="44906" y="21600"/>
                </a:lnTo>
                <a:lnTo>
                  <a:pt x="0" y="21600"/>
                </a:lnTo>
                <a:close/>
              </a:path>
              <a:path fill="lightenLess" w="44906" h="21600">
                <a:moveTo>
                  <a:pt x="0" y="0"/>
                </a:moveTo>
                <a:lnTo>
                  <a:pt x="44906" y="0"/>
                </a:lnTo>
                <a:lnTo>
                  <a:pt x="43507" y="1400"/>
                </a:lnTo>
                <a:lnTo>
                  <a:pt x="1400" y="1400"/>
                </a:lnTo>
                <a:close/>
              </a:path>
              <a:path fill="darken" w="44906" h="21600">
                <a:moveTo>
                  <a:pt x="44906" y="0"/>
                </a:moveTo>
                <a:lnTo>
                  <a:pt x="44906" y="21600"/>
                </a:lnTo>
                <a:lnTo>
                  <a:pt x="43507" y="20200"/>
                </a:lnTo>
                <a:lnTo>
                  <a:pt x="43507" y="1400"/>
                </a:lnTo>
                <a:close/>
              </a:path>
              <a:path fill="darkenLess" w="44906" h="21600">
                <a:moveTo>
                  <a:pt x="449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07" y="20200"/>
                </a:lnTo>
                <a:close/>
              </a:path>
              <a:path fill="lighten" w="449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31 37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859280" y="314172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,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59280" y="3573360"/>
            <a:ext cx="1440000" cy="792360"/>
          </a:xfrm>
          <a:custGeom>
            <a:avLst/>
            <a:gdLst>
              <a:gd name="textAreaLeft" fmla="*/ 51120 w 1440000"/>
              <a:gd name="textAreaRight" fmla="*/ 1388880 w 144000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39247" h="21600">
                <a:moveTo>
                  <a:pt x="0" y="0"/>
                </a:moveTo>
                <a:lnTo>
                  <a:pt x="39247" y="0"/>
                </a:lnTo>
                <a:lnTo>
                  <a:pt x="39247" y="21600"/>
                </a:lnTo>
                <a:lnTo>
                  <a:pt x="0" y="21600"/>
                </a:lnTo>
                <a:close/>
              </a:path>
              <a:path fill="lightenLess" w="39247" h="21600">
                <a:moveTo>
                  <a:pt x="0" y="0"/>
                </a:moveTo>
                <a:lnTo>
                  <a:pt x="39247" y="0"/>
                </a:lnTo>
                <a:lnTo>
                  <a:pt x="37847" y="1400"/>
                </a:lnTo>
                <a:lnTo>
                  <a:pt x="1400" y="1400"/>
                </a:lnTo>
                <a:close/>
              </a:path>
              <a:path fill="darken" w="39247" h="21600">
                <a:moveTo>
                  <a:pt x="39247" y="0"/>
                </a:moveTo>
                <a:lnTo>
                  <a:pt x="39247" y="21600"/>
                </a:lnTo>
                <a:lnTo>
                  <a:pt x="37847" y="20200"/>
                </a:lnTo>
                <a:lnTo>
                  <a:pt x="37847" y="1400"/>
                </a:lnTo>
                <a:close/>
              </a:path>
              <a:path fill="darkenLess" w="39247" h="21600">
                <a:moveTo>
                  <a:pt x="39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47" y="20200"/>
                </a:lnTo>
                <a:close/>
              </a:path>
              <a:path fill="lighten" w="39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7,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859280" y="436572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,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859280" y="479736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,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859280" y="5229360"/>
            <a:ext cx="1440000" cy="43308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71779" h="21600">
                <a:moveTo>
                  <a:pt x="0" y="0"/>
                </a:moveTo>
                <a:lnTo>
                  <a:pt x="71779" y="0"/>
                </a:lnTo>
                <a:lnTo>
                  <a:pt x="71779" y="21600"/>
                </a:lnTo>
                <a:lnTo>
                  <a:pt x="0" y="21600"/>
                </a:lnTo>
                <a:close/>
              </a:path>
              <a:path fill="lightenLess" w="71779" h="21600">
                <a:moveTo>
                  <a:pt x="0" y="0"/>
                </a:moveTo>
                <a:lnTo>
                  <a:pt x="71779" y="0"/>
                </a:lnTo>
                <a:lnTo>
                  <a:pt x="70379" y="1400"/>
                </a:lnTo>
                <a:lnTo>
                  <a:pt x="1400" y="1400"/>
                </a:lnTo>
                <a:close/>
              </a:path>
              <a:path fill="darken" w="71779" h="21600">
                <a:moveTo>
                  <a:pt x="71779" y="0"/>
                </a:moveTo>
                <a:lnTo>
                  <a:pt x="71779" y="21600"/>
                </a:lnTo>
                <a:lnTo>
                  <a:pt x="70379" y="20200"/>
                </a:lnTo>
                <a:lnTo>
                  <a:pt x="70379" y="1400"/>
                </a:lnTo>
                <a:close/>
              </a:path>
              <a:path fill="darkenLess" w="71779" h="21600">
                <a:moveTo>
                  <a:pt x="7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79" y="20200"/>
                </a:lnTo>
                <a:close/>
              </a:path>
              <a:path fill="lighten" w="7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8,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859280" y="5661000"/>
            <a:ext cx="1440000" cy="503280"/>
          </a:xfrm>
          <a:custGeom>
            <a:avLst/>
            <a:gdLst>
              <a:gd name="textAreaLeft" fmla="*/ 32400 w 1440000"/>
              <a:gd name="textAreaRight" fmla="*/ 1407600 w 1440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1774" h="21600">
                <a:moveTo>
                  <a:pt x="0" y="0"/>
                </a:moveTo>
                <a:lnTo>
                  <a:pt x="61774" y="0"/>
                </a:lnTo>
                <a:lnTo>
                  <a:pt x="61774" y="21600"/>
                </a:lnTo>
                <a:lnTo>
                  <a:pt x="0" y="21600"/>
                </a:lnTo>
                <a:close/>
              </a:path>
              <a:path fill="lightenLess" w="61774" h="21600">
                <a:moveTo>
                  <a:pt x="0" y="0"/>
                </a:moveTo>
                <a:lnTo>
                  <a:pt x="61774" y="0"/>
                </a:lnTo>
                <a:lnTo>
                  <a:pt x="60374" y="1400"/>
                </a:lnTo>
                <a:lnTo>
                  <a:pt x="1400" y="1400"/>
                </a:lnTo>
                <a:close/>
              </a:path>
              <a:path fill="darken" w="61774" h="21600">
                <a:moveTo>
                  <a:pt x="61774" y="0"/>
                </a:moveTo>
                <a:lnTo>
                  <a:pt x="61774" y="21600"/>
                </a:lnTo>
                <a:lnTo>
                  <a:pt x="60374" y="20200"/>
                </a:lnTo>
                <a:lnTo>
                  <a:pt x="60374" y="1400"/>
                </a:lnTo>
                <a:close/>
              </a:path>
              <a:path fill="darkenLess" w="61774" h="21600">
                <a:moveTo>
                  <a:pt x="61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374" y="20200"/>
                </a:lnTo>
                <a:close/>
              </a:path>
              <a:path fill="lighten" w="61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,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859280" y="6165720"/>
            <a:ext cx="1440000" cy="692280"/>
          </a:xfrm>
          <a:custGeom>
            <a:avLst/>
            <a:gdLst>
              <a:gd name="textAreaLeft" fmla="*/ 44640 w 1440000"/>
              <a:gd name="textAreaRight" fmla="*/ 1395360 w 144000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4918" h="21600">
                <a:moveTo>
                  <a:pt x="0" y="0"/>
                </a:moveTo>
                <a:lnTo>
                  <a:pt x="44918" y="0"/>
                </a:lnTo>
                <a:lnTo>
                  <a:pt x="44918" y="21600"/>
                </a:lnTo>
                <a:lnTo>
                  <a:pt x="0" y="21600"/>
                </a:lnTo>
                <a:close/>
              </a:path>
              <a:path fill="lightenLess" w="44918" h="21600">
                <a:moveTo>
                  <a:pt x="0" y="0"/>
                </a:moveTo>
                <a:lnTo>
                  <a:pt x="44918" y="0"/>
                </a:lnTo>
                <a:lnTo>
                  <a:pt x="43518" y="1400"/>
                </a:lnTo>
                <a:lnTo>
                  <a:pt x="1400" y="1400"/>
                </a:lnTo>
                <a:close/>
              </a:path>
              <a:path fill="darken" w="44918" h="21600">
                <a:moveTo>
                  <a:pt x="44918" y="0"/>
                </a:moveTo>
                <a:lnTo>
                  <a:pt x="44918" y="21600"/>
                </a:lnTo>
                <a:lnTo>
                  <a:pt x="43518" y="20200"/>
                </a:lnTo>
                <a:lnTo>
                  <a:pt x="43518" y="1400"/>
                </a:lnTo>
                <a:close/>
              </a:path>
              <a:path fill="darkenLess" w="44918" h="21600">
                <a:moveTo>
                  <a:pt x="449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18" y="20200"/>
                </a:lnTo>
                <a:close/>
              </a:path>
              <a:path fill="lighten" w="449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0,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300720" y="314172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 23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300720" y="3573360"/>
            <a:ext cx="1440000" cy="792360"/>
          </a:xfrm>
          <a:custGeom>
            <a:avLst/>
            <a:gdLst>
              <a:gd name="textAreaLeft" fmla="*/ 51120 w 1440000"/>
              <a:gd name="textAreaRight" fmla="*/ 1388880 w 144000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39247" h="21600">
                <a:moveTo>
                  <a:pt x="0" y="0"/>
                </a:moveTo>
                <a:lnTo>
                  <a:pt x="39247" y="0"/>
                </a:lnTo>
                <a:lnTo>
                  <a:pt x="39247" y="21600"/>
                </a:lnTo>
                <a:lnTo>
                  <a:pt x="0" y="21600"/>
                </a:lnTo>
                <a:close/>
              </a:path>
              <a:path fill="lightenLess" w="39247" h="21600">
                <a:moveTo>
                  <a:pt x="0" y="0"/>
                </a:moveTo>
                <a:lnTo>
                  <a:pt x="39247" y="0"/>
                </a:lnTo>
                <a:lnTo>
                  <a:pt x="37847" y="1400"/>
                </a:lnTo>
                <a:lnTo>
                  <a:pt x="1400" y="1400"/>
                </a:lnTo>
                <a:close/>
              </a:path>
              <a:path fill="darken" w="39247" h="21600">
                <a:moveTo>
                  <a:pt x="39247" y="0"/>
                </a:moveTo>
                <a:lnTo>
                  <a:pt x="39247" y="21600"/>
                </a:lnTo>
                <a:lnTo>
                  <a:pt x="37847" y="20200"/>
                </a:lnTo>
                <a:lnTo>
                  <a:pt x="37847" y="1400"/>
                </a:lnTo>
                <a:close/>
              </a:path>
              <a:path fill="darkenLess" w="39247" h="21600">
                <a:moveTo>
                  <a:pt x="39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47" y="20200"/>
                </a:lnTo>
                <a:close/>
              </a:path>
              <a:path fill="lighten" w="39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22 66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300720" y="436572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8 88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300720" y="4797360"/>
            <a:ext cx="1440000" cy="43344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71719" h="21600">
                <a:moveTo>
                  <a:pt x="0" y="0"/>
                </a:moveTo>
                <a:lnTo>
                  <a:pt x="71719" y="0"/>
                </a:lnTo>
                <a:lnTo>
                  <a:pt x="71719" y="21600"/>
                </a:lnTo>
                <a:lnTo>
                  <a:pt x="0" y="21600"/>
                </a:lnTo>
                <a:close/>
              </a:path>
              <a:path fill="lightenLess" w="71719" h="21600">
                <a:moveTo>
                  <a:pt x="0" y="0"/>
                </a:moveTo>
                <a:lnTo>
                  <a:pt x="71719" y="0"/>
                </a:lnTo>
                <a:lnTo>
                  <a:pt x="70319" y="1400"/>
                </a:lnTo>
                <a:lnTo>
                  <a:pt x="1400" y="1400"/>
                </a:lnTo>
                <a:close/>
              </a:path>
              <a:path fill="darken" w="71719" h="21600">
                <a:moveTo>
                  <a:pt x="71719" y="0"/>
                </a:moveTo>
                <a:lnTo>
                  <a:pt x="71719" y="21600"/>
                </a:lnTo>
                <a:lnTo>
                  <a:pt x="70319" y="20200"/>
                </a:lnTo>
                <a:lnTo>
                  <a:pt x="70319" y="1400"/>
                </a:lnTo>
                <a:close/>
              </a:path>
              <a:path fill="darkenLess" w="71719" h="21600">
                <a:moveTo>
                  <a:pt x="71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19" y="20200"/>
                </a:lnTo>
                <a:close/>
              </a:path>
              <a:path fill="lighten" w="71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 95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300720" y="5229360"/>
            <a:ext cx="1440000" cy="433080"/>
          </a:xfrm>
          <a:custGeom>
            <a:avLst/>
            <a:gdLst>
              <a:gd name="textAreaLeft" fmla="*/ 28080 w 1440000"/>
              <a:gd name="textAreaRight" fmla="*/ 1411920 w 144000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71779" h="21600">
                <a:moveTo>
                  <a:pt x="0" y="0"/>
                </a:moveTo>
                <a:lnTo>
                  <a:pt x="71779" y="0"/>
                </a:lnTo>
                <a:lnTo>
                  <a:pt x="71779" y="21600"/>
                </a:lnTo>
                <a:lnTo>
                  <a:pt x="0" y="21600"/>
                </a:lnTo>
                <a:close/>
              </a:path>
              <a:path fill="lightenLess" w="71779" h="21600">
                <a:moveTo>
                  <a:pt x="0" y="0"/>
                </a:moveTo>
                <a:lnTo>
                  <a:pt x="71779" y="0"/>
                </a:lnTo>
                <a:lnTo>
                  <a:pt x="70379" y="1400"/>
                </a:lnTo>
                <a:lnTo>
                  <a:pt x="1400" y="1400"/>
                </a:lnTo>
                <a:close/>
              </a:path>
              <a:path fill="darken" w="71779" h="21600">
                <a:moveTo>
                  <a:pt x="71779" y="0"/>
                </a:moveTo>
                <a:lnTo>
                  <a:pt x="71779" y="21600"/>
                </a:lnTo>
                <a:lnTo>
                  <a:pt x="70379" y="20200"/>
                </a:lnTo>
                <a:lnTo>
                  <a:pt x="70379" y="1400"/>
                </a:lnTo>
                <a:close/>
              </a:path>
              <a:path fill="darkenLess" w="71779" h="21600">
                <a:moveTo>
                  <a:pt x="71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79" y="20200"/>
                </a:lnTo>
                <a:close/>
              </a:path>
              <a:path fill="lighten" w="71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37 68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300720" y="5661000"/>
            <a:ext cx="1440000" cy="503280"/>
          </a:xfrm>
          <a:custGeom>
            <a:avLst/>
            <a:gdLst>
              <a:gd name="textAreaLeft" fmla="*/ 32400 w 1440000"/>
              <a:gd name="textAreaRight" fmla="*/ 1407600 w 1440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1774" h="21600">
                <a:moveTo>
                  <a:pt x="0" y="0"/>
                </a:moveTo>
                <a:lnTo>
                  <a:pt x="61774" y="0"/>
                </a:lnTo>
                <a:lnTo>
                  <a:pt x="61774" y="21600"/>
                </a:lnTo>
                <a:lnTo>
                  <a:pt x="0" y="21600"/>
                </a:lnTo>
                <a:close/>
              </a:path>
              <a:path fill="lightenLess" w="61774" h="21600">
                <a:moveTo>
                  <a:pt x="0" y="0"/>
                </a:moveTo>
                <a:lnTo>
                  <a:pt x="61774" y="0"/>
                </a:lnTo>
                <a:lnTo>
                  <a:pt x="60374" y="1400"/>
                </a:lnTo>
                <a:lnTo>
                  <a:pt x="1400" y="1400"/>
                </a:lnTo>
                <a:close/>
              </a:path>
              <a:path fill="darken" w="61774" h="21600">
                <a:moveTo>
                  <a:pt x="61774" y="0"/>
                </a:moveTo>
                <a:lnTo>
                  <a:pt x="61774" y="21600"/>
                </a:lnTo>
                <a:lnTo>
                  <a:pt x="60374" y="20200"/>
                </a:lnTo>
                <a:lnTo>
                  <a:pt x="60374" y="1400"/>
                </a:lnTo>
                <a:close/>
              </a:path>
              <a:path fill="darkenLess" w="61774" h="21600">
                <a:moveTo>
                  <a:pt x="61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374" y="20200"/>
                </a:lnTo>
                <a:close/>
              </a:path>
              <a:path fill="lighten" w="61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 14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300720" y="6165720"/>
            <a:ext cx="1440000" cy="692280"/>
          </a:xfrm>
          <a:custGeom>
            <a:avLst/>
            <a:gdLst>
              <a:gd name="textAreaLeft" fmla="*/ 44640 w 1440000"/>
              <a:gd name="textAreaRight" fmla="*/ 1395360 w 144000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4918" h="21600">
                <a:moveTo>
                  <a:pt x="0" y="0"/>
                </a:moveTo>
                <a:lnTo>
                  <a:pt x="44918" y="0"/>
                </a:lnTo>
                <a:lnTo>
                  <a:pt x="44918" y="21600"/>
                </a:lnTo>
                <a:lnTo>
                  <a:pt x="0" y="21600"/>
                </a:lnTo>
                <a:close/>
              </a:path>
              <a:path fill="lightenLess" w="44918" h="21600">
                <a:moveTo>
                  <a:pt x="0" y="0"/>
                </a:moveTo>
                <a:lnTo>
                  <a:pt x="44918" y="0"/>
                </a:lnTo>
                <a:lnTo>
                  <a:pt x="43518" y="1400"/>
                </a:lnTo>
                <a:lnTo>
                  <a:pt x="1400" y="1400"/>
                </a:lnTo>
                <a:close/>
              </a:path>
              <a:path fill="darken" w="44918" h="21600">
                <a:moveTo>
                  <a:pt x="44918" y="0"/>
                </a:moveTo>
                <a:lnTo>
                  <a:pt x="44918" y="21600"/>
                </a:lnTo>
                <a:lnTo>
                  <a:pt x="43518" y="20200"/>
                </a:lnTo>
                <a:lnTo>
                  <a:pt x="43518" y="1400"/>
                </a:lnTo>
                <a:close/>
              </a:path>
              <a:path fill="darkenLess" w="44918" h="21600">
                <a:moveTo>
                  <a:pt x="449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518" y="20200"/>
                </a:lnTo>
                <a:close/>
              </a:path>
              <a:path fill="lighten" w="449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82 29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740720" y="3141720"/>
            <a:ext cx="1403280" cy="433440"/>
          </a:xfrm>
          <a:custGeom>
            <a:avLst/>
            <a:gdLst>
              <a:gd name="textAreaLeft" fmla="*/ 28080 w 1403280"/>
              <a:gd name="textAreaRight" fmla="*/ 1375200 w 14032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69891" h="21600">
                <a:moveTo>
                  <a:pt x="0" y="0"/>
                </a:moveTo>
                <a:lnTo>
                  <a:pt x="69891" y="0"/>
                </a:lnTo>
                <a:lnTo>
                  <a:pt x="69891" y="21600"/>
                </a:lnTo>
                <a:lnTo>
                  <a:pt x="0" y="21600"/>
                </a:lnTo>
                <a:close/>
              </a:path>
              <a:path fill="lightenLess" w="69891" h="21600">
                <a:moveTo>
                  <a:pt x="0" y="0"/>
                </a:moveTo>
                <a:lnTo>
                  <a:pt x="69891" y="0"/>
                </a:lnTo>
                <a:lnTo>
                  <a:pt x="68491" y="1400"/>
                </a:lnTo>
                <a:lnTo>
                  <a:pt x="1400" y="1400"/>
                </a:lnTo>
                <a:close/>
              </a:path>
              <a:path fill="darken" w="69891" h="21600">
                <a:moveTo>
                  <a:pt x="69891" y="0"/>
                </a:moveTo>
                <a:lnTo>
                  <a:pt x="69891" y="21600"/>
                </a:lnTo>
                <a:lnTo>
                  <a:pt x="68491" y="20200"/>
                </a:lnTo>
                <a:lnTo>
                  <a:pt x="68491" y="1400"/>
                </a:lnTo>
                <a:close/>
              </a:path>
              <a:path fill="darkenLess" w="69891" h="21600">
                <a:moveTo>
                  <a:pt x="69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91" y="20200"/>
                </a:lnTo>
                <a:close/>
              </a:path>
              <a:path fill="lighten" w="69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 15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740720" y="3573360"/>
            <a:ext cx="1403280" cy="792360"/>
          </a:xfrm>
          <a:custGeom>
            <a:avLst/>
            <a:gdLst>
              <a:gd name="textAreaLeft" fmla="*/ 51120 w 1403280"/>
              <a:gd name="textAreaRight" fmla="*/ 1352160 w 140328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38246" h="21600">
                <a:moveTo>
                  <a:pt x="0" y="0"/>
                </a:moveTo>
                <a:lnTo>
                  <a:pt x="38246" y="0"/>
                </a:lnTo>
                <a:lnTo>
                  <a:pt x="38246" y="21600"/>
                </a:lnTo>
                <a:lnTo>
                  <a:pt x="0" y="21600"/>
                </a:lnTo>
                <a:close/>
              </a:path>
              <a:path fill="lightenLess" w="38246" h="21600">
                <a:moveTo>
                  <a:pt x="0" y="0"/>
                </a:moveTo>
                <a:lnTo>
                  <a:pt x="38246" y="0"/>
                </a:lnTo>
                <a:lnTo>
                  <a:pt x="36846" y="1400"/>
                </a:lnTo>
                <a:lnTo>
                  <a:pt x="1400" y="1400"/>
                </a:lnTo>
                <a:close/>
              </a:path>
              <a:path fill="darken" w="38246" h="21600">
                <a:moveTo>
                  <a:pt x="38246" y="0"/>
                </a:moveTo>
                <a:lnTo>
                  <a:pt x="38246" y="21600"/>
                </a:lnTo>
                <a:lnTo>
                  <a:pt x="36846" y="20200"/>
                </a:lnTo>
                <a:lnTo>
                  <a:pt x="36846" y="1400"/>
                </a:lnTo>
                <a:close/>
              </a:path>
              <a:path fill="darkenLess" w="38246" h="21600">
                <a:moveTo>
                  <a:pt x="382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846" y="20200"/>
                </a:lnTo>
                <a:close/>
              </a:path>
              <a:path fill="lighten" w="382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18 52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740720" y="4365720"/>
            <a:ext cx="1403280" cy="433440"/>
          </a:xfrm>
          <a:custGeom>
            <a:avLst/>
            <a:gdLst>
              <a:gd name="textAreaLeft" fmla="*/ 28080 w 1403280"/>
              <a:gd name="textAreaRight" fmla="*/ 1375200 w 14032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69891" h="21600">
                <a:moveTo>
                  <a:pt x="0" y="0"/>
                </a:moveTo>
                <a:lnTo>
                  <a:pt x="69891" y="0"/>
                </a:lnTo>
                <a:lnTo>
                  <a:pt x="69891" y="21600"/>
                </a:lnTo>
                <a:lnTo>
                  <a:pt x="0" y="21600"/>
                </a:lnTo>
                <a:close/>
              </a:path>
              <a:path fill="lightenLess" w="69891" h="21600">
                <a:moveTo>
                  <a:pt x="0" y="0"/>
                </a:moveTo>
                <a:lnTo>
                  <a:pt x="69891" y="0"/>
                </a:lnTo>
                <a:lnTo>
                  <a:pt x="68491" y="1400"/>
                </a:lnTo>
                <a:lnTo>
                  <a:pt x="1400" y="1400"/>
                </a:lnTo>
                <a:close/>
              </a:path>
              <a:path fill="darken" w="69891" h="21600">
                <a:moveTo>
                  <a:pt x="69891" y="0"/>
                </a:moveTo>
                <a:lnTo>
                  <a:pt x="69891" y="21600"/>
                </a:lnTo>
                <a:lnTo>
                  <a:pt x="68491" y="20200"/>
                </a:lnTo>
                <a:lnTo>
                  <a:pt x="68491" y="1400"/>
                </a:lnTo>
                <a:close/>
              </a:path>
              <a:path fill="darkenLess" w="69891" h="21600">
                <a:moveTo>
                  <a:pt x="69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91" y="20200"/>
                </a:lnTo>
                <a:close/>
              </a:path>
              <a:path fill="lighten" w="69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1 51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740720" y="4797360"/>
            <a:ext cx="1403280" cy="433440"/>
          </a:xfrm>
          <a:custGeom>
            <a:avLst/>
            <a:gdLst>
              <a:gd name="textAreaLeft" fmla="*/ 28080 w 1403280"/>
              <a:gd name="textAreaRight" fmla="*/ 1375200 w 14032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69891" h="21600">
                <a:moveTo>
                  <a:pt x="0" y="0"/>
                </a:moveTo>
                <a:lnTo>
                  <a:pt x="69891" y="0"/>
                </a:lnTo>
                <a:lnTo>
                  <a:pt x="69891" y="21600"/>
                </a:lnTo>
                <a:lnTo>
                  <a:pt x="0" y="21600"/>
                </a:lnTo>
                <a:close/>
              </a:path>
              <a:path fill="lightenLess" w="69891" h="21600">
                <a:moveTo>
                  <a:pt x="0" y="0"/>
                </a:moveTo>
                <a:lnTo>
                  <a:pt x="69891" y="0"/>
                </a:lnTo>
                <a:lnTo>
                  <a:pt x="68491" y="1400"/>
                </a:lnTo>
                <a:lnTo>
                  <a:pt x="1400" y="1400"/>
                </a:lnTo>
                <a:close/>
              </a:path>
              <a:path fill="darken" w="69891" h="21600">
                <a:moveTo>
                  <a:pt x="69891" y="0"/>
                </a:moveTo>
                <a:lnTo>
                  <a:pt x="69891" y="21600"/>
                </a:lnTo>
                <a:lnTo>
                  <a:pt x="68491" y="20200"/>
                </a:lnTo>
                <a:lnTo>
                  <a:pt x="68491" y="1400"/>
                </a:lnTo>
                <a:close/>
              </a:path>
              <a:path fill="darkenLess" w="69891" h="21600">
                <a:moveTo>
                  <a:pt x="69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491" y="20200"/>
                </a:lnTo>
                <a:close/>
              </a:path>
              <a:path fill="lighten" w="69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 15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740720" y="5229360"/>
            <a:ext cx="1403280" cy="433080"/>
          </a:xfrm>
          <a:custGeom>
            <a:avLst/>
            <a:gdLst>
              <a:gd name="textAreaLeft" fmla="*/ 28080 w 1403280"/>
              <a:gd name="textAreaRight" fmla="*/ 1375200 w 140328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69949" h="21600">
                <a:moveTo>
                  <a:pt x="0" y="0"/>
                </a:moveTo>
                <a:lnTo>
                  <a:pt x="69949" y="0"/>
                </a:lnTo>
                <a:lnTo>
                  <a:pt x="69949" y="21600"/>
                </a:lnTo>
                <a:lnTo>
                  <a:pt x="0" y="21600"/>
                </a:lnTo>
                <a:close/>
              </a:path>
              <a:path fill="lightenLess" w="69949" h="21600">
                <a:moveTo>
                  <a:pt x="0" y="0"/>
                </a:moveTo>
                <a:lnTo>
                  <a:pt x="69949" y="0"/>
                </a:lnTo>
                <a:lnTo>
                  <a:pt x="68549" y="1400"/>
                </a:lnTo>
                <a:lnTo>
                  <a:pt x="1400" y="1400"/>
                </a:lnTo>
                <a:close/>
              </a:path>
              <a:path fill="darken" w="69949" h="21600">
                <a:moveTo>
                  <a:pt x="69949" y="0"/>
                </a:moveTo>
                <a:lnTo>
                  <a:pt x="69949" y="21600"/>
                </a:lnTo>
                <a:lnTo>
                  <a:pt x="68549" y="20200"/>
                </a:lnTo>
                <a:lnTo>
                  <a:pt x="68549" y="1400"/>
                </a:lnTo>
                <a:close/>
              </a:path>
              <a:path fill="darkenLess" w="69949" h="21600">
                <a:moveTo>
                  <a:pt x="69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549" y="20200"/>
                </a:lnTo>
                <a:close/>
              </a:path>
              <a:path fill="lighten" w="69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1 7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740720" y="5661000"/>
            <a:ext cx="1403280" cy="503280"/>
          </a:xfrm>
          <a:custGeom>
            <a:avLst/>
            <a:gdLst>
              <a:gd name="textAreaLeft" fmla="*/ 32400 w 1403280"/>
              <a:gd name="textAreaRight" fmla="*/ 1370880 w 14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0199" h="21600">
                <a:moveTo>
                  <a:pt x="0" y="0"/>
                </a:moveTo>
                <a:lnTo>
                  <a:pt x="60199" y="0"/>
                </a:lnTo>
                <a:lnTo>
                  <a:pt x="60199" y="21600"/>
                </a:lnTo>
                <a:lnTo>
                  <a:pt x="0" y="21600"/>
                </a:lnTo>
                <a:close/>
              </a:path>
              <a:path fill="lightenLess" w="60199" h="21600">
                <a:moveTo>
                  <a:pt x="0" y="0"/>
                </a:moveTo>
                <a:lnTo>
                  <a:pt x="60199" y="0"/>
                </a:lnTo>
                <a:lnTo>
                  <a:pt x="58799" y="1400"/>
                </a:lnTo>
                <a:lnTo>
                  <a:pt x="1400" y="1400"/>
                </a:lnTo>
                <a:close/>
              </a:path>
              <a:path fill="darken" w="60199" h="21600">
                <a:moveTo>
                  <a:pt x="60199" y="0"/>
                </a:moveTo>
                <a:lnTo>
                  <a:pt x="60199" y="21600"/>
                </a:lnTo>
                <a:lnTo>
                  <a:pt x="58799" y="20200"/>
                </a:lnTo>
                <a:lnTo>
                  <a:pt x="58799" y="1400"/>
                </a:lnTo>
                <a:close/>
              </a:path>
              <a:path fill="darkenLess" w="60199" h="21600">
                <a:moveTo>
                  <a:pt x="60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799" y="20200"/>
                </a:lnTo>
                <a:close/>
              </a:path>
              <a:path fill="lighten" w="60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 14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740720" y="6165720"/>
            <a:ext cx="1403280" cy="692280"/>
          </a:xfrm>
          <a:custGeom>
            <a:avLst/>
            <a:gdLst>
              <a:gd name="textAreaLeft" fmla="*/ 44640 w 1403280"/>
              <a:gd name="textAreaRight" fmla="*/ 1358640 w 140328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3773" h="21600">
                <a:moveTo>
                  <a:pt x="0" y="0"/>
                </a:moveTo>
                <a:lnTo>
                  <a:pt x="43773" y="0"/>
                </a:lnTo>
                <a:lnTo>
                  <a:pt x="43773" y="21600"/>
                </a:lnTo>
                <a:lnTo>
                  <a:pt x="0" y="21600"/>
                </a:lnTo>
                <a:close/>
              </a:path>
              <a:path fill="lightenLess" w="43773" h="21600">
                <a:moveTo>
                  <a:pt x="0" y="0"/>
                </a:moveTo>
                <a:lnTo>
                  <a:pt x="43773" y="0"/>
                </a:lnTo>
                <a:lnTo>
                  <a:pt x="42373" y="1400"/>
                </a:lnTo>
                <a:lnTo>
                  <a:pt x="1400" y="1400"/>
                </a:lnTo>
                <a:close/>
              </a:path>
              <a:path fill="darken" w="43773" h="21600">
                <a:moveTo>
                  <a:pt x="43773" y="0"/>
                </a:moveTo>
                <a:lnTo>
                  <a:pt x="43773" y="21600"/>
                </a:lnTo>
                <a:lnTo>
                  <a:pt x="42373" y="20200"/>
                </a:lnTo>
                <a:lnTo>
                  <a:pt x="42373" y="1400"/>
                </a:lnTo>
                <a:close/>
              </a:path>
              <a:path fill="darkenLess" w="43773" h="21600">
                <a:moveTo>
                  <a:pt x="437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373" y="20200"/>
                </a:lnTo>
                <a:close/>
              </a:path>
              <a:path fill="lighten" w="437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84 48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0"/>
            <a:ext cx="9144000" cy="1042920"/>
          </a:xfrm>
          <a:custGeom>
            <a:avLst/>
            <a:gdLst>
              <a:gd name="textAreaLeft" fmla="*/ 67320 w 9144000"/>
              <a:gd name="textAreaRight" fmla="*/ 9076680 w 91440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189324" h="21600">
                <a:moveTo>
                  <a:pt x="0" y="0"/>
                </a:moveTo>
                <a:lnTo>
                  <a:pt x="189324" y="0"/>
                </a:lnTo>
                <a:lnTo>
                  <a:pt x="189324" y="21600"/>
                </a:lnTo>
                <a:lnTo>
                  <a:pt x="0" y="21600"/>
                </a:lnTo>
                <a:close/>
              </a:path>
              <a:path fill="lightenLess" w="189324" h="21600">
                <a:moveTo>
                  <a:pt x="0" y="0"/>
                </a:moveTo>
                <a:lnTo>
                  <a:pt x="189324" y="0"/>
                </a:lnTo>
                <a:lnTo>
                  <a:pt x="187924" y="1400"/>
                </a:lnTo>
                <a:lnTo>
                  <a:pt x="1400" y="1400"/>
                </a:lnTo>
                <a:close/>
              </a:path>
              <a:path fill="darken" w="189324" h="21600">
                <a:moveTo>
                  <a:pt x="189324" y="0"/>
                </a:moveTo>
                <a:lnTo>
                  <a:pt x="189324" y="21600"/>
                </a:lnTo>
                <a:lnTo>
                  <a:pt x="187924" y="20200"/>
                </a:lnTo>
                <a:lnTo>
                  <a:pt x="187924" y="1400"/>
                </a:lnTo>
                <a:close/>
              </a:path>
              <a:path fill="darkenLess" w="189324" h="21600">
                <a:moveTo>
                  <a:pt x="189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7924" y="20200"/>
                </a:lnTo>
                <a:close/>
              </a:path>
              <a:path fill="lighten" w="189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Структура доходов бюджета райо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на 2016 - 2018 г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0" y="981000"/>
            <a:ext cx="9144000" cy="5877000"/>
          </a:xfrm>
          <a:prstGeom prst="flowChartProcess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0"/>
            <a:ext cx="9144000" cy="981000"/>
          </a:xfrm>
          <a:prstGeom prst="bevel">
            <a:avLst>
              <a:gd name="adj" fmla="val 12500"/>
            </a:avLst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труктура налоговых доходов бюджета района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 2016 го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6165720"/>
            <a:ext cx="3132000" cy="692280"/>
          </a:xfrm>
          <a:prstGeom prst="bevel">
            <a:avLst>
              <a:gd name="adj" fmla="val 12500"/>
            </a:avLst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Всего 50 381 т.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179280" y="1125360"/>
          <a:ext cx="8785440" cy="496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25360"/>
                    <a:ext cx="8785440" cy="49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0" y="907920"/>
          <a:ext cx="914400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"/>
          <p:cNvSpPr/>
          <p:nvPr/>
        </p:nvSpPr>
        <p:spPr>
          <a:xfrm>
            <a:off x="0" y="0"/>
            <a:ext cx="9144000" cy="907920"/>
          </a:xfrm>
          <a:prstGeom prst="bevel">
            <a:avLst>
              <a:gd name="adj" fmla="val 12500"/>
            </a:avLst>
          </a:prstGeom>
          <a:solidFill>
            <a:srgbClr val="2b2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Структура неналоговых доходов бюджета райо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на 2016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443640" y="6165720"/>
            <a:ext cx="2700360" cy="692280"/>
          </a:xfrm>
          <a:prstGeom prst="bevel">
            <a:avLst>
              <a:gd name="adj" fmla="val 12500"/>
            </a:avLst>
          </a:prstGeom>
          <a:solidFill>
            <a:srgbClr val="2b2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Всего 4 259 т.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3"/>
          <a:stretch/>
        </p:blipFill>
        <p:spPr>
          <a:xfrm>
            <a:off x="0" y="4941720"/>
            <a:ext cx="313200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9144000" cy="98100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труктура безвозмездных поступлений из бюджет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других уровней в бюджет района на 2016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5292720" y="2421000"/>
            <a:ext cx="3708360" cy="31687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0" y="981000"/>
            <a:ext cx="9144000" cy="5877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6237360"/>
            <a:ext cx="2987640" cy="620640"/>
          </a:xfrm>
          <a:custGeom>
            <a:avLst/>
            <a:gdLst>
              <a:gd name="textAreaLeft" fmla="*/ 39960 w 2987640"/>
              <a:gd name="textAreaRight" fmla="*/ 2947680 w 298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103930" h="21600">
                <a:moveTo>
                  <a:pt x="0" y="0"/>
                </a:moveTo>
                <a:lnTo>
                  <a:pt x="103930" y="0"/>
                </a:lnTo>
                <a:lnTo>
                  <a:pt x="103930" y="21600"/>
                </a:lnTo>
                <a:lnTo>
                  <a:pt x="0" y="21600"/>
                </a:lnTo>
                <a:close/>
              </a:path>
              <a:path fill="lightenLess" w="103930" h="21600">
                <a:moveTo>
                  <a:pt x="0" y="0"/>
                </a:moveTo>
                <a:lnTo>
                  <a:pt x="103930" y="0"/>
                </a:lnTo>
                <a:lnTo>
                  <a:pt x="102530" y="1400"/>
                </a:lnTo>
                <a:lnTo>
                  <a:pt x="1400" y="1400"/>
                </a:lnTo>
                <a:close/>
              </a:path>
              <a:path fill="darken" w="103930" h="21600">
                <a:moveTo>
                  <a:pt x="103930" y="0"/>
                </a:moveTo>
                <a:lnTo>
                  <a:pt x="103930" y="21600"/>
                </a:lnTo>
                <a:lnTo>
                  <a:pt x="102530" y="20200"/>
                </a:lnTo>
                <a:lnTo>
                  <a:pt x="102530" y="1400"/>
                </a:lnTo>
                <a:close/>
              </a:path>
              <a:path fill="darkenLess" w="103930" h="21600">
                <a:moveTo>
                  <a:pt x="10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530" y="20200"/>
                </a:lnTo>
                <a:close/>
              </a:path>
              <a:path fill="lighten" w="10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сего 376 732 т.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250920" y="981000"/>
          <a:ext cx="8569080" cy="5040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981000"/>
                    <a:ext cx="85690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6067440" y="4809960"/>
            <a:ext cx="30765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9144000" cy="1341360"/>
          </a:xfrm>
          <a:custGeom>
            <a:avLst/>
            <a:gdLst>
              <a:gd name="textAreaLeft" fmla="*/ 86760 w 9144000"/>
              <a:gd name="textAreaRight" fmla="*/ 9057240 w 9144000"/>
              <a:gd name="textAreaTop" fmla="*/ 86760 h 1341360"/>
              <a:gd name="textAreaBottom" fmla="*/ 1254600 h 1341360"/>
            </a:gdLst>
            <a:ahLst/>
            <a:rect l="textAreaLeft" t="textAreaTop" r="textAreaRight" b="textAreaBottom"/>
            <a:pathLst>
              <a:path w="147213" h="21600">
                <a:moveTo>
                  <a:pt x="0" y="0"/>
                </a:moveTo>
                <a:lnTo>
                  <a:pt x="147213" y="0"/>
                </a:lnTo>
                <a:lnTo>
                  <a:pt x="147213" y="21600"/>
                </a:lnTo>
                <a:lnTo>
                  <a:pt x="0" y="21600"/>
                </a:lnTo>
                <a:close/>
              </a:path>
              <a:path fill="lightenLess" w="147213" h="21600">
                <a:moveTo>
                  <a:pt x="0" y="0"/>
                </a:moveTo>
                <a:lnTo>
                  <a:pt x="147213" y="0"/>
                </a:lnTo>
                <a:lnTo>
                  <a:pt x="145813" y="1400"/>
                </a:lnTo>
                <a:lnTo>
                  <a:pt x="1400" y="1400"/>
                </a:lnTo>
                <a:close/>
              </a:path>
              <a:path fill="darken" w="147213" h="21600">
                <a:moveTo>
                  <a:pt x="147213" y="0"/>
                </a:moveTo>
                <a:lnTo>
                  <a:pt x="147213" y="21600"/>
                </a:lnTo>
                <a:lnTo>
                  <a:pt x="145813" y="20200"/>
                </a:lnTo>
                <a:lnTo>
                  <a:pt x="145813" y="1400"/>
                </a:lnTo>
                <a:close/>
              </a:path>
              <a:path fill="darkenLess" w="147213" h="21600">
                <a:moveTo>
                  <a:pt x="1472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5813" y="20200"/>
                </a:lnTo>
                <a:close/>
              </a:path>
              <a:path fill="lighten" w="1472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Динамика доходов консолидированн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бюджета до и после распредел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финансовой помощи на 2016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0" y="1413000"/>
          <a:ext cx="9144000" cy="518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914400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9144000" cy="1341360"/>
          </a:xfrm>
          <a:custGeom>
            <a:avLst/>
            <a:gdLst>
              <a:gd name="textAreaLeft" fmla="*/ 86760 w 9144000"/>
              <a:gd name="textAreaRight" fmla="*/ 9057240 w 9144000"/>
              <a:gd name="textAreaTop" fmla="*/ 86760 h 1341360"/>
              <a:gd name="textAreaBottom" fmla="*/ 1254600 h 1341360"/>
            </a:gdLst>
            <a:ahLst/>
            <a:rect l="textAreaLeft" t="textAreaTop" r="textAreaRight" b="textAreaBottom"/>
            <a:pathLst>
              <a:path w="147213" h="21600">
                <a:moveTo>
                  <a:pt x="0" y="0"/>
                </a:moveTo>
                <a:lnTo>
                  <a:pt x="147213" y="0"/>
                </a:lnTo>
                <a:lnTo>
                  <a:pt x="147213" y="21600"/>
                </a:lnTo>
                <a:lnTo>
                  <a:pt x="0" y="21600"/>
                </a:lnTo>
                <a:close/>
              </a:path>
              <a:path fill="lightenLess" w="147213" h="21600">
                <a:moveTo>
                  <a:pt x="0" y="0"/>
                </a:moveTo>
                <a:lnTo>
                  <a:pt x="147213" y="0"/>
                </a:lnTo>
                <a:lnTo>
                  <a:pt x="145813" y="1400"/>
                </a:lnTo>
                <a:lnTo>
                  <a:pt x="1400" y="1400"/>
                </a:lnTo>
                <a:close/>
              </a:path>
              <a:path fill="darken" w="147213" h="21600">
                <a:moveTo>
                  <a:pt x="147213" y="0"/>
                </a:moveTo>
                <a:lnTo>
                  <a:pt x="147213" y="21600"/>
                </a:lnTo>
                <a:lnTo>
                  <a:pt x="145813" y="20200"/>
                </a:lnTo>
                <a:lnTo>
                  <a:pt x="145813" y="1400"/>
                </a:lnTo>
                <a:close/>
              </a:path>
              <a:path fill="darkenLess" w="147213" h="21600">
                <a:moveTo>
                  <a:pt x="1472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5813" y="20200"/>
                </a:lnTo>
                <a:close/>
              </a:path>
              <a:path fill="lighten" w="1472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Динамика доходов консолидированн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бюджета до и после распредел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финансовой помощи на 2016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914400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0" y="0"/>
            <a:ext cx="9144000" cy="685800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0"/>
            <a:ext cx="9144000" cy="765000"/>
          </a:xfrm>
          <a:prstGeom prst="bevel">
            <a:avLst>
              <a:gd name="adj" fmla="val 12500"/>
            </a:avLst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Объем доходов и расходов в расчета на 1 жите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3168720" cy="252072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324000" y="907920"/>
            <a:ext cx="3024000" cy="1152720"/>
          </a:xfrm>
          <a:custGeom>
            <a:avLst/>
            <a:gdLst>
              <a:gd name="textAreaLeft" fmla="*/ 74520 w 3024000"/>
              <a:gd name="textAreaRight" fmla="*/ 2949480 w 302400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56654" h="21600">
                <a:moveTo>
                  <a:pt x="0" y="0"/>
                </a:moveTo>
                <a:lnTo>
                  <a:pt x="56654" y="0"/>
                </a:lnTo>
                <a:lnTo>
                  <a:pt x="56654" y="21600"/>
                </a:lnTo>
                <a:lnTo>
                  <a:pt x="0" y="21600"/>
                </a:lnTo>
                <a:close/>
              </a:path>
              <a:path fill="lightenLess" w="56654" h="21600">
                <a:moveTo>
                  <a:pt x="0" y="0"/>
                </a:moveTo>
                <a:lnTo>
                  <a:pt x="56654" y="0"/>
                </a:lnTo>
                <a:lnTo>
                  <a:pt x="55254" y="1400"/>
                </a:lnTo>
                <a:lnTo>
                  <a:pt x="1400" y="1400"/>
                </a:lnTo>
                <a:close/>
              </a:path>
              <a:path fill="darken" w="56654" h="21600">
                <a:moveTo>
                  <a:pt x="56654" y="0"/>
                </a:moveTo>
                <a:lnTo>
                  <a:pt x="56654" y="21600"/>
                </a:lnTo>
                <a:lnTo>
                  <a:pt x="55254" y="20200"/>
                </a:lnTo>
                <a:lnTo>
                  <a:pt x="55254" y="1400"/>
                </a:lnTo>
                <a:close/>
              </a:path>
              <a:path fill="darkenLess" w="56654" h="21600">
                <a:moveTo>
                  <a:pt x="56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54" y="20200"/>
                </a:lnTo>
                <a:close/>
              </a:path>
              <a:path fill="lighten" w="56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План 2016 го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бюдж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консолидирован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24000" y="4581360"/>
            <a:ext cx="1871640" cy="1152720"/>
          </a:xfrm>
          <a:custGeom>
            <a:avLst/>
            <a:gdLst>
              <a:gd name="textAreaLeft" fmla="*/ 74520 w 1871640"/>
              <a:gd name="textAreaRight" fmla="*/ 1797120 w 187164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35067" h="21600">
                <a:moveTo>
                  <a:pt x="0" y="0"/>
                </a:moveTo>
                <a:lnTo>
                  <a:pt x="35067" y="0"/>
                </a:lnTo>
                <a:lnTo>
                  <a:pt x="35067" y="21600"/>
                </a:lnTo>
                <a:lnTo>
                  <a:pt x="0" y="21600"/>
                </a:lnTo>
                <a:close/>
              </a:path>
              <a:path fill="lightenLess" w="35067" h="21600">
                <a:moveTo>
                  <a:pt x="0" y="0"/>
                </a:moveTo>
                <a:lnTo>
                  <a:pt x="35067" y="0"/>
                </a:lnTo>
                <a:lnTo>
                  <a:pt x="33667" y="1400"/>
                </a:lnTo>
                <a:lnTo>
                  <a:pt x="1400" y="1400"/>
                </a:lnTo>
                <a:close/>
              </a:path>
              <a:path fill="darken" w="35067" h="21600">
                <a:moveTo>
                  <a:pt x="35067" y="0"/>
                </a:moveTo>
                <a:lnTo>
                  <a:pt x="35067" y="21600"/>
                </a:lnTo>
                <a:lnTo>
                  <a:pt x="33667" y="20200"/>
                </a:lnTo>
                <a:lnTo>
                  <a:pt x="33667" y="1400"/>
                </a:lnTo>
                <a:close/>
              </a:path>
              <a:path fill="darkenLess" w="35067" h="21600">
                <a:moveTo>
                  <a:pt x="350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67" y="20200"/>
                </a:lnTo>
                <a:close/>
              </a:path>
              <a:path fill="lighten" w="350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Дох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47 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тыс.рубл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195640" y="4581360"/>
            <a:ext cx="1871640" cy="1152720"/>
          </a:xfrm>
          <a:custGeom>
            <a:avLst/>
            <a:gdLst>
              <a:gd name="textAreaLeft" fmla="*/ 74520 w 1871640"/>
              <a:gd name="textAreaRight" fmla="*/ 1797120 w 187164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35067" h="21600">
                <a:moveTo>
                  <a:pt x="0" y="0"/>
                </a:moveTo>
                <a:lnTo>
                  <a:pt x="35067" y="0"/>
                </a:lnTo>
                <a:lnTo>
                  <a:pt x="35067" y="21600"/>
                </a:lnTo>
                <a:lnTo>
                  <a:pt x="0" y="21600"/>
                </a:lnTo>
                <a:close/>
              </a:path>
              <a:path fill="lightenLess" w="35067" h="21600">
                <a:moveTo>
                  <a:pt x="0" y="0"/>
                </a:moveTo>
                <a:lnTo>
                  <a:pt x="35067" y="0"/>
                </a:lnTo>
                <a:lnTo>
                  <a:pt x="33667" y="1400"/>
                </a:lnTo>
                <a:lnTo>
                  <a:pt x="1400" y="1400"/>
                </a:lnTo>
                <a:close/>
              </a:path>
              <a:path fill="darken" w="35067" h="21600">
                <a:moveTo>
                  <a:pt x="35067" y="0"/>
                </a:moveTo>
                <a:lnTo>
                  <a:pt x="35067" y="21600"/>
                </a:lnTo>
                <a:lnTo>
                  <a:pt x="33667" y="20200"/>
                </a:lnTo>
                <a:lnTo>
                  <a:pt x="33667" y="1400"/>
                </a:lnTo>
                <a:close/>
              </a:path>
              <a:path fill="darkenLess" w="35067" h="21600">
                <a:moveTo>
                  <a:pt x="350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67" y="20200"/>
                </a:lnTo>
                <a:close/>
              </a:path>
              <a:path fill="lighten" w="350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Расх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442 7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тыс.руб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4000" y="5734080"/>
            <a:ext cx="1871640" cy="792000"/>
          </a:xfrm>
          <a:custGeom>
            <a:avLst/>
            <a:gdLst>
              <a:gd name="textAreaLeft" fmla="*/ 51120 w 1871640"/>
              <a:gd name="textAreaRight" fmla="*/ 1820520 w 1871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51031" h="21600">
                <a:moveTo>
                  <a:pt x="0" y="0"/>
                </a:moveTo>
                <a:lnTo>
                  <a:pt x="51031" y="0"/>
                </a:lnTo>
                <a:lnTo>
                  <a:pt x="51031" y="21600"/>
                </a:lnTo>
                <a:lnTo>
                  <a:pt x="0" y="21600"/>
                </a:lnTo>
                <a:close/>
              </a:path>
              <a:path fill="lightenLess" w="51031" h="21600">
                <a:moveTo>
                  <a:pt x="0" y="0"/>
                </a:moveTo>
                <a:lnTo>
                  <a:pt x="51031" y="0"/>
                </a:lnTo>
                <a:lnTo>
                  <a:pt x="49631" y="1400"/>
                </a:lnTo>
                <a:lnTo>
                  <a:pt x="1400" y="1400"/>
                </a:lnTo>
                <a:close/>
              </a:path>
              <a:path fill="darken" w="51031" h="21600">
                <a:moveTo>
                  <a:pt x="51031" y="0"/>
                </a:moveTo>
                <a:lnTo>
                  <a:pt x="51031" y="21600"/>
                </a:lnTo>
                <a:lnTo>
                  <a:pt x="49631" y="20200"/>
                </a:lnTo>
                <a:lnTo>
                  <a:pt x="49631" y="1400"/>
                </a:lnTo>
                <a:close/>
              </a:path>
              <a:path fill="darkenLess" w="51031" h="21600">
                <a:moveTo>
                  <a:pt x="51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31" y="20200"/>
                </a:lnTo>
                <a:close/>
              </a:path>
              <a:path fill="lighten" w="51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6 988,5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195640" y="5734080"/>
            <a:ext cx="1871640" cy="792000"/>
          </a:xfrm>
          <a:custGeom>
            <a:avLst/>
            <a:gdLst>
              <a:gd name="textAreaLeft" fmla="*/ 51120 w 1871640"/>
              <a:gd name="textAreaRight" fmla="*/ 1820520 w 1871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51031" h="21600">
                <a:moveTo>
                  <a:pt x="0" y="0"/>
                </a:moveTo>
                <a:lnTo>
                  <a:pt x="51031" y="0"/>
                </a:lnTo>
                <a:lnTo>
                  <a:pt x="51031" y="21600"/>
                </a:lnTo>
                <a:lnTo>
                  <a:pt x="0" y="21600"/>
                </a:lnTo>
                <a:close/>
              </a:path>
              <a:path fill="lightenLess" w="51031" h="21600">
                <a:moveTo>
                  <a:pt x="0" y="0"/>
                </a:moveTo>
                <a:lnTo>
                  <a:pt x="51031" y="0"/>
                </a:lnTo>
                <a:lnTo>
                  <a:pt x="49631" y="1400"/>
                </a:lnTo>
                <a:lnTo>
                  <a:pt x="1400" y="1400"/>
                </a:lnTo>
                <a:close/>
              </a:path>
              <a:path fill="darken" w="51031" h="21600">
                <a:moveTo>
                  <a:pt x="51031" y="0"/>
                </a:moveTo>
                <a:lnTo>
                  <a:pt x="51031" y="21600"/>
                </a:lnTo>
                <a:lnTo>
                  <a:pt x="49631" y="20200"/>
                </a:lnTo>
                <a:lnTo>
                  <a:pt x="49631" y="1400"/>
                </a:lnTo>
                <a:close/>
              </a:path>
              <a:path fill="darkenLess" w="51031" h="21600">
                <a:moveTo>
                  <a:pt x="51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31" y="20200"/>
                </a:lnTo>
                <a:close/>
              </a:path>
              <a:path fill="lighten" w="51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36 632,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020000" y="5734080"/>
            <a:ext cx="1871640" cy="792000"/>
          </a:xfrm>
          <a:custGeom>
            <a:avLst/>
            <a:gdLst>
              <a:gd name="textAreaLeft" fmla="*/ 51120 w 1871640"/>
              <a:gd name="textAreaRight" fmla="*/ 1820520 w 1871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51031" h="21600">
                <a:moveTo>
                  <a:pt x="0" y="0"/>
                </a:moveTo>
                <a:lnTo>
                  <a:pt x="51031" y="0"/>
                </a:lnTo>
                <a:lnTo>
                  <a:pt x="51031" y="21600"/>
                </a:lnTo>
                <a:lnTo>
                  <a:pt x="0" y="21600"/>
                </a:lnTo>
                <a:close/>
              </a:path>
              <a:path fill="lightenLess" w="51031" h="21600">
                <a:moveTo>
                  <a:pt x="0" y="0"/>
                </a:moveTo>
                <a:lnTo>
                  <a:pt x="51031" y="0"/>
                </a:lnTo>
                <a:lnTo>
                  <a:pt x="49631" y="1400"/>
                </a:lnTo>
                <a:lnTo>
                  <a:pt x="1400" y="1400"/>
                </a:lnTo>
                <a:close/>
              </a:path>
              <a:path fill="darken" w="51031" h="21600">
                <a:moveTo>
                  <a:pt x="51031" y="0"/>
                </a:moveTo>
                <a:lnTo>
                  <a:pt x="51031" y="21600"/>
                </a:lnTo>
                <a:lnTo>
                  <a:pt x="49631" y="20200"/>
                </a:lnTo>
                <a:lnTo>
                  <a:pt x="49631" y="1400"/>
                </a:lnTo>
                <a:close/>
              </a:path>
              <a:path fill="darkenLess" w="51031" h="21600">
                <a:moveTo>
                  <a:pt x="51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31" y="20200"/>
                </a:lnTo>
                <a:close/>
              </a:path>
              <a:path fill="lighten" w="51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35 339,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020000" y="4581360"/>
            <a:ext cx="1871640" cy="1152720"/>
          </a:xfrm>
          <a:custGeom>
            <a:avLst/>
            <a:gdLst>
              <a:gd name="textAreaLeft" fmla="*/ 74520 w 1871640"/>
              <a:gd name="textAreaRight" fmla="*/ 1797120 w 187164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35067" h="21600">
                <a:moveTo>
                  <a:pt x="0" y="0"/>
                </a:moveTo>
                <a:lnTo>
                  <a:pt x="35067" y="0"/>
                </a:lnTo>
                <a:lnTo>
                  <a:pt x="35067" y="21600"/>
                </a:lnTo>
                <a:lnTo>
                  <a:pt x="0" y="21600"/>
                </a:lnTo>
                <a:close/>
              </a:path>
              <a:path fill="lightenLess" w="35067" h="21600">
                <a:moveTo>
                  <a:pt x="0" y="0"/>
                </a:moveTo>
                <a:lnTo>
                  <a:pt x="35067" y="0"/>
                </a:lnTo>
                <a:lnTo>
                  <a:pt x="33667" y="1400"/>
                </a:lnTo>
                <a:lnTo>
                  <a:pt x="1400" y="1400"/>
                </a:lnTo>
                <a:close/>
              </a:path>
              <a:path fill="darken" w="35067" h="21600">
                <a:moveTo>
                  <a:pt x="35067" y="0"/>
                </a:moveTo>
                <a:lnTo>
                  <a:pt x="35067" y="21600"/>
                </a:lnTo>
                <a:lnTo>
                  <a:pt x="33667" y="20200"/>
                </a:lnTo>
                <a:lnTo>
                  <a:pt x="33667" y="1400"/>
                </a:lnTo>
                <a:close/>
              </a:path>
              <a:path fill="darkenLess" w="35067" h="21600">
                <a:moveTo>
                  <a:pt x="350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67" y="20200"/>
                </a:lnTo>
                <a:close/>
              </a:path>
              <a:path fill="lighten" w="350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Расх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427 07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тыс.руб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148360" y="4581360"/>
            <a:ext cx="1871640" cy="1152720"/>
          </a:xfrm>
          <a:custGeom>
            <a:avLst/>
            <a:gdLst>
              <a:gd name="textAreaLeft" fmla="*/ 74520 w 1871640"/>
              <a:gd name="textAreaRight" fmla="*/ 1797120 w 187164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35067" h="21600">
                <a:moveTo>
                  <a:pt x="0" y="0"/>
                </a:moveTo>
                <a:lnTo>
                  <a:pt x="35067" y="0"/>
                </a:lnTo>
                <a:lnTo>
                  <a:pt x="35067" y="21600"/>
                </a:lnTo>
                <a:lnTo>
                  <a:pt x="0" y="21600"/>
                </a:lnTo>
                <a:close/>
              </a:path>
              <a:path fill="lightenLess" w="35067" h="21600">
                <a:moveTo>
                  <a:pt x="0" y="0"/>
                </a:moveTo>
                <a:lnTo>
                  <a:pt x="35067" y="0"/>
                </a:lnTo>
                <a:lnTo>
                  <a:pt x="33667" y="1400"/>
                </a:lnTo>
                <a:lnTo>
                  <a:pt x="1400" y="1400"/>
                </a:lnTo>
                <a:close/>
              </a:path>
              <a:path fill="darken" w="35067" h="21600">
                <a:moveTo>
                  <a:pt x="35067" y="0"/>
                </a:moveTo>
                <a:lnTo>
                  <a:pt x="35067" y="21600"/>
                </a:lnTo>
                <a:lnTo>
                  <a:pt x="33667" y="20200"/>
                </a:lnTo>
                <a:lnTo>
                  <a:pt x="33667" y="1400"/>
                </a:lnTo>
                <a:close/>
              </a:path>
              <a:path fill="darkenLess" w="35067" h="21600">
                <a:moveTo>
                  <a:pt x="350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67" y="20200"/>
                </a:lnTo>
                <a:close/>
              </a:path>
              <a:path fill="lighten" w="350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Дох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31 37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148360" y="5734080"/>
            <a:ext cx="1871640" cy="792000"/>
          </a:xfrm>
          <a:custGeom>
            <a:avLst/>
            <a:gdLst>
              <a:gd name="textAreaLeft" fmla="*/ 51120 w 1871640"/>
              <a:gd name="textAreaRight" fmla="*/ 1820520 w 1871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51031" h="21600">
                <a:moveTo>
                  <a:pt x="0" y="0"/>
                </a:moveTo>
                <a:lnTo>
                  <a:pt x="51031" y="0"/>
                </a:lnTo>
                <a:lnTo>
                  <a:pt x="51031" y="21600"/>
                </a:lnTo>
                <a:lnTo>
                  <a:pt x="0" y="21600"/>
                </a:lnTo>
                <a:close/>
              </a:path>
              <a:path fill="lightenLess" w="51031" h="21600">
                <a:moveTo>
                  <a:pt x="0" y="0"/>
                </a:moveTo>
                <a:lnTo>
                  <a:pt x="51031" y="0"/>
                </a:lnTo>
                <a:lnTo>
                  <a:pt x="49631" y="1400"/>
                </a:lnTo>
                <a:lnTo>
                  <a:pt x="1400" y="1400"/>
                </a:lnTo>
                <a:close/>
              </a:path>
              <a:path fill="darken" w="51031" h="21600">
                <a:moveTo>
                  <a:pt x="51031" y="0"/>
                </a:moveTo>
                <a:lnTo>
                  <a:pt x="51031" y="21600"/>
                </a:lnTo>
                <a:lnTo>
                  <a:pt x="49631" y="20200"/>
                </a:lnTo>
                <a:lnTo>
                  <a:pt x="49631" y="1400"/>
                </a:lnTo>
                <a:close/>
              </a:path>
              <a:path fill="darkenLess" w="51031" h="21600">
                <a:moveTo>
                  <a:pt x="51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31" y="20200"/>
                </a:lnTo>
                <a:close/>
              </a:path>
              <a:path fill="lighten" w="51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5 694,8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5435640" y="2060640"/>
            <a:ext cx="3168720" cy="252072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5796000" y="907920"/>
            <a:ext cx="3024000" cy="1152720"/>
          </a:xfrm>
          <a:custGeom>
            <a:avLst/>
            <a:gdLst>
              <a:gd name="textAreaLeft" fmla="*/ 74520 w 3024000"/>
              <a:gd name="textAreaRight" fmla="*/ 2949480 w 3024000"/>
              <a:gd name="textAreaTop" fmla="*/ 74520 h 1152720"/>
              <a:gd name="textAreaBottom" fmla="*/ 1078200 h 1152720"/>
            </a:gdLst>
            <a:ahLst/>
            <a:rect l="textAreaLeft" t="textAreaTop" r="textAreaRight" b="textAreaBottom"/>
            <a:pathLst>
              <a:path w="56654" h="21600">
                <a:moveTo>
                  <a:pt x="0" y="0"/>
                </a:moveTo>
                <a:lnTo>
                  <a:pt x="56654" y="0"/>
                </a:lnTo>
                <a:lnTo>
                  <a:pt x="56654" y="21600"/>
                </a:lnTo>
                <a:lnTo>
                  <a:pt x="0" y="21600"/>
                </a:lnTo>
                <a:close/>
              </a:path>
              <a:path fill="lightenLess" w="56654" h="21600">
                <a:moveTo>
                  <a:pt x="0" y="0"/>
                </a:moveTo>
                <a:lnTo>
                  <a:pt x="56654" y="0"/>
                </a:lnTo>
                <a:lnTo>
                  <a:pt x="55254" y="1400"/>
                </a:lnTo>
                <a:lnTo>
                  <a:pt x="1400" y="1400"/>
                </a:lnTo>
                <a:close/>
              </a:path>
              <a:path fill="darken" w="56654" h="21600">
                <a:moveTo>
                  <a:pt x="56654" y="0"/>
                </a:moveTo>
                <a:lnTo>
                  <a:pt x="56654" y="21600"/>
                </a:lnTo>
                <a:lnTo>
                  <a:pt x="55254" y="20200"/>
                </a:lnTo>
                <a:lnTo>
                  <a:pt x="55254" y="1400"/>
                </a:lnTo>
                <a:close/>
              </a:path>
              <a:path fill="darkenLess" w="56654" h="21600">
                <a:moveTo>
                  <a:pt x="56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54" y="20200"/>
                </a:lnTo>
                <a:close/>
              </a:path>
              <a:path fill="lighten" w="56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План 2016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бюджет рай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708360" y="1052640"/>
            <a:ext cx="1727280" cy="1152360"/>
          </a:xfrm>
          <a:custGeom>
            <a:avLst/>
            <a:gdLst>
              <a:gd name="textAreaLeft" fmla="*/ 74520 w 1727280"/>
              <a:gd name="textAreaRight" fmla="*/ 1652760 w 172728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Население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01.01.2016 год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2 08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челов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6610320" y="4869000"/>
            <a:ext cx="2533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0" y="0"/>
            <a:ext cx="9144000" cy="620640"/>
          </a:xfrm>
          <a:custGeom>
            <a:avLst/>
            <a:gdLst>
              <a:gd name="textAreaLeft" fmla="*/ 39960 w 9144000"/>
              <a:gd name="textAreaRight" fmla="*/ 9104040 w 9144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8065" h="21600">
                <a:moveTo>
                  <a:pt x="0" y="0"/>
                </a:moveTo>
                <a:lnTo>
                  <a:pt x="318065" y="0"/>
                </a:lnTo>
                <a:lnTo>
                  <a:pt x="318065" y="21600"/>
                </a:lnTo>
                <a:lnTo>
                  <a:pt x="0" y="21600"/>
                </a:lnTo>
                <a:close/>
              </a:path>
              <a:path fill="lightenLess" w="318065" h="21600">
                <a:moveTo>
                  <a:pt x="0" y="0"/>
                </a:moveTo>
                <a:lnTo>
                  <a:pt x="318065" y="0"/>
                </a:lnTo>
                <a:lnTo>
                  <a:pt x="316665" y="1400"/>
                </a:lnTo>
                <a:lnTo>
                  <a:pt x="1400" y="1400"/>
                </a:lnTo>
                <a:close/>
              </a:path>
              <a:path fill="darken" w="318065" h="21600">
                <a:moveTo>
                  <a:pt x="318065" y="0"/>
                </a:moveTo>
                <a:lnTo>
                  <a:pt x="318065" y="21600"/>
                </a:lnTo>
                <a:lnTo>
                  <a:pt x="316665" y="20200"/>
                </a:lnTo>
                <a:lnTo>
                  <a:pt x="316665" y="1400"/>
                </a:lnTo>
                <a:close/>
              </a:path>
              <a:path fill="darkenLess" w="318065" h="21600">
                <a:moveTo>
                  <a:pt x="3180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6665" y="20200"/>
                </a:lnTo>
                <a:close/>
              </a:path>
              <a:path fill="lighten" w="3180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СХОДЫ БЮДЖ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476360" y="692280"/>
            <a:ext cx="6120000" cy="720720"/>
          </a:xfrm>
          <a:custGeom>
            <a:avLst/>
            <a:gdLst>
              <a:gd name="textAreaLeft" fmla="*/ 46440 w 6120000"/>
              <a:gd name="textAreaRight" fmla="*/ 6073560 w 612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83336" h="21600">
                <a:moveTo>
                  <a:pt x="0" y="0"/>
                </a:moveTo>
                <a:lnTo>
                  <a:pt x="183336" y="0"/>
                </a:lnTo>
                <a:lnTo>
                  <a:pt x="183336" y="21600"/>
                </a:lnTo>
                <a:lnTo>
                  <a:pt x="0" y="21600"/>
                </a:lnTo>
                <a:close/>
              </a:path>
              <a:path fill="lightenLess" w="183336" h="21600">
                <a:moveTo>
                  <a:pt x="0" y="0"/>
                </a:moveTo>
                <a:lnTo>
                  <a:pt x="183336" y="0"/>
                </a:lnTo>
                <a:lnTo>
                  <a:pt x="181936" y="1400"/>
                </a:lnTo>
                <a:lnTo>
                  <a:pt x="1400" y="1400"/>
                </a:lnTo>
                <a:close/>
              </a:path>
              <a:path fill="darken" w="183336" h="21600">
                <a:moveTo>
                  <a:pt x="183336" y="0"/>
                </a:moveTo>
                <a:lnTo>
                  <a:pt x="183336" y="21600"/>
                </a:lnTo>
                <a:lnTo>
                  <a:pt x="181936" y="20200"/>
                </a:lnTo>
                <a:lnTo>
                  <a:pt x="181936" y="1400"/>
                </a:lnTo>
                <a:close/>
              </a:path>
              <a:path fill="darkenLess" w="183336" h="21600">
                <a:moveTo>
                  <a:pt x="1833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1936" y="20200"/>
                </a:lnTo>
                <a:close/>
              </a:path>
              <a:path fill="lighten" w="1833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это выплачиваем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из бюджета денежные сред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348000" y="1484280"/>
            <a:ext cx="2519280" cy="1368360"/>
          </a:xfrm>
          <a:custGeom>
            <a:avLst/>
            <a:gdLst>
              <a:gd name="textAreaLeft" fmla="*/ 88560 w 2519280"/>
              <a:gd name="textAreaRight" fmla="*/ 2430720 w 251928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39763" h="21600">
                <a:moveTo>
                  <a:pt x="0" y="0"/>
                </a:moveTo>
                <a:lnTo>
                  <a:pt x="39763" y="0"/>
                </a:lnTo>
                <a:lnTo>
                  <a:pt x="39763" y="21600"/>
                </a:lnTo>
                <a:lnTo>
                  <a:pt x="0" y="21600"/>
                </a:lnTo>
                <a:close/>
              </a:path>
              <a:path fill="lightenLess" w="39763" h="21600">
                <a:moveTo>
                  <a:pt x="0" y="0"/>
                </a:moveTo>
                <a:lnTo>
                  <a:pt x="39763" y="0"/>
                </a:lnTo>
                <a:lnTo>
                  <a:pt x="38363" y="1400"/>
                </a:lnTo>
                <a:lnTo>
                  <a:pt x="1400" y="1400"/>
                </a:lnTo>
                <a:close/>
              </a:path>
              <a:path fill="darken" w="39763" h="21600">
                <a:moveTo>
                  <a:pt x="39763" y="0"/>
                </a:moveTo>
                <a:lnTo>
                  <a:pt x="39763" y="21600"/>
                </a:lnTo>
                <a:lnTo>
                  <a:pt x="38363" y="20200"/>
                </a:lnTo>
                <a:lnTo>
                  <a:pt x="38363" y="1400"/>
                </a:lnTo>
                <a:close/>
              </a:path>
              <a:path fill="darkenLess" w="39763" h="21600">
                <a:moveTo>
                  <a:pt x="39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363" y="20200"/>
                </a:lnTo>
                <a:close/>
              </a:path>
              <a:path fill="lighten" w="39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лассификац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асход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о признак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3429000"/>
            <a:ext cx="2987640" cy="3429000"/>
          </a:xfrm>
          <a:custGeom>
            <a:avLst/>
            <a:gdLst>
              <a:gd name="textAreaLeft" fmla="*/ 193320 w 2987640"/>
              <a:gd name="textAreaRight" fmla="*/ 2794320 w 2987640"/>
              <a:gd name="textAreaTop" fmla="*/ 193320 h 3429000"/>
              <a:gd name="textAreaBottom" fmla="*/ 3235680 h 3429000"/>
            </a:gdLst>
            <a:ahLst/>
            <a:rect l="textAreaLeft" t="textAreaTop" r="textAreaRight" b="textAreaBottom"/>
            <a:pathLst>
              <a:path w="21600" h="24791">
                <a:moveTo>
                  <a:pt x="0" y="0"/>
                </a:moveTo>
                <a:lnTo>
                  <a:pt x="21600" y="0"/>
                </a:lnTo>
                <a:lnTo>
                  <a:pt x="21600" y="24791"/>
                </a:lnTo>
                <a:lnTo>
                  <a:pt x="0" y="24791"/>
                </a:lnTo>
                <a:close/>
              </a:path>
              <a:path fill="lightenLess" w="21600" h="247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91">
                <a:moveTo>
                  <a:pt x="21600" y="0"/>
                </a:moveTo>
                <a:lnTo>
                  <a:pt x="21600" y="24791"/>
                </a:lnTo>
                <a:lnTo>
                  <a:pt x="20200" y="23391"/>
                </a:lnTo>
                <a:lnTo>
                  <a:pt x="20200" y="1400"/>
                </a:lnTo>
                <a:close/>
              </a:path>
              <a:path fill="darkenLess" w="21600" h="24791">
                <a:moveTo>
                  <a:pt x="21600" y="24791"/>
                </a:moveTo>
                <a:lnTo>
                  <a:pt x="0" y="24791"/>
                </a:lnTo>
                <a:lnTo>
                  <a:pt x="1400" y="23391"/>
                </a:lnTo>
                <a:lnTo>
                  <a:pt x="20200" y="23391"/>
                </a:lnTo>
                <a:close/>
              </a:path>
              <a:path fill="lighten" w="21600" h="24791">
                <a:moveTo>
                  <a:pt x="0" y="247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91"/>
                </a:lnTo>
                <a:close/>
              </a:path>
            </a:pathLst>
          </a:cu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она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лассификация расходо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юджета отража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правл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редств бюджет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выполн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сновных функци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аздел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дразде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целевые стать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иды расход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156360" y="3429000"/>
            <a:ext cx="2987640" cy="3429000"/>
          </a:xfrm>
          <a:custGeom>
            <a:avLst/>
            <a:gdLst>
              <a:gd name="textAreaLeft" fmla="*/ 193320 w 2987640"/>
              <a:gd name="textAreaRight" fmla="*/ 2794320 w 2987640"/>
              <a:gd name="textAreaTop" fmla="*/ 193320 h 3429000"/>
              <a:gd name="textAreaBottom" fmla="*/ 3235680 h 3429000"/>
            </a:gdLst>
            <a:ahLst/>
            <a:rect l="textAreaLeft" t="textAreaTop" r="textAreaRight" b="textAreaBottom"/>
            <a:pathLst>
              <a:path w="21600" h="24791">
                <a:moveTo>
                  <a:pt x="0" y="0"/>
                </a:moveTo>
                <a:lnTo>
                  <a:pt x="21600" y="0"/>
                </a:lnTo>
                <a:lnTo>
                  <a:pt x="21600" y="24791"/>
                </a:lnTo>
                <a:lnTo>
                  <a:pt x="0" y="24791"/>
                </a:lnTo>
                <a:close/>
              </a:path>
              <a:path fill="lightenLess" w="21600" h="247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791">
                <a:moveTo>
                  <a:pt x="21600" y="0"/>
                </a:moveTo>
                <a:lnTo>
                  <a:pt x="21600" y="24791"/>
                </a:lnTo>
                <a:lnTo>
                  <a:pt x="20200" y="23391"/>
                </a:lnTo>
                <a:lnTo>
                  <a:pt x="20200" y="1400"/>
                </a:lnTo>
                <a:close/>
              </a:path>
              <a:path fill="darkenLess" w="21600" h="24791">
                <a:moveTo>
                  <a:pt x="21600" y="24791"/>
                </a:moveTo>
                <a:lnTo>
                  <a:pt x="0" y="24791"/>
                </a:lnTo>
                <a:lnTo>
                  <a:pt x="1400" y="23391"/>
                </a:lnTo>
                <a:lnTo>
                  <a:pt x="20200" y="23391"/>
                </a:lnTo>
                <a:close/>
              </a:path>
              <a:path fill="lighten" w="21600" h="24791">
                <a:moveTo>
                  <a:pt x="0" y="247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391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Эконом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лассификация расходо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юджета по экономическому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одержанию (на текущ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 капитальные расходы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на заработную плату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(категория расходо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групп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редметные стать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одстатьи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987640" y="3429000"/>
            <a:ext cx="3168720" cy="3429000"/>
          </a:xfrm>
          <a:custGeom>
            <a:avLst/>
            <a:gdLst>
              <a:gd name="textAreaLeft" fmla="*/ 205200 w 3168720"/>
              <a:gd name="textAreaRight" fmla="*/ 2963520 w 3168720"/>
              <a:gd name="textAreaTop" fmla="*/ 205200 h 3429000"/>
              <a:gd name="textAreaBottom" fmla="*/ 3223800 h 3429000"/>
            </a:gdLst>
            <a:ahLst/>
            <a:rect l="textAreaLeft" t="textAreaTop" r="textAreaRight" b="textAreaBottom"/>
            <a:pathLst>
              <a:path w="21600" h="23374">
                <a:moveTo>
                  <a:pt x="0" y="0"/>
                </a:moveTo>
                <a:lnTo>
                  <a:pt x="21600" y="0"/>
                </a:lnTo>
                <a:lnTo>
                  <a:pt x="21600" y="23374"/>
                </a:lnTo>
                <a:lnTo>
                  <a:pt x="0" y="23374"/>
                </a:lnTo>
                <a:close/>
              </a:path>
              <a:path fill="lightenLess" w="21600" h="233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74">
                <a:moveTo>
                  <a:pt x="21600" y="0"/>
                </a:moveTo>
                <a:lnTo>
                  <a:pt x="21600" y="23374"/>
                </a:lnTo>
                <a:lnTo>
                  <a:pt x="20200" y="21974"/>
                </a:lnTo>
                <a:lnTo>
                  <a:pt x="20200" y="1400"/>
                </a:lnTo>
                <a:close/>
              </a:path>
              <a:path fill="darkenLess" w="21600" h="23374">
                <a:moveTo>
                  <a:pt x="21600" y="23374"/>
                </a:moveTo>
                <a:lnTo>
                  <a:pt x="0" y="23374"/>
                </a:lnTo>
                <a:lnTo>
                  <a:pt x="1400" y="21974"/>
                </a:lnTo>
                <a:lnTo>
                  <a:pt x="20200" y="21974"/>
                </a:lnTo>
                <a:close/>
              </a:path>
              <a:path fill="lighten" w="21600" h="23374">
                <a:moveTo>
                  <a:pt x="0" y="233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74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едомстве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лассификация расход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бюджета непосредственн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вязана со структур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управления, она отража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группировку лиц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олучающих бюджетны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редства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(главны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распорядител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средств бюджет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rot="2812200">
            <a:off x="1859040" y="18198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rot="18622200">
            <a:off x="6541200" y="174852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356000" y="2924280"/>
            <a:ext cx="486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2411280" y="2060640"/>
            <a:ext cx="0" cy="7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00000" y="2421000"/>
            <a:ext cx="863640" cy="936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258920" y="5805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1331640" y="5805360"/>
            <a:ext cx="73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1474560" y="6021360"/>
            <a:ext cx="215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8436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340000" y="6021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028000" y="5805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675640" y="6021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675640" y="551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340000" y="189000"/>
            <a:ext cx="6624720" cy="60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важаемые жители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Зырянского район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Times New Roman"/>
              </a:rPr>
              <a:t>Одной из ключевых задач бюджетной политики является обеспечение прозрачности и открытости бюджетного процесса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Times New Roman"/>
              </a:rPr>
              <a:t>На официальном сайте Администрации Зырянского района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Times New Roman"/>
              </a:rPr>
              <a:t>информация о плановых показателях бюджета Зырянского района и его исполнении доступна для всех заинтересованных пользователей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Times New Roman"/>
              </a:rPr>
              <a:t>Для привлечения большого количества граждан Зырянского района к участию в обсуждении вопросов формирования и исполнения бюджета разработан «Бюджет для граждан»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Times New Roman"/>
              </a:rPr>
              <a:t>«Бюджет для граждан» знакомит граждан с основными характеристиками бюджета Зырянского района и результатами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Times New Roman"/>
              </a:rPr>
              <a:t>его исполнения, а также указывает цели, задачи и приоритетные направления бюджетной и налоговой политики Зырянского района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Times New Roman"/>
              </a:rPr>
              <a:t>«Бюджет для граждан» разрабатывается в целях ознакомления граждан с основными положениями бюджета Зырянского района в доступной форме для широкого круга заинтересованных лиц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С уважением, Глава Зырянского района Пивоваров Николай Николаевич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226836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9144000" cy="981000"/>
          </a:xfrm>
          <a:custGeom>
            <a:avLst/>
            <a:gdLst>
              <a:gd name="textAreaLeft" fmla="*/ 63360 w 9144000"/>
              <a:gd name="textAreaRight" fmla="*/ 9080640 w 914400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01270" h="21600">
                <a:moveTo>
                  <a:pt x="0" y="0"/>
                </a:moveTo>
                <a:lnTo>
                  <a:pt x="201270" y="0"/>
                </a:lnTo>
                <a:lnTo>
                  <a:pt x="201270" y="21600"/>
                </a:lnTo>
                <a:lnTo>
                  <a:pt x="0" y="21600"/>
                </a:lnTo>
                <a:close/>
              </a:path>
              <a:path fill="lightenLess" w="201270" h="21600">
                <a:moveTo>
                  <a:pt x="0" y="0"/>
                </a:moveTo>
                <a:lnTo>
                  <a:pt x="201270" y="0"/>
                </a:lnTo>
                <a:lnTo>
                  <a:pt x="199870" y="1400"/>
                </a:lnTo>
                <a:lnTo>
                  <a:pt x="1400" y="1400"/>
                </a:lnTo>
                <a:close/>
              </a:path>
              <a:path fill="darken" w="201270" h="21600">
                <a:moveTo>
                  <a:pt x="201270" y="0"/>
                </a:moveTo>
                <a:lnTo>
                  <a:pt x="201270" y="21600"/>
                </a:lnTo>
                <a:lnTo>
                  <a:pt x="199870" y="20200"/>
                </a:lnTo>
                <a:lnTo>
                  <a:pt x="199870" y="1400"/>
                </a:lnTo>
                <a:close/>
              </a:path>
              <a:path fill="darkenLess" w="201270" h="21600">
                <a:moveTo>
                  <a:pt x="201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9870" y="20200"/>
                </a:lnTo>
                <a:close/>
              </a:path>
              <a:path fill="lighten" w="201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b2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Расходы бюджета района по Главны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распорядителям бюджетных сред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981000"/>
            <a:ext cx="5219640" cy="863640"/>
          </a:xfrm>
          <a:custGeom>
            <a:avLst/>
            <a:gdLst>
              <a:gd name="textAreaLeft" fmla="*/ 55800 w 5219640"/>
              <a:gd name="textAreaRight" fmla="*/ 5163840 w 5219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130500" h="21600">
                <a:moveTo>
                  <a:pt x="0" y="0"/>
                </a:moveTo>
                <a:lnTo>
                  <a:pt x="130500" y="0"/>
                </a:lnTo>
                <a:lnTo>
                  <a:pt x="130500" y="21600"/>
                </a:lnTo>
                <a:lnTo>
                  <a:pt x="0" y="21600"/>
                </a:lnTo>
                <a:close/>
              </a:path>
              <a:path fill="lightenLess" w="130500" h="21600">
                <a:moveTo>
                  <a:pt x="0" y="0"/>
                </a:moveTo>
                <a:lnTo>
                  <a:pt x="130500" y="0"/>
                </a:lnTo>
                <a:lnTo>
                  <a:pt x="129100" y="1400"/>
                </a:lnTo>
                <a:lnTo>
                  <a:pt x="1400" y="1400"/>
                </a:lnTo>
                <a:close/>
              </a:path>
              <a:path fill="darken" w="130500" h="21600">
                <a:moveTo>
                  <a:pt x="130500" y="0"/>
                </a:moveTo>
                <a:lnTo>
                  <a:pt x="130500" y="21600"/>
                </a:lnTo>
                <a:lnTo>
                  <a:pt x="129100" y="20200"/>
                </a:lnTo>
                <a:lnTo>
                  <a:pt x="129100" y="1400"/>
                </a:lnTo>
                <a:close/>
              </a:path>
              <a:path fill="darkenLess" w="130500" h="21600">
                <a:moveTo>
                  <a:pt x="1305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9100" y="20200"/>
                </a:lnTo>
                <a:close/>
              </a:path>
              <a:path fill="lighten" w="1305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Наименование показате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812000" y="981000"/>
            <a:ext cx="1332000" cy="863640"/>
          </a:xfrm>
          <a:custGeom>
            <a:avLst/>
            <a:gdLst>
              <a:gd name="textAreaLeft" fmla="*/ 55800 w 1332000"/>
              <a:gd name="textAreaRight" fmla="*/ 1276200 w 133200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33309" h="21600">
                <a:moveTo>
                  <a:pt x="0" y="0"/>
                </a:moveTo>
                <a:lnTo>
                  <a:pt x="33309" y="0"/>
                </a:lnTo>
                <a:lnTo>
                  <a:pt x="33309" y="21600"/>
                </a:lnTo>
                <a:lnTo>
                  <a:pt x="0" y="21600"/>
                </a:lnTo>
                <a:close/>
              </a:path>
              <a:path fill="lightenLess" w="33309" h="21600">
                <a:moveTo>
                  <a:pt x="0" y="0"/>
                </a:moveTo>
                <a:lnTo>
                  <a:pt x="33309" y="0"/>
                </a:lnTo>
                <a:lnTo>
                  <a:pt x="31909" y="1400"/>
                </a:lnTo>
                <a:lnTo>
                  <a:pt x="1400" y="1400"/>
                </a:lnTo>
                <a:close/>
              </a:path>
              <a:path fill="darken" w="33309" h="21600">
                <a:moveTo>
                  <a:pt x="33309" y="0"/>
                </a:moveTo>
                <a:lnTo>
                  <a:pt x="33309" y="21600"/>
                </a:lnTo>
                <a:lnTo>
                  <a:pt x="31909" y="20200"/>
                </a:lnTo>
                <a:lnTo>
                  <a:pt x="31909" y="1400"/>
                </a:lnTo>
                <a:close/>
              </a:path>
              <a:path fill="darkenLess" w="33309" h="21600">
                <a:moveTo>
                  <a:pt x="33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09" y="20200"/>
                </a:lnTo>
                <a:close/>
              </a:path>
              <a:path fill="lighten" w="33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b2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лан 2018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год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тыс.руб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516720" y="981000"/>
            <a:ext cx="1297080" cy="863640"/>
          </a:xfrm>
          <a:custGeom>
            <a:avLst/>
            <a:gdLst>
              <a:gd name="textAreaLeft" fmla="*/ 55800 w 1297080"/>
              <a:gd name="textAreaRight" fmla="*/ 1241280 w 129708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32436" h="21600">
                <a:moveTo>
                  <a:pt x="0" y="0"/>
                </a:moveTo>
                <a:lnTo>
                  <a:pt x="32436" y="0"/>
                </a:lnTo>
                <a:lnTo>
                  <a:pt x="32436" y="21600"/>
                </a:lnTo>
                <a:lnTo>
                  <a:pt x="0" y="21600"/>
                </a:lnTo>
                <a:close/>
              </a:path>
              <a:path fill="lightenLess" w="32436" h="21600">
                <a:moveTo>
                  <a:pt x="0" y="0"/>
                </a:moveTo>
                <a:lnTo>
                  <a:pt x="32436" y="0"/>
                </a:lnTo>
                <a:lnTo>
                  <a:pt x="31036" y="1400"/>
                </a:lnTo>
                <a:lnTo>
                  <a:pt x="1400" y="1400"/>
                </a:lnTo>
                <a:close/>
              </a:path>
              <a:path fill="darken" w="32436" h="21600">
                <a:moveTo>
                  <a:pt x="32436" y="0"/>
                </a:moveTo>
                <a:lnTo>
                  <a:pt x="32436" y="21600"/>
                </a:lnTo>
                <a:lnTo>
                  <a:pt x="31036" y="20200"/>
                </a:lnTo>
                <a:lnTo>
                  <a:pt x="31036" y="1400"/>
                </a:lnTo>
                <a:close/>
              </a:path>
              <a:path fill="darkenLess" w="32436" h="21600">
                <a:moveTo>
                  <a:pt x="32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36" y="20200"/>
                </a:lnTo>
                <a:close/>
              </a:path>
              <a:path fill="lighten" w="32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лан 2017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год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тыс.руб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219640" y="981000"/>
            <a:ext cx="1297080" cy="863640"/>
          </a:xfrm>
          <a:custGeom>
            <a:avLst/>
            <a:gdLst>
              <a:gd name="textAreaLeft" fmla="*/ 55800 w 1297080"/>
              <a:gd name="textAreaRight" fmla="*/ 1241280 w 129708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32436" h="21600">
                <a:moveTo>
                  <a:pt x="0" y="0"/>
                </a:moveTo>
                <a:lnTo>
                  <a:pt x="32436" y="0"/>
                </a:lnTo>
                <a:lnTo>
                  <a:pt x="32436" y="21600"/>
                </a:lnTo>
                <a:lnTo>
                  <a:pt x="0" y="21600"/>
                </a:lnTo>
                <a:close/>
              </a:path>
              <a:path fill="lightenLess" w="32436" h="21600">
                <a:moveTo>
                  <a:pt x="0" y="0"/>
                </a:moveTo>
                <a:lnTo>
                  <a:pt x="32436" y="0"/>
                </a:lnTo>
                <a:lnTo>
                  <a:pt x="31036" y="1400"/>
                </a:lnTo>
                <a:lnTo>
                  <a:pt x="1400" y="1400"/>
                </a:lnTo>
                <a:close/>
              </a:path>
              <a:path fill="darken" w="32436" h="21600">
                <a:moveTo>
                  <a:pt x="32436" y="0"/>
                </a:moveTo>
                <a:lnTo>
                  <a:pt x="32436" y="21600"/>
                </a:lnTo>
                <a:lnTo>
                  <a:pt x="31036" y="20200"/>
                </a:lnTo>
                <a:lnTo>
                  <a:pt x="31036" y="1400"/>
                </a:lnTo>
                <a:close/>
              </a:path>
              <a:path fill="darkenLess" w="32436" h="21600">
                <a:moveTo>
                  <a:pt x="32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36" y="20200"/>
                </a:lnTo>
                <a:close/>
              </a:path>
              <a:path fill="lighten" w="32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b2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План 2016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год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тыс.руб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1844640"/>
            <a:ext cx="5219640" cy="720720"/>
          </a:xfrm>
          <a:custGeom>
            <a:avLst/>
            <a:gdLst>
              <a:gd name="textAreaLeft" fmla="*/ 46440 w 5219640"/>
              <a:gd name="textAreaRight" fmla="*/ 5173200 w 5219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56365" h="21600">
                <a:moveTo>
                  <a:pt x="0" y="0"/>
                </a:moveTo>
                <a:lnTo>
                  <a:pt x="156365" y="0"/>
                </a:lnTo>
                <a:lnTo>
                  <a:pt x="156365" y="21600"/>
                </a:lnTo>
                <a:lnTo>
                  <a:pt x="0" y="21600"/>
                </a:lnTo>
                <a:close/>
              </a:path>
              <a:path fill="lightenLess" w="156365" h="21600">
                <a:moveTo>
                  <a:pt x="0" y="0"/>
                </a:moveTo>
                <a:lnTo>
                  <a:pt x="156365" y="0"/>
                </a:lnTo>
                <a:lnTo>
                  <a:pt x="154966" y="1400"/>
                </a:lnTo>
                <a:lnTo>
                  <a:pt x="1400" y="1400"/>
                </a:lnTo>
                <a:close/>
              </a:path>
              <a:path fill="darken" w="156365" h="21600">
                <a:moveTo>
                  <a:pt x="156365" y="0"/>
                </a:moveTo>
                <a:lnTo>
                  <a:pt x="156365" y="21600"/>
                </a:lnTo>
                <a:lnTo>
                  <a:pt x="154966" y="20200"/>
                </a:lnTo>
                <a:lnTo>
                  <a:pt x="154966" y="1400"/>
                </a:lnTo>
                <a:close/>
              </a:path>
              <a:path fill="darkenLess" w="156365" h="21600">
                <a:moveTo>
                  <a:pt x="156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4966" y="20200"/>
                </a:lnTo>
                <a:close/>
              </a:path>
              <a:path fill="lighten" w="156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b2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дминистрация Зырянского район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омской обла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2565360"/>
            <a:ext cx="5219640" cy="720720"/>
          </a:xfrm>
          <a:custGeom>
            <a:avLst/>
            <a:gdLst>
              <a:gd name="textAreaLeft" fmla="*/ 46440 w 5219640"/>
              <a:gd name="textAreaRight" fmla="*/ 5173200 w 5219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56365" h="21600">
                <a:moveTo>
                  <a:pt x="0" y="0"/>
                </a:moveTo>
                <a:lnTo>
                  <a:pt x="156365" y="0"/>
                </a:lnTo>
                <a:lnTo>
                  <a:pt x="156365" y="21600"/>
                </a:lnTo>
                <a:lnTo>
                  <a:pt x="0" y="21600"/>
                </a:lnTo>
                <a:close/>
              </a:path>
              <a:path fill="lightenLess" w="156365" h="21600">
                <a:moveTo>
                  <a:pt x="0" y="0"/>
                </a:moveTo>
                <a:lnTo>
                  <a:pt x="156365" y="0"/>
                </a:lnTo>
                <a:lnTo>
                  <a:pt x="154966" y="1400"/>
                </a:lnTo>
                <a:lnTo>
                  <a:pt x="1400" y="1400"/>
                </a:lnTo>
                <a:close/>
              </a:path>
              <a:path fill="darken" w="156365" h="21600">
                <a:moveTo>
                  <a:pt x="156365" y="0"/>
                </a:moveTo>
                <a:lnTo>
                  <a:pt x="156365" y="21600"/>
                </a:lnTo>
                <a:lnTo>
                  <a:pt x="154966" y="20200"/>
                </a:lnTo>
                <a:lnTo>
                  <a:pt x="154966" y="1400"/>
                </a:lnTo>
                <a:close/>
              </a:path>
              <a:path fill="darkenLess" w="156365" h="21600">
                <a:moveTo>
                  <a:pt x="156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4966" y="20200"/>
                </a:lnTo>
                <a:close/>
              </a:path>
              <a:path fill="lighten" w="156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Управление образования Администраци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Зырянского рай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3284640"/>
            <a:ext cx="5219640" cy="720720"/>
          </a:xfrm>
          <a:custGeom>
            <a:avLst/>
            <a:gdLst>
              <a:gd name="textAreaLeft" fmla="*/ 46440 w 5219640"/>
              <a:gd name="textAreaRight" fmla="*/ 5173200 w 5219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56365" h="21600">
                <a:moveTo>
                  <a:pt x="0" y="0"/>
                </a:moveTo>
                <a:lnTo>
                  <a:pt x="156365" y="0"/>
                </a:lnTo>
                <a:lnTo>
                  <a:pt x="156365" y="21600"/>
                </a:lnTo>
                <a:lnTo>
                  <a:pt x="0" y="21600"/>
                </a:lnTo>
                <a:close/>
              </a:path>
              <a:path fill="lightenLess" w="156365" h="21600">
                <a:moveTo>
                  <a:pt x="0" y="0"/>
                </a:moveTo>
                <a:lnTo>
                  <a:pt x="156365" y="0"/>
                </a:lnTo>
                <a:lnTo>
                  <a:pt x="154966" y="1400"/>
                </a:lnTo>
                <a:lnTo>
                  <a:pt x="1400" y="1400"/>
                </a:lnTo>
                <a:close/>
              </a:path>
              <a:path fill="darken" w="156365" h="21600">
                <a:moveTo>
                  <a:pt x="156365" y="0"/>
                </a:moveTo>
                <a:lnTo>
                  <a:pt x="156365" y="21600"/>
                </a:lnTo>
                <a:lnTo>
                  <a:pt x="154966" y="20200"/>
                </a:lnTo>
                <a:lnTo>
                  <a:pt x="154966" y="1400"/>
                </a:lnTo>
                <a:close/>
              </a:path>
              <a:path fill="darkenLess" w="156365" h="21600">
                <a:moveTo>
                  <a:pt x="156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4966" y="20200"/>
                </a:lnTo>
                <a:close/>
              </a:path>
              <a:path fill="lighten" w="156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b2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Управление по распоряжени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униципальным имуществом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дминистрации Зырянского рай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4005360"/>
            <a:ext cx="5219640" cy="720720"/>
          </a:xfrm>
          <a:custGeom>
            <a:avLst/>
            <a:gdLst>
              <a:gd name="textAreaLeft" fmla="*/ 46440 w 5219640"/>
              <a:gd name="textAreaRight" fmla="*/ 5173200 w 5219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56365" h="21600">
                <a:moveTo>
                  <a:pt x="0" y="0"/>
                </a:moveTo>
                <a:lnTo>
                  <a:pt x="156365" y="0"/>
                </a:lnTo>
                <a:lnTo>
                  <a:pt x="156365" y="21600"/>
                </a:lnTo>
                <a:lnTo>
                  <a:pt x="0" y="21600"/>
                </a:lnTo>
                <a:close/>
              </a:path>
              <a:path fill="lightenLess" w="156365" h="21600">
                <a:moveTo>
                  <a:pt x="0" y="0"/>
                </a:moveTo>
                <a:lnTo>
                  <a:pt x="156365" y="0"/>
                </a:lnTo>
                <a:lnTo>
                  <a:pt x="154966" y="1400"/>
                </a:lnTo>
                <a:lnTo>
                  <a:pt x="1400" y="1400"/>
                </a:lnTo>
                <a:close/>
              </a:path>
              <a:path fill="darken" w="156365" h="21600">
                <a:moveTo>
                  <a:pt x="156365" y="0"/>
                </a:moveTo>
                <a:lnTo>
                  <a:pt x="156365" y="21600"/>
                </a:lnTo>
                <a:lnTo>
                  <a:pt x="154966" y="20200"/>
                </a:lnTo>
                <a:lnTo>
                  <a:pt x="154966" y="1400"/>
                </a:lnTo>
                <a:close/>
              </a:path>
              <a:path fill="darkenLess" w="156365" h="21600">
                <a:moveTo>
                  <a:pt x="156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4966" y="20200"/>
                </a:lnTo>
                <a:close/>
              </a:path>
              <a:path fill="lighten" w="156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Управление финансов Администраци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Зырянского рай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0" y="4724280"/>
            <a:ext cx="5219640" cy="720720"/>
          </a:xfrm>
          <a:custGeom>
            <a:avLst/>
            <a:gdLst>
              <a:gd name="textAreaLeft" fmla="*/ 46440 w 5219640"/>
              <a:gd name="textAreaRight" fmla="*/ 5173200 w 5219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56365" h="21600">
                <a:moveTo>
                  <a:pt x="0" y="0"/>
                </a:moveTo>
                <a:lnTo>
                  <a:pt x="156365" y="0"/>
                </a:lnTo>
                <a:lnTo>
                  <a:pt x="156365" y="21600"/>
                </a:lnTo>
                <a:lnTo>
                  <a:pt x="0" y="21600"/>
                </a:lnTo>
                <a:close/>
              </a:path>
              <a:path fill="lightenLess" w="156365" h="21600">
                <a:moveTo>
                  <a:pt x="0" y="0"/>
                </a:moveTo>
                <a:lnTo>
                  <a:pt x="156365" y="0"/>
                </a:lnTo>
                <a:lnTo>
                  <a:pt x="154966" y="1400"/>
                </a:lnTo>
                <a:lnTo>
                  <a:pt x="1400" y="1400"/>
                </a:lnTo>
                <a:close/>
              </a:path>
              <a:path fill="darken" w="156365" h="21600">
                <a:moveTo>
                  <a:pt x="156365" y="0"/>
                </a:moveTo>
                <a:lnTo>
                  <a:pt x="156365" y="21600"/>
                </a:lnTo>
                <a:lnTo>
                  <a:pt x="154966" y="20200"/>
                </a:lnTo>
                <a:lnTo>
                  <a:pt x="154966" y="1400"/>
                </a:lnTo>
                <a:close/>
              </a:path>
              <a:path fill="darkenLess" w="156365" h="21600">
                <a:moveTo>
                  <a:pt x="156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4966" y="20200"/>
                </a:lnTo>
                <a:close/>
              </a:path>
              <a:path fill="lighten" w="156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b2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ума Зырянского рай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0" y="5445000"/>
            <a:ext cx="5219640" cy="720720"/>
          </a:xfrm>
          <a:custGeom>
            <a:avLst/>
            <a:gdLst>
              <a:gd name="textAreaLeft" fmla="*/ 46440 w 5219640"/>
              <a:gd name="textAreaRight" fmla="*/ 5173200 w 5219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56365" h="21600">
                <a:moveTo>
                  <a:pt x="0" y="0"/>
                </a:moveTo>
                <a:lnTo>
                  <a:pt x="156365" y="0"/>
                </a:lnTo>
                <a:lnTo>
                  <a:pt x="156365" y="21600"/>
                </a:lnTo>
                <a:lnTo>
                  <a:pt x="0" y="21600"/>
                </a:lnTo>
                <a:close/>
              </a:path>
              <a:path fill="lightenLess" w="156365" h="21600">
                <a:moveTo>
                  <a:pt x="0" y="0"/>
                </a:moveTo>
                <a:lnTo>
                  <a:pt x="156365" y="0"/>
                </a:lnTo>
                <a:lnTo>
                  <a:pt x="154966" y="1400"/>
                </a:lnTo>
                <a:lnTo>
                  <a:pt x="1400" y="1400"/>
                </a:lnTo>
                <a:close/>
              </a:path>
              <a:path fill="darken" w="156365" h="21600">
                <a:moveTo>
                  <a:pt x="156365" y="0"/>
                </a:moveTo>
                <a:lnTo>
                  <a:pt x="156365" y="21600"/>
                </a:lnTo>
                <a:lnTo>
                  <a:pt x="154966" y="20200"/>
                </a:lnTo>
                <a:lnTo>
                  <a:pt x="154966" y="1400"/>
                </a:lnTo>
                <a:close/>
              </a:path>
              <a:path fill="darkenLess" w="156365" h="21600">
                <a:moveTo>
                  <a:pt x="156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4966" y="20200"/>
                </a:lnTo>
                <a:close/>
              </a:path>
              <a:path fill="lighten" w="156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онтрольно-счетный орган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Зырянского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ай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6165720"/>
            <a:ext cx="5219640" cy="692280"/>
          </a:xfrm>
          <a:custGeom>
            <a:avLst/>
            <a:gdLst>
              <a:gd name="textAreaLeft" fmla="*/ 44640 w 5219640"/>
              <a:gd name="textAreaRight" fmla="*/ 5175000 w 5219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162786" h="21600">
                <a:moveTo>
                  <a:pt x="0" y="0"/>
                </a:moveTo>
                <a:lnTo>
                  <a:pt x="162786" y="0"/>
                </a:lnTo>
                <a:lnTo>
                  <a:pt x="162786" y="21600"/>
                </a:lnTo>
                <a:lnTo>
                  <a:pt x="0" y="21600"/>
                </a:lnTo>
                <a:close/>
              </a:path>
              <a:path fill="lightenLess" w="162786" h="21600">
                <a:moveTo>
                  <a:pt x="0" y="0"/>
                </a:moveTo>
                <a:lnTo>
                  <a:pt x="162786" y="0"/>
                </a:lnTo>
                <a:lnTo>
                  <a:pt x="161386" y="1400"/>
                </a:lnTo>
                <a:lnTo>
                  <a:pt x="1400" y="1400"/>
                </a:lnTo>
                <a:close/>
              </a:path>
              <a:path fill="darken" w="162786" h="21600">
                <a:moveTo>
                  <a:pt x="162786" y="0"/>
                </a:moveTo>
                <a:lnTo>
                  <a:pt x="162786" y="21600"/>
                </a:lnTo>
                <a:lnTo>
                  <a:pt x="161386" y="20200"/>
                </a:lnTo>
                <a:lnTo>
                  <a:pt x="161386" y="1400"/>
                </a:lnTo>
                <a:close/>
              </a:path>
              <a:path fill="darkenLess" w="162786" h="21600">
                <a:moveTo>
                  <a:pt x="162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1386" y="20200"/>
                </a:lnTo>
                <a:close/>
              </a:path>
              <a:path fill="lighten" w="162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b2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Итог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219640" y="1844640"/>
            <a:ext cx="1297080" cy="720720"/>
          </a:xfrm>
          <a:custGeom>
            <a:avLst/>
            <a:gdLst>
              <a:gd name="textAreaLeft" fmla="*/ 46440 w 1297080"/>
              <a:gd name="textAreaRight" fmla="*/ 1250640 w 12970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8865" h="21600">
                <a:moveTo>
                  <a:pt x="0" y="0"/>
                </a:moveTo>
                <a:lnTo>
                  <a:pt x="38865" y="0"/>
                </a:lnTo>
                <a:lnTo>
                  <a:pt x="38865" y="21600"/>
                </a:lnTo>
                <a:lnTo>
                  <a:pt x="0" y="21600"/>
                </a:lnTo>
                <a:close/>
              </a:path>
              <a:path fill="lightenLess" w="38865" h="21600">
                <a:moveTo>
                  <a:pt x="0" y="0"/>
                </a:moveTo>
                <a:lnTo>
                  <a:pt x="38865" y="0"/>
                </a:lnTo>
                <a:lnTo>
                  <a:pt x="37465" y="1400"/>
                </a:lnTo>
                <a:lnTo>
                  <a:pt x="1400" y="1400"/>
                </a:lnTo>
                <a:close/>
              </a:path>
              <a:path fill="darken" w="38865" h="21600">
                <a:moveTo>
                  <a:pt x="38865" y="0"/>
                </a:moveTo>
                <a:lnTo>
                  <a:pt x="38865" y="21600"/>
                </a:lnTo>
                <a:lnTo>
                  <a:pt x="37465" y="20200"/>
                </a:lnTo>
                <a:lnTo>
                  <a:pt x="37465" y="1400"/>
                </a:lnTo>
                <a:close/>
              </a:path>
              <a:path fill="darkenLess" w="38865" h="21600">
                <a:moveTo>
                  <a:pt x="38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5" y="20200"/>
                </a:lnTo>
                <a:close/>
              </a:path>
              <a:path fill="lighten" w="38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50 9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219640" y="2565360"/>
            <a:ext cx="1297080" cy="719280"/>
          </a:xfrm>
          <a:custGeom>
            <a:avLst/>
            <a:gdLst>
              <a:gd name="textAreaLeft" fmla="*/ 46440 w 1297080"/>
              <a:gd name="textAreaRight" fmla="*/ 1250640 w 12970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8943" h="21600">
                <a:moveTo>
                  <a:pt x="0" y="0"/>
                </a:moveTo>
                <a:lnTo>
                  <a:pt x="38943" y="0"/>
                </a:lnTo>
                <a:lnTo>
                  <a:pt x="38943" y="21600"/>
                </a:lnTo>
                <a:lnTo>
                  <a:pt x="0" y="21600"/>
                </a:lnTo>
                <a:close/>
              </a:path>
              <a:path fill="lightenLess" w="38943" h="21600">
                <a:moveTo>
                  <a:pt x="0" y="0"/>
                </a:moveTo>
                <a:lnTo>
                  <a:pt x="38943" y="0"/>
                </a:lnTo>
                <a:lnTo>
                  <a:pt x="37543" y="1400"/>
                </a:lnTo>
                <a:lnTo>
                  <a:pt x="1400" y="1400"/>
                </a:lnTo>
                <a:close/>
              </a:path>
              <a:path fill="darken" w="38943" h="21600">
                <a:moveTo>
                  <a:pt x="38943" y="0"/>
                </a:moveTo>
                <a:lnTo>
                  <a:pt x="38943" y="21600"/>
                </a:lnTo>
                <a:lnTo>
                  <a:pt x="37543" y="20200"/>
                </a:lnTo>
                <a:lnTo>
                  <a:pt x="37543" y="1400"/>
                </a:lnTo>
                <a:close/>
              </a:path>
              <a:path fill="darkenLess" w="38943" h="21600">
                <a:moveTo>
                  <a:pt x="389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43" y="20200"/>
                </a:lnTo>
                <a:close/>
              </a:path>
              <a:path fill="lighten" w="389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b2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05 37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219640" y="3284640"/>
            <a:ext cx="1297080" cy="718920"/>
          </a:xfrm>
          <a:custGeom>
            <a:avLst/>
            <a:gdLst>
              <a:gd name="textAreaLeft" fmla="*/ 46440 w 1297080"/>
              <a:gd name="textAreaRight" fmla="*/ 1250640 w 1297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8962" h="21600">
                <a:moveTo>
                  <a:pt x="0" y="0"/>
                </a:moveTo>
                <a:lnTo>
                  <a:pt x="38962" y="0"/>
                </a:lnTo>
                <a:lnTo>
                  <a:pt x="38962" y="21600"/>
                </a:lnTo>
                <a:lnTo>
                  <a:pt x="0" y="21600"/>
                </a:lnTo>
                <a:close/>
              </a:path>
              <a:path fill="lightenLess" w="38962" h="21600">
                <a:moveTo>
                  <a:pt x="0" y="0"/>
                </a:moveTo>
                <a:lnTo>
                  <a:pt x="38962" y="0"/>
                </a:lnTo>
                <a:lnTo>
                  <a:pt x="37562" y="1400"/>
                </a:lnTo>
                <a:lnTo>
                  <a:pt x="1400" y="1400"/>
                </a:lnTo>
                <a:close/>
              </a:path>
              <a:path fill="darken" w="38962" h="21600">
                <a:moveTo>
                  <a:pt x="38962" y="0"/>
                </a:moveTo>
                <a:lnTo>
                  <a:pt x="38962" y="21600"/>
                </a:lnTo>
                <a:lnTo>
                  <a:pt x="37562" y="20200"/>
                </a:lnTo>
                <a:lnTo>
                  <a:pt x="37562" y="1400"/>
                </a:lnTo>
                <a:close/>
              </a:path>
              <a:path fill="darkenLess" w="38962" h="21600">
                <a:moveTo>
                  <a:pt x="389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62" y="20200"/>
                </a:lnTo>
                <a:close/>
              </a:path>
              <a:path fill="lighten" w="389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 8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219640" y="4005360"/>
            <a:ext cx="1297080" cy="718920"/>
          </a:xfrm>
          <a:custGeom>
            <a:avLst/>
            <a:gdLst>
              <a:gd name="textAreaLeft" fmla="*/ 46440 w 1297080"/>
              <a:gd name="textAreaRight" fmla="*/ 1250640 w 1297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8962" h="21600">
                <a:moveTo>
                  <a:pt x="0" y="0"/>
                </a:moveTo>
                <a:lnTo>
                  <a:pt x="38962" y="0"/>
                </a:lnTo>
                <a:lnTo>
                  <a:pt x="38962" y="21600"/>
                </a:lnTo>
                <a:lnTo>
                  <a:pt x="0" y="21600"/>
                </a:lnTo>
                <a:close/>
              </a:path>
              <a:path fill="lightenLess" w="38962" h="21600">
                <a:moveTo>
                  <a:pt x="0" y="0"/>
                </a:moveTo>
                <a:lnTo>
                  <a:pt x="38962" y="0"/>
                </a:lnTo>
                <a:lnTo>
                  <a:pt x="37562" y="1400"/>
                </a:lnTo>
                <a:lnTo>
                  <a:pt x="1400" y="1400"/>
                </a:lnTo>
                <a:close/>
              </a:path>
              <a:path fill="darken" w="38962" h="21600">
                <a:moveTo>
                  <a:pt x="38962" y="0"/>
                </a:moveTo>
                <a:lnTo>
                  <a:pt x="38962" y="21600"/>
                </a:lnTo>
                <a:lnTo>
                  <a:pt x="37562" y="20200"/>
                </a:lnTo>
                <a:lnTo>
                  <a:pt x="37562" y="1400"/>
                </a:lnTo>
                <a:close/>
              </a:path>
              <a:path fill="darkenLess" w="38962" h="21600">
                <a:moveTo>
                  <a:pt x="389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62" y="20200"/>
                </a:lnTo>
                <a:close/>
              </a:path>
              <a:path fill="lighten" w="389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b2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7 47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219640" y="4724280"/>
            <a:ext cx="1297080" cy="719280"/>
          </a:xfrm>
          <a:custGeom>
            <a:avLst/>
            <a:gdLst>
              <a:gd name="textAreaLeft" fmla="*/ 46440 w 1297080"/>
              <a:gd name="textAreaRight" fmla="*/ 1250640 w 12970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8943" h="21600">
                <a:moveTo>
                  <a:pt x="0" y="0"/>
                </a:moveTo>
                <a:lnTo>
                  <a:pt x="38943" y="0"/>
                </a:lnTo>
                <a:lnTo>
                  <a:pt x="38943" y="21600"/>
                </a:lnTo>
                <a:lnTo>
                  <a:pt x="0" y="21600"/>
                </a:lnTo>
                <a:close/>
              </a:path>
              <a:path fill="lightenLess" w="38943" h="21600">
                <a:moveTo>
                  <a:pt x="0" y="0"/>
                </a:moveTo>
                <a:lnTo>
                  <a:pt x="38943" y="0"/>
                </a:lnTo>
                <a:lnTo>
                  <a:pt x="37543" y="1400"/>
                </a:lnTo>
                <a:lnTo>
                  <a:pt x="1400" y="1400"/>
                </a:lnTo>
                <a:close/>
              </a:path>
              <a:path fill="darken" w="38943" h="21600">
                <a:moveTo>
                  <a:pt x="38943" y="0"/>
                </a:moveTo>
                <a:lnTo>
                  <a:pt x="38943" y="21600"/>
                </a:lnTo>
                <a:lnTo>
                  <a:pt x="37543" y="20200"/>
                </a:lnTo>
                <a:lnTo>
                  <a:pt x="37543" y="1400"/>
                </a:lnTo>
                <a:close/>
              </a:path>
              <a:path fill="darkenLess" w="38943" h="21600">
                <a:moveTo>
                  <a:pt x="389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43" y="20200"/>
                </a:lnTo>
                <a:close/>
              </a:path>
              <a:path fill="lighten" w="389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8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219640" y="5445000"/>
            <a:ext cx="1297080" cy="719280"/>
          </a:xfrm>
          <a:custGeom>
            <a:avLst/>
            <a:gdLst>
              <a:gd name="textAreaLeft" fmla="*/ 46440 w 1297080"/>
              <a:gd name="textAreaRight" fmla="*/ 1250640 w 12970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8943" h="21600">
                <a:moveTo>
                  <a:pt x="0" y="0"/>
                </a:moveTo>
                <a:lnTo>
                  <a:pt x="38943" y="0"/>
                </a:lnTo>
                <a:lnTo>
                  <a:pt x="38943" y="21600"/>
                </a:lnTo>
                <a:lnTo>
                  <a:pt x="0" y="21600"/>
                </a:lnTo>
                <a:close/>
              </a:path>
              <a:path fill="lightenLess" w="38943" h="21600">
                <a:moveTo>
                  <a:pt x="0" y="0"/>
                </a:moveTo>
                <a:lnTo>
                  <a:pt x="38943" y="0"/>
                </a:lnTo>
                <a:lnTo>
                  <a:pt x="37543" y="1400"/>
                </a:lnTo>
                <a:lnTo>
                  <a:pt x="1400" y="1400"/>
                </a:lnTo>
                <a:close/>
              </a:path>
              <a:path fill="darken" w="38943" h="21600">
                <a:moveTo>
                  <a:pt x="38943" y="0"/>
                </a:moveTo>
                <a:lnTo>
                  <a:pt x="38943" y="21600"/>
                </a:lnTo>
                <a:lnTo>
                  <a:pt x="37543" y="20200"/>
                </a:lnTo>
                <a:lnTo>
                  <a:pt x="37543" y="1400"/>
                </a:lnTo>
                <a:close/>
              </a:path>
              <a:path fill="darkenLess" w="38943" h="21600">
                <a:moveTo>
                  <a:pt x="389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43" y="20200"/>
                </a:lnTo>
                <a:close/>
              </a:path>
              <a:path fill="lighten" w="389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b2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 02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219640" y="6165720"/>
            <a:ext cx="1297080" cy="692280"/>
          </a:xfrm>
          <a:custGeom>
            <a:avLst/>
            <a:gdLst>
              <a:gd name="textAreaLeft" fmla="*/ 44640 w 1297080"/>
              <a:gd name="textAreaRight" fmla="*/ 1252440 w 129708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0461" h="21600">
                <a:moveTo>
                  <a:pt x="0" y="0"/>
                </a:moveTo>
                <a:lnTo>
                  <a:pt x="40461" y="0"/>
                </a:lnTo>
                <a:lnTo>
                  <a:pt x="40461" y="21600"/>
                </a:lnTo>
                <a:lnTo>
                  <a:pt x="0" y="21600"/>
                </a:lnTo>
                <a:close/>
              </a:path>
              <a:path fill="lightenLess" w="40461" h="21600">
                <a:moveTo>
                  <a:pt x="0" y="0"/>
                </a:moveTo>
                <a:lnTo>
                  <a:pt x="40461" y="0"/>
                </a:lnTo>
                <a:lnTo>
                  <a:pt x="39061" y="1400"/>
                </a:lnTo>
                <a:lnTo>
                  <a:pt x="1400" y="1400"/>
                </a:lnTo>
                <a:close/>
              </a:path>
              <a:path fill="darken" w="40461" h="21600">
                <a:moveTo>
                  <a:pt x="40461" y="0"/>
                </a:moveTo>
                <a:lnTo>
                  <a:pt x="40461" y="21600"/>
                </a:lnTo>
                <a:lnTo>
                  <a:pt x="39061" y="20200"/>
                </a:lnTo>
                <a:lnTo>
                  <a:pt x="39061" y="1400"/>
                </a:lnTo>
                <a:close/>
              </a:path>
              <a:path fill="darkenLess" w="40461" h="21600">
                <a:moveTo>
                  <a:pt x="404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61" y="20200"/>
                </a:lnTo>
                <a:close/>
              </a:path>
              <a:path fill="lighten" w="404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b2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427 07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16720" y="1844640"/>
            <a:ext cx="1297080" cy="720720"/>
          </a:xfrm>
          <a:custGeom>
            <a:avLst/>
            <a:gdLst>
              <a:gd name="textAreaLeft" fmla="*/ 46440 w 1297080"/>
              <a:gd name="textAreaRight" fmla="*/ 1250640 w 12970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8865" h="21600">
                <a:moveTo>
                  <a:pt x="0" y="0"/>
                </a:moveTo>
                <a:lnTo>
                  <a:pt x="38865" y="0"/>
                </a:lnTo>
                <a:lnTo>
                  <a:pt x="38865" y="21600"/>
                </a:lnTo>
                <a:lnTo>
                  <a:pt x="0" y="21600"/>
                </a:lnTo>
                <a:close/>
              </a:path>
              <a:path fill="lightenLess" w="38865" h="21600">
                <a:moveTo>
                  <a:pt x="0" y="0"/>
                </a:moveTo>
                <a:lnTo>
                  <a:pt x="38865" y="0"/>
                </a:lnTo>
                <a:lnTo>
                  <a:pt x="37465" y="1400"/>
                </a:lnTo>
                <a:lnTo>
                  <a:pt x="1400" y="1400"/>
                </a:lnTo>
                <a:close/>
              </a:path>
              <a:path fill="darken" w="38865" h="21600">
                <a:moveTo>
                  <a:pt x="38865" y="0"/>
                </a:moveTo>
                <a:lnTo>
                  <a:pt x="38865" y="21600"/>
                </a:lnTo>
                <a:lnTo>
                  <a:pt x="37465" y="20200"/>
                </a:lnTo>
                <a:lnTo>
                  <a:pt x="37465" y="1400"/>
                </a:lnTo>
                <a:close/>
              </a:path>
              <a:path fill="darkenLess" w="38865" h="21600">
                <a:moveTo>
                  <a:pt x="38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5" y="20200"/>
                </a:lnTo>
                <a:close/>
              </a:path>
              <a:path fill="lighten" w="38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b2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29 15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516720" y="2565360"/>
            <a:ext cx="1297080" cy="720720"/>
          </a:xfrm>
          <a:custGeom>
            <a:avLst/>
            <a:gdLst>
              <a:gd name="textAreaLeft" fmla="*/ 46440 w 1297080"/>
              <a:gd name="textAreaRight" fmla="*/ 1250640 w 12970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8865" h="21600">
                <a:moveTo>
                  <a:pt x="0" y="0"/>
                </a:moveTo>
                <a:lnTo>
                  <a:pt x="38865" y="0"/>
                </a:lnTo>
                <a:lnTo>
                  <a:pt x="38865" y="21600"/>
                </a:lnTo>
                <a:lnTo>
                  <a:pt x="0" y="21600"/>
                </a:lnTo>
                <a:close/>
              </a:path>
              <a:path fill="lightenLess" w="38865" h="21600">
                <a:moveTo>
                  <a:pt x="0" y="0"/>
                </a:moveTo>
                <a:lnTo>
                  <a:pt x="38865" y="0"/>
                </a:lnTo>
                <a:lnTo>
                  <a:pt x="37465" y="1400"/>
                </a:lnTo>
                <a:lnTo>
                  <a:pt x="1400" y="1400"/>
                </a:lnTo>
                <a:close/>
              </a:path>
              <a:path fill="darken" w="38865" h="21600">
                <a:moveTo>
                  <a:pt x="38865" y="0"/>
                </a:moveTo>
                <a:lnTo>
                  <a:pt x="38865" y="21600"/>
                </a:lnTo>
                <a:lnTo>
                  <a:pt x="37465" y="20200"/>
                </a:lnTo>
                <a:lnTo>
                  <a:pt x="37465" y="1400"/>
                </a:lnTo>
                <a:close/>
              </a:path>
              <a:path fill="darkenLess" w="38865" h="21600">
                <a:moveTo>
                  <a:pt x="38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5" y="20200"/>
                </a:lnTo>
                <a:close/>
              </a:path>
              <a:path fill="lighten" w="38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99 36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516720" y="3284640"/>
            <a:ext cx="1297080" cy="720720"/>
          </a:xfrm>
          <a:custGeom>
            <a:avLst/>
            <a:gdLst>
              <a:gd name="textAreaLeft" fmla="*/ 46440 w 1297080"/>
              <a:gd name="textAreaRight" fmla="*/ 1250640 w 12970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8865" h="21600">
                <a:moveTo>
                  <a:pt x="0" y="0"/>
                </a:moveTo>
                <a:lnTo>
                  <a:pt x="38865" y="0"/>
                </a:lnTo>
                <a:lnTo>
                  <a:pt x="38865" y="21600"/>
                </a:lnTo>
                <a:lnTo>
                  <a:pt x="0" y="21600"/>
                </a:lnTo>
                <a:close/>
              </a:path>
              <a:path fill="lightenLess" w="38865" h="21600">
                <a:moveTo>
                  <a:pt x="0" y="0"/>
                </a:moveTo>
                <a:lnTo>
                  <a:pt x="38865" y="0"/>
                </a:lnTo>
                <a:lnTo>
                  <a:pt x="37465" y="1400"/>
                </a:lnTo>
                <a:lnTo>
                  <a:pt x="1400" y="1400"/>
                </a:lnTo>
                <a:close/>
              </a:path>
              <a:path fill="darken" w="38865" h="21600">
                <a:moveTo>
                  <a:pt x="38865" y="0"/>
                </a:moveTo>
                <a:lnTo>
                  <a:pt x="38865" y="21600"/>
                </a:lnTo>
                <a:lnTo>
                  <a:pt x="37465" y="20200"/>
                </a:lnTo>
                <a:lnTo>
                  <a:pt x="37465" y="1400"/>
                </a:lnTo>
                <a:close/>
              </a:path>
              <a:path fill="darkenLess" w="38865" h="21600">
                <a:moveTo>
                  <a:pt x="38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5" y="20200"/>
                </a:lnTo>
                <a:close/>
              </a:path>
              <a:path fill="lighten" w="38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b2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 78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516720" y="4005360"/>
            <a:ext cx="1297080" cy="720720"/>
          </a:xfrm>
          <a:custGeom>
            <a:avLst/>
            <a:gdLst>
              <a:gd name="textAreaLeft" fmla="*/ 46440 w 1297080"/>
              <a:gd name="textAreaRight" fmla="*/ 1250640 w 12970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8865" h="21600">
                <a:moveTo>
                  <a:pt x="0" y="0"/>
                </a:moveTo>
                <a:lnTo>
                  <a:pt x="38865" y="0"/>
                </a:lnTo>
                <a:lnTo>
                  <a:pt x="38865" y="21600"/>
                </a:lnTo>
                <a:lnTo>
                  <a:pt x="0" y="21600"/>
                </a:lnTo>
                <a:close/>
              </a:path>
              <a:path fill="lightenLess" w="38865" h="21600">
                <a:moveTo>
                  <a:pt x="0" y="0"/>
                </a:moveTo>
                <a:lnTo>
                  <a:pt x="38865" y="0"/>
                </a:lnTo>
                <a:lnTo>
                  <a:pt x="37465" y="1400"/>
                </a:lnTo>
                <a:lnTo>
                  <a:pt x="1400" y="1400"/>
                </a:lnTo>
                <a:close/>
              </a:path>
              <a:path fill="darken" w="38865" h="21600">
                <a:moveTo>
                  <a:pt x="38865" y="0"/>
                </a:moveTo>
                <a:lnTo>
                  <a:pt x="38865" y="21600"/>
                </a:lnTo>
                <a:lnTo>
                  <a:pt x="37465" y="20200"/>
                </a:lnTo>
                <a:lnTo>
                  <a:pt x="37465" y="1400"/>
                </a:lnTo>
                <a:close/>
              </a:path>
              <a:path fill="darkenLess" w="38865" h="21600">
                <a:moveTo>
                  <a:pt x="38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5" y="20200"/>
                </a:lnTo>
                <a:close/>
              </a:path>
              <a:path fill="lighten" w="38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46 16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516720" y="4724280"/>
            <a:ext cx="1297080" cy="720720"/>
          </a:xfrm>
          <a:custGeom>
            <a:avLst/>
            <a:gdLst>
              <a:gd name="textAreaLeft" fmla="*/ 46440 w 1297080"/>
              <a:gd name="textAreaRight" fmla="*/ 1250640 w 12970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8865" h="21600">
                <a:moveTo>
                  <a:pt x="0" y="0"/>
                </a:moveTo>
                <a:lnTo>
                  <a:pt x="38865" y="0"/>
                </a:lnTo>
                <a:lnTo>
                  <a:pt x="38865" y="21600"/>
                </a:lnTo>
                <a:lnTo>
                  <a:pt x="0" y="21600"/>
                </a:lnTo>
                <a:close/>
              </a:path>
              <a:path fill="lightenLess" w="38865" h="21600">
                <a:moveTo>
                  <a:pt x="0" y="0"/>
                </a:moveTo>
                <a:lnTo>
                  <a:pt x="38865" y="0"/>
                </a:lnTo>
                <a:lnTo>
                  <a:pt x="37465" y="1400"/>
                </a:lnTo>
                <a:lnTo>
                  <a:pt x="1400" y="1400"/>
                </a:lnTo>
                <a:close/>
              </a:path>
              <a:path fill="darken" w="38865" h="21600">
                <a:moveTo>
                  <a:pt x="38865" y="0"/>
                </a:moveTo>
                <a:lnTo>
                  <a:pt x="38865" y="21600"/>
                </a:lnTo>
                <a:lnTo>
                  <a:pt x="37465" y="20200"/>
                </a:lnTo>
                <a:lnTo>
                  <a:pt x="37465" y="1400"/>
                </a:lnTo>
                <a:close/>
              </a:path>
              <a:path fill="darkenLess" w="38865" h="21600">
                <a:moveTo>
                  <a:pt x="38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5" y="20200"/>
                </a:lnTo>
                <a:close/>
              </a:path>
              <a:path fill="lighten" w="38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b2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48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516720" y="5445000"/>
            <a:ext cx="1297080" cy="720720"/>
          </a:xfrm>
          <a:custGeom>
            <a:avLst/>
            <a:gdLst>
              <a:gd name="textAreaLeft" fmla="*/ 46440 w 1297080"/>
              <a:gd name="textAreaRight" fmla="*/ 1250640 w 12970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8865" h="21600">
                <a:moveTo>
                  <a:pt x="0" y="0"/>
                </a:moveTo>
                <a:lnTo>
                  <a:pt x="38865" y="0"/>
                </a:lnTo>
                <a:lnTo>
                  <a:pt x="38865" y="21600"/>
                </a:lnTo>
                <a:lnTo>
                  <a:pt x="0" y="21600"/>
                </a:lnTo>
                <a:close/>
              </a:path>
              <a:path fill="lightenLess" w="38865" h="21600">
                <a:moveTo>
                  <a:pt x="0" y="0"/>
                </a:moveTo>
                <a:lnTo>
                  <a:pt x="38865" y="0"/>
                </a:lnTo>
                <a:lnTo>
                  <a:pt x="37465" y="1400"/>
                </a:lnTo>
                <a:lnTo>
                  <a:pt x="1400" y="1400"/>
                </a:lnTo>
                <a:close/>
              </a:path>
              <a:path fill="darken" w="38865" h="21600">
                <a:moveTo>
                  <a:pt x="38865" y="0"/>
                </a:moveTo>
                <a:lnTo>
                  <a:pt x="38865" y="21600"/>
                </a:lnTo>
                <a:lnTo>
                  <a:pt x="37465" y="20200"/>
                </a:lnTo>
                <a:lnTo>
                  <a:pt x="37465" y="1400"/>
                </a:lnTo>
                <a:close/>
              </a:path>
              <a:path fill="darkenLess" w="38865" h="21600">
                <a:moveTo>
                  <a:pt x="38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5" y="20200"/>
                </a:lnTo>
                <a:close/>
              </a:path>
              <a:path fill="lighten" w="38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02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516720" y="6165720"/>
            <a:ext cx="1297080" cy="692280"/>
          </a:xfrm>
          <a:custGeom>
            <a:avLst/>
            <a:gdLst>
              <a:gd name="textAreaLeft" fmla="*/ 44640 w 1297080"/>
              <a:gd name="textAreaRight" fmla="*/ 1252440 w 129708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0461" h="21600">
                <a:moveTo>
                  <a:pt x="0" y="0"/>
                </a:moveTo>
                <a:lnTo>
                  <a:pt x="40461" y="0"/>
                </a:lnTo>
                <a:lnTo>
                  <a:pt x="40461" y="21600"/>
                </a:lnTo>
                <a:lnTo>
                  <a:pt x="0" y="21600"/>
                </a:lnTo>
                <a:close/>
              </a:path>
              <a:path fill="lightenLess" w="40461" h="21600">
                <a:moveTo>
                  <a:pt x="0" y="0"/>
                </a:moveTo>
                <a:lnTo>
                  <a:pt x="40461" y="0"/>
                </a:lnTo>
                <a:lnTo>
                  <a:pt x="39061" y="1400"/>
                </a:lnTo>
                <a:lnTo>
                  <a:pt x="1400" y="1400"/>
                </a:lnTo>
                <a:close/>
              </a:path>
              <a:path fill="darken" w="40461" h="21600">
                <a:moveTo>
                  <a:pt x="40461" y="0"/>
                </a:moveTo>
                <a:lnTo>
                  <a:pt x="40461" y="21600"/>
                </a:lnTo>
                <a:lnTo>
                  <a:pt x="39061" y="20200"/>
                </a:lnTo>
                <a:lnTo>
                  <a:pt x="39061" y="1400"/>
                </a:lnTo>
                <a:close/>
              </a:path>
              <a:path fill="darkenLess" w="40461" h="21600">
                <a:moveTo>
                  <a:pt x="404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61" y="20200"/>
                </a:lnTo>
                <a:close/>
              </a:path>
              <a:path fill="lighten" w="404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b2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377 99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812000" y="1844640"/>
            <a:ext cx="1332000" cy="720720"/>
          </a:xfrm>
          <a:custGeom>
            <a:avLst/>
            <a:gdLst>
              <a:gd name="textAreaLeft" fmla="*/ 46440 w 1332000"/>
              <a:gd name="textAreaRight" fmla="*/ 1285560 w 133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9911" h="21600">
                <a:moveTo>
                  <a:pt x="0" y="0"/>
                </a:moveTo>
                <a:lnTo>
                  <a:pt x="39911" y="0"/>
                </a:lnTo>
                <a:lnTo>
                  <a:pt x="39911" y="21600"/>
                </a:lnTo>
                <a:lnTo>
                  <a:pt x="0" y="21600"/>
                </a:lnTo>
                <a:close/>
              </a:path>
              <a:path fill="lightenLess" w="39911" h="21600">
                <a:moveTo>
                  <a:pt x="0" y="0"/>
                </a:moveTo>
                <a:lnTo>
                  <a:pt x="39911" y="0"/>
                </a:lnTo>
                <a:lnTo>
                  <a:pt x="38511" y="1400"/>
                </a:lnTo>
                <a:lnTo>
                  <a:pt x="1400" y="1400"/>
                </a:lnTo>
                <a:close/>
              </a:path>
              <a:path fill="darken" w="39911" h="21600">
                <a:moveTo>
                  <a:pt x="39911" y="0"/>
                </a:moveTo>
                <a:lnTo>
                  <a:pt x="39911" y="21600"/>
                </a:lnTo>
                <a:lnTo>
                  <a:pt x="38511" y="20200"/>
                </a:lnTo>
                <a:lnTo>
                  <a:pt x="38511" y="1400"/>
                </a:lnTo>
                <a:close/>
              </a:path>
              <a:path fill="darkenLess" w="39911" h="21600">
                <a:moveTo>
                  <a:pt x="399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511" y="20200"/>
                </a:lnTo>
                <a:close/>
              </a:path>
              <a:path fill="lighten" w="399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33 1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812000" y="2565360"/>
            <a:ext cx="1332000" cy="720720"/>
          </a:xfrm>
          <a:custGeom>
            <a:avLst/>
            <a:gdLst>
              <a:gd name="textAreaLeft" fmla="*/ 46440 w 1332000"/>
              <a:gd name="textAreaRight" fmla="*/ 1285560 w 133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9911" h="21600">
                <a:moveTo>
                  <a:pt x="0" y="0"/>
                </a:moveTo>
                <a:lnTo>
                  <a:pt x="39911" y="0"/>
                </a:lnTo>
                <a:lnTo>
                  <a:pt x="39911" y="21600"/>
                </a:lnTo>
                <a:lnTo>
                  <a:pt x="0" y="21600"/>
                </a:lnTo>
                <a:close/>
              </a:path>
              <a:path fill="lightenLess" w="39911" h="21600">
                <a:moveTo>
                  <a:pt x="0" y="0"/>
                </a:moveTo>
                <a:lnTo>
                  <a:pt x="39911" y="0"/>
                </a:lnTo>
                <a:lnTo>
                  <a:pt x="38511" y="1400"/>
                </a:lnTo>
                <a:lnTo>
                  <a:pt x="1400" y="1400"/>
                </a:lnTo>
                <a:close/>
              </a:path>
              <a:path fill="darken" w="39911" h="21600">
                <a:moveTo>
                  <a:pt x="39911" y="0"/>
                </a:moveTo>
                <a:lnTo>
                  <a:pt x="39911" y="21600"/>
                </a:lnTo>
                <a:lnTo>
                  <a:pt x="38511" y="20200"/>
                </a:lnTo>
                <a:lnTo>
                  <a:pt x="38511" y="1400"/>
                </a:lnTo>
                <a:close/>
              </a:path>
              <a:path fill="darkenLess" w="39911" h="21600">
                <a:moveTo>
                  <a:pt x="399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511" y="20200"/>
                </a:lnTo>
                <a:close/>
              </a:path>
              <a:path fill="lighten" w="399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b2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96 9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812000" y="3284640"/>
            <a:ext cx="1332000" cy="720720"/>
          </a:xfrm>
          <a:custGeom>
            <a:avLst/>
            <a:gdLst>
              <a:gd name="textAreaLeft" fmla="*/ 46440 w 1332000"/>
              <a:gd name="textAreaRight" fmla="*/ 1285560 w 133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9911" h="21600">
                <a:moveTo>
                  <a:pt x="0" y="0"/>
                </a:moveTo>
                <a:lnTo>
                  <a:pt x="39911" y="0"/>
                </a:lnTo>
                <a:lnTo>
                  <a:pt x="39911" y="21600"/>
                </a:lnTo>
                <a:lnTo>
                  <a:pt x="0" y="21600"/>
                </a:lnTo>
                <a:close/>
              </a:path>
              <a:path fill="lightenLess" w="39911" h="21600">
                <a:moveTo>
                  <a:pt x="0" y="0"/>
                </a:moveTo>
                <a:lnTo>
                  <a:pt x="39911" y="0"/>
                </a:lnTo>
                <a:lnTo>
                  <a:pt x="38511" y="1400"/>
                </a:lnTo>
                <a:lnTo>
                  <a:pt x="1400" y="1400"/>
                </a:lnTo>
                <a:close/>
              </a:path>
              <a:path fill="darken" w="39911" h="21600">
                <a:moveTo>
                  <a:pt x="39911" y="0"/>
                </a:moveTo>
                <a:lnTo>
                  <a:pt x="39911" y="21600"/>
                </a:lnTo>
                <a:lnTo>
                  <a:pt x="38511" y="20200"/>
                </a:lnTo>
                <a:lnTo>
                  <a:pt x="38511" y="1400"/>
                </a:lnTo>
                <a:close/>
              </a:path>
              <a:path fill="darkenLess" w="39911" h="21600">
                <a:moveTo>
                  <a:pt x="399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511" y="20200"/>
                </a:lnTo>
                <a:close/>
              </a:path>
              <a:path fill="lighten" w="399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 7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812000" y="4005360"/>
            <a:ext cx="1332000" cy="720720"/>
          </a:xfrm>
          <a:custGeom>
            <a:avLst/>
            <a:gdLst>
              <a:gd name="textAreaLeft" fmla="*/ 46440 w 1332000"/>
              <a:gd name="textAreaRight" fmla="*/ 1285560 w 133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9911" h="21600">
                <a:moveTo>
                  <a:pt x="0" y="0"/>
                </a:moveTo>
                <a:lnTo>
                  <a:pt x="39911" y="0"/>
                </a:lnTo>
                <a:lnTo>
                  <a:pt x="39911" y="21600"/>
                </a:lnTo>
                <a:lnTo>
                  <a:pt x="0" y="21600"/>
                </a:lnTo>
                <a:close/>
              </a:path>
              <a:path fill="lightenLess" w="39911" h="21600">
                <a:moveTo>
                  <a:pt x="0" y="0"/>
                </a:moveTo>
                <a:lnTo>
                  <a:pt x="39911" y="0"/>
                </a:lnTo>
                <a:lnTo>
                  <a:pt x="38511" y="1400"/>
                </a:lnTo>
                <a:lnTo>
                  <a:pt x="1400" y="1400"/>
                </a:lnTo>
                <a:close/>
              </a:path>
              <a:path fill="darken" w="39911" h="21600">
                <a:moveTo>
                  <a:pt x="39911" y="0"/>
                </a:moveTo>
                <a:lnTo>
                  <a:pt x="39911" y="21600"/>
                </a:lnTo>
                <a:lnTo>
                  <a:pt x="38511" y="20200"/>
                </a:lnTo>
                <a:lnTo>
                  <a:pt x="38511" y="1400"/>
                </a:lnTo>
                <a:close/>
              </a:path>
              <a:path fill="darkenLess" w="39911" h="21600">
                <a:moveTo>
                  <a:pt x="399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511" y="20200"/>
                </a:lnTo>
                <a:close/>
              </a:path>
              <a:path fill="lighten" w="399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b2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46 70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812000" y="4724280"/>
            <a:ext cx="1332000" cy="720720"/>
          </a:xfrm>
          <a:custGeom>
            <a:avLst/>
            <a:gdLst>
              <a:gd name="textAreaLeft" fmla="*/ 46440 w 1332000"/>
              <a:gd name="textAreaRight" fmla="*/ 1285560 w 133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9911" h="21600">
                <a:moveTo>
                  <a:pt x="0" y="0"/>
                </a:moveTo>
                <a:lnTo>
                  <a:pt x="39911" y="0"/>
                </a:lnTo>
                <a:lnTo>
                  <a:pt x="39911" y="21600"/>
                </a:lnTo>
                <a:lnTo>
                  <a:pt x="0" y="21600"/>
                </a:lnTo>
                <a:close/>
              </a:path>
              <a:path fill="lightenLess" w="39911" h="21600">
                <a:moveTo>
                  <a:pt x="0" y="0"/>
                </a:moveTo>
                <a:lnTo>
                  <a:pt x="39911" y="0"/>
                </a:lnTo>
                <a:lnTo>
                  <a:pt x="38511" y="1400"/>
                </a:lnTo>
                <a:lnTo>
                  <a:pt x="1400" y="1400"/>
                </a:lnTo>
                <a:close/>
              </a:path>
              <a:path fill="darken" w="39911" h="21600">
                <a:moveTo>
                  <a:pt x="39911" y="0"/>
                </a:moveTo>
                <a:lnTo>
                  <a:pt x="39911" y="21600"/>
                </a:lnTo>
                <a:lnTo>
                  <a:pt x="38511" y="20200"/>
                </a:lnTo>
                <a:lnTo>
                  <a:pt x="38511" y="1400"/>
                </a:lnTo>
                <a:close/>
              </a:path>
              <a:path fill="darkenLess" w="39911" h="21600">
                <a:moveTo>
                  <a:pt x="399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511" y="20200"/>
                </a:lnTo>
                <a:close/>
              </a:path>
              <a:path fill="lighten" w="399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48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812000" y="5445000"/>
            <a:ext cx="1332000" cy="720720"/>
          </a:xfrm>
          <a:custGeom>
            <a:avLst/>
            <a:gdLst>
              <a:gd name="textAreaLeft" fmla="*/ 46440 w 1332000"/>
              <a:gd name="textAreaRight" fmla="*/ 1285560 w 133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9911" h="21600">
                <a:moveTo>
                  <a:pt x="0" y="0"/>
                </a:moveTo>
                <a:lnTo>
                  <a:pt x="39911" y="0"/>
                </a:lnTo>
                <a:lnTo>
                  <a:pt x="39911" y="21600"/>
                </a:lnTo>
                <a:lnTo>
                  <a:pt x="0" y="21600"/>
                </a:lnTo>
                <a:close/>
              </a:path>
              <a:path fill="lightenLess" w="39911" h="21600">
                <a:moveTo>
                  <a:pt x="0" y="0"/>
                </a:moveTo>
                <a:lnTo>
                  <a:pt x="39911" y="0"/>
                </a:lnTo>
                <a:lnTo>
                  <a:pt x="38511" y="1400"/>
                </a:lnTo>
                <a:lnTo>
                  <a:pt x="1400" y="1400"/>
                </a:lnTo>
                <a:close/>
              </a:path>
              <a:path fill="darken" w="39911" h="21600">
                <a:moveTo>
                  <a:pt x="39911" y="0"/>
                </a:moveTo>
                <a:lnTo>
                  <a:pt x="39911" y="21600"/>
                </a:lnTo>
                <a:lnTo>
                  <a:pt x="38511" y="20200"/>
                </a:lnTo>
                <a:lnTo>
                  <a:pt x="38511" y="1400"/>
                </a:lnTo>
                <a:close/>
              </a:path>
              <a:path fill="darkenLess" w="39911" h="21600">
                <a:moveTo>
                  <a:pt x="399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511" y="20200"/>
                </a:lnTo>
                <a:close/>
              </a:path>
              <a:path fill="lighten" w="399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b2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02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812000" y="6165720"/>
            <a:ext cx="1332000" cy="692280"/>
          </a:xfrm>
          <a:custGeom>
            <a:avLst/>
            <a:gdLst>
              <a:gd name="textAreaLeft" fmla="*/ 44640 w 1332000"/>
              <a:gd name="textAreaRight" fmla="*/ 1287360 w 133200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41550" h="21600">
                <a:moveTo>
                  <a:pt x="0" y="0"/>
                </a:moveTo>
                <a:lnTo>
                  <a:pt x="41550" y="0"/>
                </a:lnTo>
                <a:lnTo>
                  <a:pt x="41550" y="21600"/>
                </a:lnTo>
                <a:lnTo>
                  <a:pt x="0" y="21600"/>
                </a:lnTo>
                <a:close/>
              </a:path>
              <a:path fill="lightenLess" w="41550" h="21600">
                <a:moveTo>
                  <a:pt x="0" y="0"/>
                </a:moveTo>
                <a:lnTo>
                  <a:pt x="41550" y="0"/>
                </a:lnTo>
                <a:lnTo>
                  <a:pt x="40150" y="1400"/>
                </a:lnTo>
                <a:lnTo>
                  <a:pt x="1400" y="1400"/>
                </a:lnTo>
                <a:close/>
              </a:path>
              <a:path fill="darken" w="41550" h="21600">
                <a:moveTo>
                  <a:pt x="41550" y="0"/>
                </a:moveTo>
                <a:lnTo>
                  <a:pt x="41550" y="21600"/>
                </a:lnTo>
                <a:lnTo>
                  <a:pt x="40150" y="20200"/>
                </a:lnTo>
                <a:lnTo>
                  <a:pt x="40150" y="1400"/>
                </a:lnTo>
                <a:close/>
              </a:path>
              <a:path fill="darkenLess" w="41550" h="21600">
                <a:moveTo>
                  <a:pt x="415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150" y="20200"/>
                </a:lnTo>
                <a:close/>
              </a:path>
              <a:path fill="lighten" w="415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b2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380 08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0"/>
            <a:ext cx="9144000" cy="620640"/>
          </a:xfrm>
          <a:prstGeom prst="bevel">
            <a:avLst>
              <a:gd name="adj" fmla="val 12500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Расходы в расчете на душу населения на 2016 го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50920" y="765000"/>
            <a:ext cx="1655640" cy="792360"/>
          </a:xfrm>
          <a:prstGeom prst="verticalScroll">
            <a:avLst>
              <a:gd name="adj" fmla="val 12500"/>
            </a:avLst>
          </a:prstGeom>
          <a:solidFill>
            <a:srgbClr val="8f8f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17 623,8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rot="10800000">
            <a:off x="2195640" y="764280"/>
            <a:ext cx="6664320" cy="792360"/>
          </a:xfrm>
          <a:custGeom>
            <a:avLst/>
            <a:gdLst>
              <a:gd name="textAreaLeft" fmla="*/ 0 w 6664320"/>
              <a:gd name="textAreaRight" fmla="*/ 6664680 w 666432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Расходы бюджета района н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образование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приходится на одного жител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50920" y="1628640"/>
            <a:ext cx="1655640" cy="792360"/>
          </a:xfrm>
          <a:prstGeom prst="verticalScroll">
            <a:avLst>
              <a:gd name="adj" fmla="val 12500"/>
            </a:avLst>
          </a:prstGeom>
          <a:solidFill>
            <a:srgbClr val="8f8f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2 562,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50920" y="2492280"/>
            <a:ext cx="1655640" cy="792360"/>
          </a:xfrm>
          <a:prstGeom prst="verticalScroll">
            <a:avLst>
              <a:gd name="adj" fmla="val 12500"/>
            </a:avLst>
          </a:prstGeom>
          <a:solidFill>
            <a:srgbClr val="8f8f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4 928,5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50920" y="3357720"/>
            <a:ext cx="1655640" cy="792000"/>
          </a:xfrm>
          <a:prstGeom prst="verticalScroll">
            <a:avLst>
              <a:gd name="adj" fmla="val 12500"/>
            </a:avLst>
          </a:prstGeom>
          <a:solidFill>
            <a:srgbClr val="8f8f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127, 6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50920" y="4221000"/>
            <a:ext cx="1655640" cy="792360"/>
          </a:xfrm>
          <a:prstGeom prst="verticalScroll">
            <a:avLst>
              <a:gd name="adj" fmla="val 12500"/>
            </a:avLst>
          </a:prstGeom>
          <a:solidFill>
            <a:srgbClr val="8f8f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1 484,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50920" y="5084640"/>
            <a:ext cx="1655640" cy="792360"/>
          </a:xfrm>
          <a:prstGeom prst="verticalScroll">
            <a:avLst>
              <a:gd name="adj" fmla="val 12500"/>
            </a:avLst>
          </a:prstGeom>
          <a:solidFill>
            <a:srgbClr val="8f8f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3 464,4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50920" y="5950080"/>
            <a:ext cx="1655640" cy="792000"/>
          </a:xfrm>
          <a:prstGeom prst="verticalScroll">
            <a:avLst>
              <a:gd name="adj" fmla="val 12500"/>
            </a:avLst>
          </a:prstGeom>
          <a:solidFill>
            <a:srgbClr val="8f8f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2 951,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rot="10800000">
            <a:off x="2195640" y="1627920"/>
            <a:ext cx="6664320" cy="792360"/>
          </a:xfrm>
          <a:custGeom>
            <a:avLst/>
            <a:gdLst>
              <a:gd name="textAreaLeft" fmla="*/ 0 w 6664320"/>
              <a:gd name="textAreaRight" fmla="*/ 6664680 w 666432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Расходы бюджета района н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ультуру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приходится на одного жител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rot="10800000">
            <a:off x="2195640" y="2491560"/>
            <a:ext cx="6664320" cy="792360"/>
          </a:xfrm>
          <a:custGeom>
            <a:avLst/>
            <a:gdLst>
              <a:gd name="textAreaLeft" fmla="*/ 0 w 6664320"/>
              <a:gd name="textAreaRight" fmla="*/ 6664680 w 666432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Расходы бюджета района н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оциальную политику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приходится на одного жител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rot="10800000">
            <a:off x="2195640" y="3357720"/>
            <a:ext cx="6664320" cy="792000"/>
          </a:xfrm>
          <a:custGeom>
            <a:avLst/>
            <a:gdLst>
              <a:gd name="textAreaLeft" fmla="*/ 0 w 6664320"/>
              <a:gd name="textAreaRight" fmla="*/ 6664680 w 66643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Расходы бюджета района н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физическую культуру и спор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приходится на одного жител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rot="10800000">
            <a:off x="2195640" y="4220640"/>
            <a:ext cx="6664320" cy="792360"/>
          </a:xfrm>
          <a:custGeom>
            <a:avLst/>
            <a:gdLst>
              <a:gd name="textAreaLeft" fmla="*/ 0 w 6664320"/>
              <a:gd name="textAreaRight" fmla="*/ 6664680 w 666432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Расходы бюджета района н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жилищно - коммунальное хозяй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приходится на одного жител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rot="10800000">
            <a:off x="2195640" y="5084280"/>
            <a:ext cx="6664320" cy="792360"/>
          </a:xfrm>
          <a:custGeom>
            <a:avLst/>
            <a:gdLst>
              <a:gd name="textAreaLeft" fmla="*/ 0 w 6664320"/>
              <a:gd name="textAreaRight" fmla="*/ 6664680 w 6664320"/>
              <a:gd name="textAreaTop" fmla="*/ 0 h 792360"/>
              <a:gd name="textAreaBottom" fmla="*/ 79272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Расходы бюджета района н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национальную экономику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приходится на одного жител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rot="10800000">
            <a:off x="2195640" y="5950080"/>
            <a:ext cx="6664320" cy="792000"/>
          </a:xfrm>
          <a:custGeom>
            <a:avLst/>
            <a:gdLst>
              <a:gd name="textAreaLeft" fmla="*/ 0 w 6664320"/>
              <a:gd name="textAreaRight" fmla="*/ 6664680 w 666432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Расходы бюджета района на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общегосударственные вопрос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приходится на одного жител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0" y="0"/>
            <a:ext cx="9144000" cy="1042920"/>
          </a:xfrm>
          <a:custGeom>
            <a:avLst/>
            <a:gdLst>
              <a:gd name="textAreaLeft" fmla="*/ 67320 w 9144000"/>
              <a:gd name="textAreaRight" fmla="*/ 9076680 w 91440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189324" h="21600">
                <a:moveTo>
                  <a:pt x="0" y="0"/>
                </a:moveTo>
                <a:lnTo>
                  <a:pt x="189324" y="0"/>
                </a:lnTo>
                <a:lnTo>
                  <a:pt x="189324" y="21600"/>
                </a:lnTo>
                <a:lnTo>
                  <a:pt x="0" y="21600"/>
                </a:lnTo>
                <a:close/>
              </a:path>
              <a:path fill="lightenLess" w="189324" h="21600">
                <a:moveTo>
                  <a:pt x="0" y="0"/>
                </a:moveTo>
                <a:lnTo>
                  <a:pt x="189324" y="0"/>
                </a:lnTo>
                <a:lnTo>
                  <a:pt x="187924" y="1400"/>
                </a:lnTo>
                <a:lnTo>
                  <a:pt x="1400" y="1400"/>
                </a:lnTo>
                <a:close/>
              </a:path>
              <a:path fill="darken" w="189324" h="21600">
                <a:moveTo>
                  <a:pt x="189324" y="0"/>
                </a:moveTo>
                <a:lnTo>
                  <a:pt x="189324" y="21600"/>
                </a:lnTo>
                <a:lnTo>
                  <a:pt x="187924" y="20200"/>
                </a:lnTo>
                <a:lnTo>
                  <a:pt x="187924" y="1400"/>
                </a:lnTo>
                <a:close/>
              </a:path>
              <a:path fill="darkenLess" w="189324" h="21600">
                <a:moveTo>
                  <a:pt x="189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7924" y="20200"/>
                </a:lnTo>
                <a:close/>
              </a:path>
              <a:path fill="lighten" w="189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Расходы бюджета района по раздела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функциональной классификации на 2016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0" y="1052640"/>
          <a:ext cx="9144000" cy="540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2640"/>
                    <a:ext cx="914400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4" name=""/>
          <p:cNvSpPr/>
          <p:nvPr/>
        </p:nvSpPr>
        <p:spPr>
          <a:xfrm>
            <a:off x="6156360" y="6165720"/>
            <a:ext cx="2987640" cy="692280"/>
          </a:xfrm>
          <a:custGeom>
            <a:avLst/>
            <a:gdLst>
              <a:gd name="textAreaLeft" fmla="*/ 44640 w 2987640"/>
              <a:gd name="textAreaRight" fmla="*/ 2943000 w 2987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93181" h="21600">
                <a:moveTo>
                  <a:pt x="0" y="0"/>
                </a:moveTo>
                <a:lnTo>
                  <a:pt x="93181" y="0"/>
                </a:lnTo>
                <a:lnTo>
                  <a:pt x="93181" y="21600"/>
                </a:lnTo>
                <a:lnTo>
                  <a:pt x="0" y="21600"/>
                </a:lnTo>
                <a:close/>
              </a:path>
              <a:path fill="lightenLess" w="93181" h="21600">
                <a:moveTo>
                  <a:pt x="0" y="0"/>
                </a:moveTo>
                <a:lnTo>
                  <a:pt x="93181" y="0"/>
                </a:lnTo>
                <a:lnTo>
                  <a:pt x="91781" y="1400"/>
                </a:lnTo>
                <a:lnTo>
                  <a:pt x="1400" y="1400"/>
                </a:lnTo>
                <a:close/>
              </a:path>
              <a:path fill="darken" w="93181" h="21600">
                <a:moveTo>
                  <a:pt x="93181" y="0"/>
                </a:moveTo>
                <a:lnTo>
                  <a:pt x="93181" y="21600"/>
                </a:lnTo>
                <a:lnTo>
                  <a:pt x="91781" y="20200"/>
                </a:lnTo>
                <a:lnTo>
                  <a:pt x="91781" y="1400"/>
                </a:lnTo>
                <a:close/>
              </a:path>
              <a:path fill="darkenLess" w="93181" h="21600">
                <a:moveTo>
                  <a:pt x="93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781" y="20200"/>
                </a:lnTo>
                <a:close/>
              </a:path>
              <a:path fill="lighten" w="93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Всего 427 072 т.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0" y="0"/>
            <a:ext cx="9144000" cy="6858000"/>
          </a:xfrm>
          <a:prstGeom prst="flowChart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0"/>
            <a:ext cx="9144000" cy="1341360"/>
          </a:xfrm>
          <a:custGeom>
            <a:avLst/>
            <a:gdLst>
              <a:gd name="textAreaLeft" fmla="*/ 86760 w 9144000"/>
              <a:gd name="textAreaRight" fmla="*/ 9057240 w 9144000"/>
              <a:gd name="textAreaTop" fmla="*/ 86760 h 1341360"/>
              <a:gd name="textAreaBottom" fmla="*/ 1254600 h 1341360"/>
            </a:gdLst>
            <a:ahLst/>
            <a:rect l="textAreaLeft" t="textAreaTop" r="textAreaRight" b="textAreaBottom"/>
            <a:pathLst>
              <a:path w="147213" h="21600">
                <a:moveTo>
                  <a:pt x="0" y="0"/>
                </a:moveTo>
                <a:lnTo>
                  <a:pt x="147213" y="0"/>
                </a:lnTo>
                <a:lnTo>
                  <a:pt x="147213" y="21600"/>
                </a:lnTo>
                <a:lnTo>
                  <a:pt x="0" y="21600"/>
                </a:lnTo>
                <a:close/>
              </a:path>
              <a:path fill="lightenLess" w="147213" h="21600">
                <a:moveTo>
                  <a:pt x="0" y="0"/>
                </a:moveTo>
                <a:lnTo>
                  <a:pt x="147213" y="0"/>
                </a:lnTo>
                <a:lnTo>
                  <a:pt x="145813" y="1400"/>
                </a:lnTo>
                <a:lnTo>
                  <a:pt x="1400" y="1400"/>
                </a:lnTo>
                <a:close/>
              </a:path>
              <a:path fill="darken" w="147213" h="21600">
                <a:moveTo>
                  <a:pt x="147213" y="0"/>
                </a:moveTo>
                <a:lnTo>
                  <a:pt x="147213" y="21600"/>
                </a:lnTo>
                <a:lnTo>
                  <a:pt x="145813" y="20200"/>
                </a:lnTo>
                <a:lnTo>
                  <a:pt x="145813" y="1400"/>
                </a:lnTo>
                <a:close/>
              </a:path>
              <a:path fill="darkenLess" w="147213" h="21600">
                <a:moveTo>
                  <a:pt x="1472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5813" y="20200"/>
                </a:lnTo>
                <a:close/>
              </a:path>
              <a:path fill="lighten" w="1472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сходы на межбюджетные трансферт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ередаваемые бюджетам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ельских поселени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з бюджета района на 2016 - 2018 г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rot="10800000">
            <a:off x="0" y="1773000"/>
            <a:ext cx="2736720" cy="1800000"/>
          </a:xfrm>
          <a:prstGeom prst="wedgeRectCallout">
            <a:avLst>
              <a:gd name="adj1" fmla="val -41939"/>
              <a:gd name="adj2" fmla="val 56347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Дотация за счет средств областного бюджета</a:t>
            </a: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2016 год – 13 874 тыс.рублей 2017 год – 14 200 тыс.рублей 2018 год – 13 696 тыс.рублей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rot="10800000">
            <a:off x="0" y="4076280"/>
            <a:ext cx="2736720" cy="1800360"/>
          </a:xfrm>
          <a:prstGeom prst="wedgeRectCallout">
            <a:avLst>
              <a:gd name="adj1" fmla="val -41939"/>
              <a:gd name="adj2" fmla="val 56259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Дотация за счет средств местного бюджет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2016 год – 11 051 тыс.рублей 2017 год – 8 997 тыс.рублей 2018 год – 7 640 тыс.рублей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rot="10800000">
            <a:off x="6407280" y="1773000"/>
            <a:ext cx="2736720" cy="1800000"/>
          </a:xfrm>
          <a:prstGeom prst="wedgeRectCallout">
            <a:avLst>
              <a:gd name="adj1" fmla="val -41939"/>
              <a:gd name="adj2" fmla="val 56347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Иные межбюджетные трансферты за счет средств областного бюджет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2016 год – 33 868 тыс.рублей 2017 год – 13 394 тыс.рублей 2018 год – 13 191 тыс.рублей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rot="10800000">
            <a:off x="6407280" y="4076280"/>
            <a:ext cx="2736720" cy="1800360"/>
          </a:xfrm>
          <a:prstGeom prst="wedgeRectCallout">
            <a:avLst>
              <a:gd name="adj1" fmla="val -41939"/>
              <a:gd name="adj2" fmla="val 56259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Иные межбюджетные трансферты за счет средств местного бюджет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2016 год – 591 тыс.рублей 2017 год – 591 тыс.рублей 2018 год – 591 тыс.рублей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2771640" y="1773360"/>
            <a:ext cx="3600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9144000" cy="68580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940360" y="6165720"/>
            <a:ext cx="3203640" cy="692280"/>
          </a:xfrm>
          <a:prstGeom prst="bevel">
            <a:avLst>
              <a:gd name="adj" fmla="val 12500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Всего 427 072 т.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0"/>
            <a:ext cx="9144000" cy="981000"/>
          </a:xfrm>
          <a:prstGeom prst="bevel">
            <a:avLst>
              <a:gd name="adj" fmla="val 12500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Расходы бюджета района в программном формат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на 2016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108000" y="1052640"/>
          <a:ext cx="8818560" cy="46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052640"/>
                    <a:ext cx="881856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7" name="" descr=""/>
          <p:cNvPicPr/>
          <p:nvPr/>
        </p:nvPicPr>
        <p:blipFill>
          <a:blip r:embed="rId3"/>
          <a:stretch/>
        </p:blipFill>
        <p:spPr>
          <a:xfrm>
            <a:off x="0" y="4869000"/>
            <a:ext cx="255600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0" y="0"/>
            <a:ext cx="9144000" cy="836640"/>
          </a:xfrm>
          <a:custGeom>
            <a:avLst/>
            <a:gdLst>
              <a:gd name="textAreaLeft" fmla="*/ 54000 w 9144000"/>
              <a:gd name="textAreaRight" fmla="*/ 9090000 w 9144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5983" h="21600">
                <a:moveTo>
                  <a:pt x="0" y="0"/>
                </a:moveTo>
                <a:lnTo>
                  <a:pt x="235983" y="0"/>
                </a:lnTo>
                <a:lnTo>
                  <a:pt x="235983" y="21600"/>
                </a:lnTo>
                <a:lnTo>
                  <a:pt x="0" y="21600"/>
                </a:lnTo>
                <a:close/>
              </a:path>
              <a:path fill="lightenLess" w="235983" h="21600">
                <a:moveTo>
                  <a:pt x="0" y="0"/>
                </a:moveTo>
                <a:lnTo>
                  <a:pt x="235983" y="0"/>
                </a:lnTo>
                <a:lnTo>
                  <a:pt x="234584" y="1400"/>
                </a:lnTo>
                <a:lnTo>
                  <a:pt x="1400" y="1400"/>
                </a:lnTo>
                <a:close/>
              </a:path>
              <a:path fill="darken" w="235983" h="21600">
                <a:moveTo>
                  <a:pt x="235983" y="0"/>
                </a:moveTo>
                <a:lnTo>
                  <a:pt x="235983" y="21600"/>
                </a:lnTo>
                <a:lnTo>
                  <a:pt x="234584" y="20200"/>
                </a:lnTo>
                <a:lnTo>
                  <a:pt x="234584" y="1400"/>
                </a:lnTo>
                <a:close/>
              </a:path>
              <a:path fill="darkenLess" w="235983" h="21600">
                <a:moveTo>
                  <a:pt x="235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584" y="20200"/>
                </a:lnTo>
                <a:close/>
              </a:path>
              <a:path fill="lighten" w="235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асходы на реализацию ведомственных и муниципаль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ограмм муниципального образования на 2016 - 2018 г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836640"/>
            <a:ext cx="3924360" cy="576360"/>
          </a:xfrm>
          <a:custGeom>
            <a:avLst/>
            <a:gdLst>
              <a:gd name="textAreaLeft" fmla="*/ 37080 w 3924360"/>
              <a:gd name="textAreaRight" fmla="*/ 3887280 w 3924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6993" h="21600">
                <a:moveTo>
                  <a:pt x="0" y="0"/>
                </a:moveTo>
                <a:lnTo>
                  <a:pt x="146993" y="0"/>
                </a:lnTo>
                <a:lnTo>
                  <a:pt x="146993" y="21600"/>
                </a:lnTo>
                <a:lnTo>
                  <a:pt x="0" y="21600"/>
                </a:lnTo>
                <a:close/>
              </a:path>
              <a:path fill="lightenLess" w="146993" h="21600">
                <a:moveTo>
                  <a:pt x="0" y="0"/>
                </a:moveTo>
                <a:lnTo>
                  <a:pt x="146993" y="0"/>
                </a:lnTo>
                <a:lnTo>
                  <a:pt x="145593" y="1400"/>
                </a:lnTo>
                <a:lnTo>
                  <a:pt x="1400" y="1400"/>
                </a:lnTo>
                <a:close/>
              </a:path>
              <a:path fill="darken" w="146993" h="21600">
                <a:moveTo>
                  <a:pt x="146993" y="0"/>
                </a:moveTo>
                <a:lnTo>
                  <a:pt x="146993" y="21600"/>
                </a:lnTo>
                <a:lnTo>
                  <a:pt x="145593" y="20200"/>
                </a:lnTo>
                <a:lnTo>
                  <a:pt x="145593" y="1400"/>
                </a:lnTo>
                <a:close/>
              </a:path>
              <a:path fill="darkenLess" w="146993" h="21600">
                <a:moveTo>
                  <a:pt x="146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5593" y="20200"/>
                </a:lnTo>
                <a:close/>
              </a:path>
              <a:path fill="lighten" w="146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едомственные целев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рограмм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380360" y="836640"/>
            <a:ext cx="1763640" cy="576360"/>
          </a:xfrm>
          <a:custGeom>
            <a:avLst/>
            <a:gdLst>
              <a:gd name="textAreaLeft" fmla="*/ 37080 w 1763640"/>
              <a:gd name="textAreaRight" fmla="*/ 1726560 w 17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6067" h="21600">
                <a:moveTo>
                  <a:pt x="0" y="0"/>
                </a:moveTo>
                <a:lnTo>
                  <a:pt x="66067" y="0"/>
                </a:lnTo>
                <a:lnTo>
                  <a:pt x="66067" y="21600"/>
                </a:lnTo>
                <a:lnTo>
                  <a:pt x="0" y="21600"/>
                </a:lnTo>
                <a:close/>
              </a:path>
              <a:path fill="lightenLess" w="66067" h="21600">
                <a:moveTo>
                  <a:pt x="0" y="0"/>
                </a:moveTo>
                <a:lnTo>
                  <a:pt x="66067" y="0"/>
                </a:lnTo>
                <a:lnTo>
                  <a:pt x="64667" y="1400"/>
                </a:lnTo>
                <a:lnTo>
                  <a:pt x="1400" y="1400"/>
                </a:lnTo>
                <a:close/>
              </a:path>
              <a:path fill="darken" w="66067" h="21600">
                <a:moveTo>
                  <a:pt x="66067" y="0"/>
                </a:moveTo>
                <a:lnTo>
                  <a:pt x="66067" y="21600"/>
                </a:lnTo>
                <a:lnTo>
                  <a:pt x="64667" y="20200"/>
                </a:lnTo>
                <a:lnTo>
                  <a:pt x="64667" y="1400"/>
                </a:lnTo>
                <a:close/>
              </a:path>
              <a:path fill="darkenLess" w="66067" h="21600">
                <a:moveTo>
                  <a:pt x="660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667" y="20200"/>
                </a:lnTo>
                <a:close/>
              </a:path>
              <a:path fill="lighten" w="660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лан 2018 год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651640" y="836640"/>
            <a:ext cx="1728720" cy="576360"/>
          </a:xfrm>
          <a:custGeom>
            <a:avLst/>
            <a:gdLst>
              <a:gd name="textAreaLeft" fmla="*/ 37080 w 1728720"/>
              <a:gd name="textAreaRight" fmla="*/ 1691640 w 1728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60" h="21600">
                <a:moveTo>
                  <a:pt x="0" y="0"/>
                </a:moveTo>
                <a:lnTo>
                  <a:pt x="64760" y="0"/>
                </a:lnTo>
                <a:lnTo>
                  <a:pt x="64760" y="21600"/>
                </a:lnTo>
                <a:lnTo>
                  <a:pt x="0" y="21600"/>
                </a:lnTo>
                <a:close/>
              </a:path>
              <a:path fill="lightenLess" w="64760" h="21600">
                <a:moveTo>
                  <a:pt x="0" y="0"/>
                </a:moveTo>
                <a:lnTo>
                  <a:pt x="64760" y="0"/>
                </a:lnTo>
                <a:lnTo>
                  <a:pt x="63360" y="1400"/>
                </a:lnTo>
                <a:lnTo>
                  <a:pt x="1400" y="1400"/>
                </a:lnTo>
                <a:close/>
              </a:path>
              <a:path fill="darken" w="64760" h="21600">
                <a:moveTo>
                  <a:pt x="64760" y="0"/>
                </a:moveTo>
                <a:lnTo>
                  <a:pt x="64760" y="21600"/>
                </a:lnTo>
                <a:lnTo>
                  <a:pt x="63360" y="20200"/>
                </a:lnTo>
                <a:lnTo>
                  <a:pt x="63360" y="1400"/>
                </a:lnTo>
                <a:close/>
              </a:path>
              <a:path fill="darkenLess" w="64760" h="21600">
                <a:moveTo>
                  <a:pt x="64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0" y="20200"/>
                </a:lnTo>
                <a:close/>
              </a:path>
              <a:path fill="lighten" w="64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лан 2017 год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924360" y="83664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лан 2016 год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1413000"/>
            <a:ext cx="9144000" cy="358560"/>
          </a:xfrm>
          <a:custGeom>
            <a:avLst/>
            <a:gdLst>
              <a:gd name="textAreaLeft" fmla="*/ 23040 w 9144000"/>
              <a:gd name="textAreaRight" fmla="*/ 9120960 w 914400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550313" h="21600">
                <a:moveTo>
                  <a:pt x="0" y="0"/>
                </a:moveTo>
                <a:lnTo>
                  <a:pt x="550313" y="0"/>
                </a:lnTo>
                <a:lnTo>
                  <a:pt x="550313" y="21600"/>
                </a:lnTo>
                <a:lnTo>
                  <a:pt x="0" y="21600"/>
                </a:lnTo>
                <a:close/>
              </a:path>
              <a:path fill="lightenLess" w="550313" h="21600">
                <a:moveTo>
                  <a:pt x="0" y="0"/>
                </a:moveTo>
                <a:lnTo>
                  <a:pt x="550313" y="0"/>
                </a:lnTo>
                <a:lnTo>
                  <a:pt x="548913" y="1400"/>
                </a:lnTo>
                <a:lnTo>
                  <a:pt x="1400" y="1400"/>
                </a:lnTo>
                <a:close/>
              </a:path>
              <a:path fill="darken" w="550313" h="21600">
                <a:moveTo>
                  <a:pt x="550313" y="0"/>
                </a:moveTo>
                <a:lnTo>
                  <a:pt x="550313" y="21600"/>
                </a:lnTo>
                <a:lnTo>
                  <a:pt x="548913" y="20200"/>
                </a:lnTo>
                <a:lnTo>
                  <a:pt x="548913" y="1400"/>
                </a:lnTo>
                <a:close/>
              </a:path>
              <a:path fill="darkenLess" w="550313" h="21600">
                <a:moveTo>
                  <a:pt x="5503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8913" y="20200"/>
                </a:lnTo>
                <a:close/>
              </a:path>
              <a:path fill="lighten" w="5503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ВЦП, носящие постоянный характер реализ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1773360"/>
            <a:ext cx="3924360" cy="934920"/>
          </a:xfrm>
          <a:custGeom>
            <a:avLst/>
            <a:gdLst>
              <a:gd name="textAreaLeft" fmla="*/ 60480 w 3924360"/>
              <a:gd name="textAreaRight" fmla="*/ 3863880 w 392436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90640" h="21600">
                <a:moveTo>
                  <a:pt x="0" y="0"/>
                </a:moveTo>
                <a:lnTo>
                  <a:pt x="90640" y="0"/>
                </a:lnTo>
                <a:lnTo>
                  <a:pt x="90640" y="21600"/>
                </a:lnTo>
                <a:lnTo>
                  <a:pt x="0" y="21600"/>
                </a:lnTo>
                <a:close/>
              </a:path>
              <a:path fill="lightenLess" w="90640" h="21600">
                <a:moveTo>
                  <a:pt x="0" y="0"/>
                </a:moveTo>
                <a:lnTo>
                  <a:pt x="90640" y="0"/>
                </a:lnTo>
                <a:lnTo>
                  <a:pt x="89240" y="1400"/>
                </a:lnTo>
                <a:lnTo>
                  <a:pt x="1400" y="1400"/>
                </a:lnTo>
                <a:close/>
              </a:path>
              <a:path fill="darken" w="90640" h="21600">
                <a:moveTo>
                  <a:pt x="90640" y="0"/>
                </a:moveTo>
                <a:lnTo>
                  <a:pt x="90640" y="21600"/>
                </a:lnTo>
                <a:lnTo>
                  <a:pt x="89240" y="20200"/>
                </a:lnTo>
                <a:lnTo>
                  <a:pt x="89240" y="1400"/>
                </a:lnTo>
                <a:close/>
              </a:path>
              <a:path fill="darkenLess" w="90640" h="21600">
                <a:moveTo>
                  <a:pt x="906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40" y="20200"/>
                </a:lnTo>
                <a:close/>
              </a:path>
              <a:path fill="lighten" w="906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ЦП «Совершенствование автоматизированн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истемы управления бюджетным процессом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го образования «Зырянский район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 2016-2018 годы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924360" y="1773360"/>
            <a:ext cx="1727280" cy="934920"/>
          </a:xfrm>
          <a:custGeom>
            <a:avLst/>
            <a:gdLst>
              <a:gd name="textAreaLeft" fmla="*/ 60480 w 1727280"/>
              <a:gd name="textAreaRight" fmla="*/ 1666800 w 172728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39899" h="21600">
                <a:moveTo>
                  <a:pt x="0" y="0"/>
                </a:moveTo>
                <a:lnTo>
                  <a:pt x="39899" y="0"/>
                </a:lnTo>
                <a:lnTo>
                  <a:pt x="39899" y="21600"/>
                </a:lnTo>
                <a:lnTo>
                  <a:pt x="0" y="21600"/>
                </a:lnTo>
                <a:close/>
              </a:path>
              <a:path fill="lightenLess" w="39899" h="21600">
                <a:moveTo>
                  <a:pt x="0" y="0"/>
                </a:moveTo>
                <a:lnTo>
                  <a:pt x="39899" y="0"/>
                </a:lnTo>
                <a:lnTo>
                  <a:pt x="38499" y="1400"/>
                </a:lnTo>
                <a:lnTo>
                  <a:pt x="1400" y="1400"/>
                </a:lnTo>
                <a:close/>
              </a:path>
              <a:path fill="darken" w="39899" h="21600">
                <a:moveTo>
                  <a:pt x="39899" y="0"/>
                </a:moveTo>
                <a:lnTo>
                  <a:pt x="39899" y="21600"/>
                </a:lnTo>
                <a:lnTo>
                  <a:pt x="38499" y="20200"/>
                </a:lnTo>
                <a:lnTo>
                  <a:pt x="38499" y="1400"/>
                </a:lnTo>
                <a:close/>
              </a:path>
              <a:path fill="darkenLess" w="39899" h="21600">
                <a:moveTo>
                  <a:pt x="398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99" y="20200"/>
                </a:lnTo>
                <a:close/>
              </a:path>
              <a:path fill="lighten" w="398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6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651640" y="1773360"/>
            <a:ext cx="1728720" cy="934920"/>
          </a:xfrm>
          <a:custGeom>
            <a:avLst/>
            <a:gdLst>
              <a:gd name="textAreaLeft" fmla="*/ 60480 w 1728720"/>
              <a:gd name="textAreaRight" fmla="*/ 1668240 w 172872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39933" h="21600">
                <a:moveTo>
                  <a:pt x="0" y="0"/>
                </a:moveTo>
                <a:lnTo>
                  <a:pt x="39933" y="0"/>
                </a:lnTo>
                <a:lnTo>
                  <a:pt x="39933" y="21600"/>
                </a:lnTo>
                <a:lnTo>
                  <a:pt x="0" y="21600"/>
                </a:lnTo>
                <a:close/>
              </a:path>
              <a:path fill="lightenLess" w="39933" h="21600">
                <a:moveTo>
                  <a:pt x="0" y="0"/>
                </a:moveTo>
                <a:lnTo>
                  <a:pt x="39933" y="0"/>
                </a:lnTo>
                <a:lnTo>
                  <a:pt x="38533" y="1400"/>
                </a:lnTo>
                <a:lnTo>
                  <a:pt x="1400" y="1400"/>
                </a:lnTo>
                <a:close/>
              </a:path>
              <a:path fill="darken" w="39933" h="21600">
                <a:moveTo>
                  <a:pt x="39933" y="0"/>
                </a:moveTo>
                <a:lnTo>
                  <a:pt x="39933" y="21600"/>
                </a:lnTo>
                <a:lnTo>
                  <a:pt x="38533" y="20200"/>
                </a:lnTo>
                <a:lnTo>
                  <a:pt x="38533" y="1400"/>
                </a:lnTo>
                <a:close/>
              </a:path>
              <a:path fill="darkenLess" w="39933" h="21600">
                <a:moveTo>
                  <a:pt x="39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533" y="20200"/>
                </a:lnTo>
                <a:close/>
              </a:path>
              <a:path fill="lighten" w="39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6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380360" y="1773360"/>
            <a:ext cx="1763640" cy="934920"/>
          </a:xfrm>
          <a:custGeom>
            <a:avLst/>
            <a:gdLst>
              <a:gd name="textAreaLeft" fmla="*/ 60480 w 1763640"/>
              <a:gd name="textAreaRight" fmla="*/ 1703160 w 176364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40739" h="21600">
                <a:moveTo>
                  <a:pt x="0" y="0"/>
                </a:moveTo>
                <a:lnTo>
                  <a:pt x="40739" y="0"/>
                </a:lnTo>
                <a:lnTo>
                  <a:pt x="40739" y="21600"/>
                </a:lnTo>
                <a:lnTo>
                  <a:pt x="0" y="21600"/>
                </a:lnTo>
                <a:close/>
              </a:path>
              <a:path fill="lightenLess" w="40739" h="21600">
                <a:moveTo>
                  <a:pt x="0" y="0"/>
                </a:moveTo>
                <a:lnTo>
                  <a:pt x="40739" y="0"/>
                </a:lnTo>
                <a:lnTo>
                  <a:pt x="39339" y="1400"/>
                </a:lnTo>
                <a:lnTo>
                  <a:pt x="1400" y="1400"/>
                </a:lnTo>
                <a:close/>
              </a:path>
              <a:path fill="darken" w="40739" h="21600">
                <a:moveTo>
                  <a:pt x="40739" y="0"/>
                </a:moveTo>
                <a:lnTo>
                  <a:pt x="40739" y="21600"/>
                </a:lnTo>
                <a:lnTo>
                  <a:pt x="39339" y="20200"/>
                </a:lnTo>
                <a:lnTo>
                  <a:pt x="39339" y="1400"/>
                </a:lnTo>
                <a:close/>
              </a:path>
              <a:path fill="darkenLess" w="40739" h="21600">
                <a:moveTo>
                  <a:pt x="40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39" y="20200"/>
                </a:lnTo>
                <a:close/>
              </a:path>
              <a:path fill="lighten" w="40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6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0" y="2708280"/>
            <a:ext cx="3924360" cy="1224000"/>
          </a:xfrm>
          <a:custGeom>
            <a:avLst/>
            <a:gdLst>
              <a:gd name="textAreaLeft" fmla="*/ 79200 w 3924360"/>
              <a:gd name="textAreaRight" fmla="*/ 3845160 w 392436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69239" h="21600">
                <a:moveTo>
                  <a:pt x="0" y="0"/>
                </a:moveTo>
                <a:lnTo>
                  <a:pt x="69239" y="0"/>
                </a:lnTo>
                <a:lnTo>
                  <a:pt x="69239" y="21600"/>
                </a:lnTo>
                <a:lnTo>
                  <a:pt x="0" y="21600"/>
                </a:lnTo>
                <a:close/>
              </a:path>
              <a:path fill="lightenLess" w="69239" h="21600">
                <a:moveTo>
                  <a:pt x="0" y="0"/>
                </a:moveTo>
                <a:lnTo>
                  <a:pt x="69239" y="0"/>
                </a:lnTo>
                <a:lnTo>
                  <a:pt x="67839" y="1400"/>
                </a:lnTo>
                <a:lnTo>
                  <a:pt x="1400" y="1400"/>
                </a:lnTo>
                <a:close/>
              </a:path>
              <a:path fill="darken" w="69239" h="21600">
                <a:moveTo>
                  <a:pt x="69239" y="0"/>
                </a:moveTo>
                <a:lnTo>
                  <a:pt x="69239" y="21600"/>
                </a:lnTo>
                <a:lnTo>
                  <a:pt x="67839" y="20200"/>
                </a:lnTo>
                <a:lnTo>
                  <a:pt x="67839" y="1400"/>
                </a:lnTo>
                <a:close/>
              </a:path>
              <a:path fill="darkenLess" w="69239" h="21600">
                <a:moveTo>
                  <a:pt x="69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839" y="20200"/>
                </a:lnTo>
                <a:close/>
              </a:path>
              <a:path fill="lighten" w="69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ЦП «Предоставление общедоступного 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есплатного общего, основного общего 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реднего (полного) общего образования п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сновным общеобразовательны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ограммам  на 2016-2018 годы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924360" y="2708280"/>
            <a:ext cx="1727280" cy="1224000"/>
          </a:xfrm>
          <a:custGeom>
            <a:avLst/>
            <a:gdLst>
              <a:gd name="textAreaLeft" fmla="*/ 79200 w 1727280"/>
              <a:gd name="textAreaRight" fmla="*/ 1648080 w 17272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30479" h="21600">
                <a:moveTo>
                  <a:pt x="0" y="0"/>
                </a:moveTo>
                <a:lnTo>
                  <a:pt x="30479" y="0"/>
                </a:lnTo>
                <a:lnTo>
                  <a:pt x="30479" y="21600"/>
                </a:lnTo>
                <a:lnTo>
                  <a:pt x="0" y="21600"/>
                </a:lnTo>
                <a:close/>
              </a:path>
              <a:path fill="lightenLess" w="30479" h="21600">
                <a:moveTo>
                  <a:pt x="0" y="0"/>
                </a:moveTo>
                <a:lnTo>
                  <a:pt x="30479" y="0"/>
                </a:lnTo>
                <a:lnTo>
                  <a:pt x="29079" y="1400"/>
                </a:lnTo>
                <a:lnTo>
                  <a:pt x="1400" y="1400"/>
                </a:lnTo>
                <a:close/>
              </a:path>
              <a:path fill="darken" w="30479" h="21600">
                <a:moveTo>
                  <a:pt x="30479" y="0"/>
                </a:moveTo>
                <a:lnTo>
                  <a:pt x="30479" y="21600"/>
                </a:lnTo>
                <a:lnTo>
                  <a:pt x="29079" y="20200"/>
                </a:lnTo>
                <a:lnTo>
                  <a:pt x="29079" y="1400"/>
                </a:lnTo>
                <a:close/>
              </a:path>
              <a:path fill="darkenLess" w="30479" h="21600">
                <a:moveTo>
                  <a:pt x="304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79" y="20200"/>
                </a:lnTo>
                <a:close/>
              </a:path>
              <a:path fill="lighten" w="304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7 0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651640" y="2708280"/>
            <a:ext cx="1726920" cy="1224000"/>
          </a:xfrm>
          <a:custGeom>
            <a:avLst/>
            <a:gdLst>
              <a:gd name="textAreaLeft" fmla="*/ 79200 w 1726920"/>
              <a:gd name="textAreaRight" fmla="*/ 1647720 w 172692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30472" h="21600">
                <a:moveTo>
                  <a:pt x="0" y="0"/>
                </a:moveTo>
                <a:lnTo>
                  <a:pt x="30472" y="0"/>
                </a:lnTo>
                <a:lnTo>
                  <a:pt x="30472" y="21600"/>
                </a:lnTo>
                <a:lnTo>
                  <a:pt x="0" y="21600"/>
                </a:lnTo>
                <a:close/>
              </a:path>
              <a:path fill="lightenLess" w="30472" h="21600">
                <a:moveTo>
                  <a:pt x="0" y="0"/>
                </a:moveTo>
                <a:lnTo>
                  <a:pt x="30472" y="0"/>
                </a:lnTo>
                <a:lnTo>
                  <a:pt x="29073" y="1400"/>
                </a:lnTo>
                <a:lnTo>
                  <a:pt x="1400" y="1400"/>
                </a:lnTo>
                <a:close/>
              </a:path>
              <a:path fill="darken" w="30472" h="21600">
                <a:moveTo>
                  <a:pt x="30472" y="0"/>
                </a:moveTo>
                <a:lnTo>
                  <a:pt x="30472" y="21600"/>
                </a:lnTo>
                <a:lnTo>
                  <a:pt x="29073" y="20200"/>
                </a:lnTo>
                <a:lnTo>
                  <a:pt x="29073" y="1400"/>
                </a:lnTo>
                <a:close/>
              </a:path>
              <a:path fill="darkenLess" w="30472" h="21600">
                <a:moveTo>
                  <a:pt x="30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73" y="20200"/>
                </a:lnTo>
                <a:close/>
              </a:path>
              <a:path fill="lighten" w="30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 0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380360" y="2708280"/>
            <a:ext cx="1763640" cy="1224000"/>
          </a:xfrm>
          <a:custGeom>
            <a:avLst/>
            <a:gdLst>
              <a:gd name="textAreaLeft" fmla="*/ 79200 w 1763640"/>
              <a:gd name="textAreaRight" fmla="*/ 1684440 w 176364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31120" h="21600">
                <a:moveTo>
                  <a:pt x="0" y="0"/>
                </a:moveTo>
                <a:lnTo>
                  <a:pt x="31120" y="0"/>
                </a:lnTo>
                <a:lnTo>
                  <a:pt x="31120" y="21600"/>
                </a:lnTo>
                <a:lnTo>
                  <a:pt x="0" y="21600"/>
                </a:lnTo>
                <a:close/>
              </a:path>
              <a:path fill="lightenLess" w="31120" h="21600">
                <a:moveTo>
                  <a:pt x="0" y="0"/>
                </a:moveTo>
                <a:lnTo>
                  <a:pt x="31120" y="0"/>
                </a:lnTo>
                <a:lnTo>
                  <a:pt x="29720" y="1400"/>
                </a:lnTo>
                <a:lnTo>
                  <a:pt x="1400" y="1400"/>
                </a:lnTo>
                <a:close/>
              </a:path>
              <a:path fill="darken" w="31120" h="21600">
                <a:moveTo>
                  <a:pt x="31120" y="0"/>
                </a:moveTo>
                <a:lnTo>
                  <a:pt x="31120" y="21600"/>
                </a:lnTo>
                <a:lnTo>
                  <a:pt x="29720" y="20200"/>
                </a:lnTo>
                <a:lnTo>
                  <a:pt x="29720" y="1400"/>
                </a:lnTo>
                <a:close/>
              </a:path>
              <a:path fill="darkenLess" w="31120" h="21600">
                <a:moveTo>
                  <a:pt x="311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20" y="20200"/>
                </a:lnTo>
                <a:close/>
              </a:path>
              <a:path fill="lighten" w="311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3 64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3933720"/>
            <a:ext cx="3924360" cy="720720"/>
          </a:xfrm>
          <a:custGeom>
            <a:avLst/>
            <a:gdLst>
              <a:gd name="textAreaLeft" fmla="*/ 46440 w 3924360"/>
              <a:gd name="textAreaRight" fmla="*/ 3877920 w 3924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17565" h="21600">
                <a:moveTo>
                  <a:pt x="0" y="0"/>
                </a:moveTo>
                <a:lnTo>
                  <a:pt x="117565" y="0"/>
                </a:lnTo>
                <a:lnTo>
                  <a:pt x="117565" y="21600"/>
                </a:lnTo>
                <a:lnTo>
                  <a:pt x="0" y="21600"/>
                </a:lnTo>
                <a:close/>
              </a:path>
              <a:path fill="lightenLess" w="117565" h="21600">
                <a:moveTo>
                  <a:pt x="0" y="0"/>
                </a:moveTo>
                <a:lnTo>
                  <a:pt x="117565" y="0"/>
                </a:lnTo>
                <a:lnTo>
                  <a:pt x="116165" y="1400"/>
                </a:lnTo>
                <a:lnTo>
                  <a:pt x="1400" y="1400"/>
                </a:lnTo>
                <a:close/>
              </a:path>
              <a:path fill="darken" w="117565" h="21600">
                <a:moveTo>
                  <a:pt x="117565" y="0"/>
                </a:moveTo>
                <a:lnTo>
                  <a:pt x="117565" y="21600"/>
                </a:lnTo>
                <a:lnTo>
                  <a:pt x="116165" y="20200"/>
                </a:lnTo>
                <a:lnTo>
                  <a:pt x="116165" y="1400"/>
                </a:lnTo>
                <a:close/>
              </a:path>
              <a:path fill="darkenLess" w="117565" h="21600">
                <a:moveTo>
                  <a:pt x="117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165" y="20200"/>
                </a:lnTo>
                <a:close/>
              </a:path>
              <a:path fill="lighten" w="117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ЦП «Предоставление образования по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бщеобразовательным программам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ошкольного образования на 2016-2018 годы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4653000"/>
            <a:ext cx="3924360" cy="720720"/>
          </a:xfrm>
          <a:custGeom>
            <a:avLst/>
            <a:gdLst>
              <a:gd name="textAreaLeft" fmla="*/ 46440 w 3924360"/>
              <a:gd name="textAreaRight" fmla="*/ 3877920 w 3924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17565" h="21600">
                <a:moveTo>
                  <a:pt x="0" y="0"/>
                </a:moveTo>
                <a:lnTo>
                  <a:pt x="117565" y="0"/>
                </a:lnTo>
                <a:lnTo>
                  <a:pt x="117565" y="21600"/>
                </a:lnTo>
                <a:lnTo>
                  <a:pt x="0" y="21600"/>
                </a:lnTo>
                <a:close/>
              </a:path>
              <a:path fill="lightenLess" w="117565" h="21600">
                <a:moveTo>
                  <a:pt x="0" y="0"/>
                </a:moveTo>
                <a:lnTo>
                  <a:pt x="117565" y="0"/>
                </a:lnTo>
                <a:lnTo>
                  <a:pt x="116165" y="1400"/>
                </a:lnTo>
                <a:lnTo>
                  <a:pt x="1400" y="1400"/>
                </a:lnTo>
                <a:close/>
              </a:path>
              <a:path fill="darken" w="117565" h="21600">
                <a:moveTo>
                  <a:pt x="117565" y="0"/>
                </a:moveTo>
                <a:lnTo>
                  <a:pt x="117565" y="21600"/>
                </a:lnTo>
                <a:lnTo>
                  <a:pt x="116165" y="20200"/>
                </a:lnTo>
                <a:lnTo>
                  <a:pt x="116165" y="1400"/>
                </a:lnTo>
                <a:close/>
              </a:path>
              <a:path fill="darkenLess" w="117565" h="21600">
                <a:moveTo>
                  <a:pt x="117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165" y="20200"/>
                </a:lnTo>
                <a:close/>
              </a:path>
              <a:path fill="lighten" w="117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ЦП «Предоставление дополнительн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бразования детям в Зырянском район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 2016-2018 годы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5373720"/>
            <a:ext cx="3924360" cy="720720"/>
          </a:xfrm>
          <a:custGeom>
            <a:avLst/>
            <a:gdLst>
              <a:gd name="textAreaLeft" fmla="*/ 46440 w 3924360"/>
              <a:gd name="textAreaRight" fmla="*/ 3877920 w 3924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17565" h="21600">
                <a:moveTo>
                  <a:pt x="0" y="0"/>
                </a:moveTo>
                <a:lnTo>
                  <a:pt x="117565" y="0"/>
                </a:lnTo>
                <a:lnTo>
                  <a:pt x="117565" y="21600"/>
                </a:lnTo>
                <a:lnTo>
                  <a:pt x="0" y="21600"/>
                </a:lnTo>
                <a:close/>
              </a:path>
              <a:path fill="lightenLess" w="117565" h="21600">
                <a:moveTo>
                  <a:pt x="0" y="0"/>
                </a:moveTo>
                <a:lnTo>
                  <a:pt x="117565" y="0"/>
                </a:lnTo>
                <a:lnTo>
                  <a:pt x="116165" y="1400"/>
                </a:lnTo>
                <a:lnTo>
                  <a:pt x="1400" y="1400"/>
                </a:lnTo>
                <a:close/>
              </a:path>
              <a:path fill="darken" w="117565" h="21600">
                <a:moveTo>
                  <a:pt x="117565" y="0"/>
                </a:moveTo>
                <a:lnTo>
                  <a:pt x="117565" y="21600"/>
                </a:lnTo>
                <a:lnTo>
                  <a:pt x="116165" y="20200"/>
                </a:lnTo>
                <a:lnTo>
                  <a:pt x="116165" y="1400"/>
                </a:lnTo>
                <a:close/>
              </a:path>
              <a:path fill="darkenLess" w="117565" h="21600">
                <a:moveTo>
                  <a:pt x="117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165" y="20200"/>
                </a:lnTo>
                <a:close/>
              </a:path>
              <a:path fill="lighten" w="117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ЦП «Создание условий для доступа к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лучению дополнительного образова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етям в возрасте от 3 до 18 лет на 2016-2018 г.г.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924360" y="3933720"/>
            <a:ext cx="1727280" cy="720720"/>
          </a:xfrm>
          <a:custGeom>
            <a:avLst/>
            <a:gdLst>
              <a:gd name="textAreaLeft" fmla="*/ 46440 w 1727280"/>
              <a:gd name="textAreaRight" fmla="*/ 1680840 w 1727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1752" h="21600">
                <a:moveTo>
                  <a:pt x="0" y="0"/>
                </a:moveTo>
                <a:lnTo>
                  <a:pt x="51752" y="0"/>
                </a:lnTo>
                <a:lnTo>
                  <a:pt x="51752" y="21600"/>
                </a:lnTo>
                <a:lnTo>
                  <a:pt x="0" y="21600"/>
                </a:lnTo>
                <a:close/>
              </a:path>
              <a:path fill="lightenLess" w="51752" h="21600">
                <a:moveTo>
                  <a:pt x="0" y="0"/>
                </a:moveTo>
                <a:lnTo>
                  <a:pt x="51752" y="0"/>
                </a:lnTo>
                <a:lnTo>
                  <a:pt x="50352" y="1400"/>
                </a:lnTo>
                <a:lnTo>
                  <a:pt x="1400" y="1400"/>
                </a:lnTo>
                <a:close/>
              </a:path>
              <a:path fill="darken" w="51752" h="21600">
                <a:moveTo>
                  <a:pt x="51752" y="0"/>
                </a:moveTo>
                <a:lnTo>
                  <a:pt x="51752" y="21600"/>
                </a:lnTo>
                <a:lnTo>
                  <a:pt x="50352" y="20200"/>
                </a:lnTo>
                <a:lnTo>
                  <a:pt x="50352" y="1400"/>
                </a:lnTo>
                <a:close/>
              </a:path>
              <a:path fill="darkenLess" w="51752" h="21600">
                <a:moveTo>
                  <a:pt x="51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52" y="20200"/>
                </a:lnTo>
                <a:close/>
              </a:path>
              <a:path fill="lighten" w="51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22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24360" y="4653000"/>
            <a:ext cx="1727280" cy="720720"/>
          </a:xfrm>
          <a:custGeom>
            <a:avLst/>
            <a:gdLst>
              <a:gd name="textAreaLeft" fmla="*/ 46440 w 1727280"/>
              <a:gd name="textAreaRight" fmla="*/ 1680840 w 1727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1752" h="21600">
                <a:moveTo>
                  <a:pt x="0" y="0"/>
                </a:moveTo>
                <a:lnTo>
                  <a:pt x="51752" y="0"/>
                </a:lnTo>
                <a:lnTo>
                  <a:pt x="51752" y="21600"/>
                </a:lnTo>
                <a:lnTo>
                  <a:pt x="0" y="21600"/>
                </a:lnTo>
                <a:close/>
              </a:path>
              <a:path fill="lightenLess" w="51752" h="21600">
                <a:moveTo>
                  <a:pt x="0" y="0"/>
                </a:moveTo>
                <a:lnTo>
                  <a:pt x="51752" y="0"/>
                </a:lnTo>
                <a:lnTo>
                  <a:pt x="50352" y="1400"/>
                </a:lnTo>
                <a:lnTo>
                  <a:pt x="1400" y="1400"/>
                </a:lnTo>
                <a:close/>
              </a:path>
              <a:path fill="darken" w="51752" h="21600">
                <a:moveTo>
                  <a:pt x="51752" y="0"/>
                </a:moveTo>
                <a:lnTo>
                  <a:pt x="51752" y="21600"/>
                </a:lnTo>
                <a:lnTo>
                  <a:pt x="50352" y="20200"/>
                </a:lnTo>
                <a:lnTo>
                  <a:pt x="50352" y="1400"/>
                </a:lnTo>
                <a:close/>
              </a:path>
              <a:path fill="darkenLess" w="51752" h="21600">
                <a:moveTo>
                  <a:pt x="51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52" y="20200"/>
                </a:lnTo>
                <a:close/>
              </a:path>
              <a:path fill="lighten" w="51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13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924360" y="5373720"/>
            <a:ext cx="1727280" cy="720720"/>
          </a:xfrm>
          <a:custGeom>
            <a:avLst/>
            <a:gdLst>
              <a:gd name="textAreaLeft" fmla="*/ 46440 w 1727280"/>
              <a:gd name="textAreaRight" fmla="*/ 1680840 w 1727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1752" h="21600">
                <a:moveTo>
                  <a:pt x="0" y="0"/>
                </a:moveTo>
                <a:lnTo>
                  <a:pt x="51752" y="0"/>
                </a:lnTo>
                <a:lnTo>
                  <a:pt x="51752" y="21600"/>
                </a:lnTo>
                <a:lnTo>
                  <a:pt x="0" y="21600"/>
                </a:lnTo>
                <a:close/>
              </a:path>
              <a:path fill="lightenLess" w="51752" h="21600">
                <a:moveTo>
                  <a:pt x="0" y="0"/>
                </a:moveTo>
                <a:lnTo>
                  <a:pt x="51752" y="0"/>
                </a:lnTo>
                <a:lnTo>
                  <a:pt x="50352" y="1400"/>
                </a:lnTo>
                <a:lnTo>
                  <a:pt x="1400" y="1400"/>
                </a:lnTo>
                <a:close/>
              </a:path>
              <a:path fill="darken" w="51752" h="21600">
                <a:moveTo>
                  <a:pt x="51752" y="0"/>
                </a:moveTo>
                <a:lnTo>
                  <a:pt x="51752" y="21600"/>
                </a:lnTo>
                <a:lnTo>
                  <a:pt x="50352" y="20200"/>
                </a:lnTo>
                <a:lnTo>
                  <a:pt x="50352" y="1400"/>
                </a:lnTo>
                <a:close/>
              </a:path>
              <a:path fill="darkenLess" w="51752" h="21600">
                <a:moveTo>
                  <a:pt x="51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52" y="20200"/>
                </a:lnTo>
                <a:close/>
              </a:path>
              <a:path fill="lighten" w="51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37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651640" y="3933720"/>
            <a:ext cx="1726920" cy="720720"/>
          </a:xfrm>
          <a:custGeom>
            <a:avLst/>
            <a:gdLst>
              <a:gd name="textAreaLeft" fmla="*/ 46440 w 1726920"/>
              <a:gd name="textAreaRight" fmla="*/ 1680480 w 1726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1741" h="21600">
                <a:moveTo>
                  <a:pt x="0" y="0"/>
                </a:moveTo>
                <a:lnTo>
                  <a:pt x="51741" y="0"/>
                </a:lnTo>
                <a:lnTo>
                  <a:pt x="51741" y="21600"/>
                </a:lnTo>
                <a:lnTo>
                  <a:pt x="0" y="21600"/>
                </a:lnTo>
                <a:close/>
              </a:path>
              <a:path fill="lightenLess" w="51741" h="21600">
                <a:moveTo>
                  <a:pt x="0" y="0"/>
                </a:moveTo>
                <a:lnTo>
                  <a:pt x="51741" y="0"/>
                </a:lnTo>
                <a:lnTo>
                  <a:pt x="50341" y="1400"/>
                </a:lnTo>
                <a:lnTo>
                  <a:pt x="1400" y="1400"/>
                </a:lnTo>
                <a:close/>
              </a:path>
              <a:path fill="darken" w="51741" h="21600">
                <a:moveTo>
                  <a:pt x="51741" y="0"/>
                </a:moveTo>
                <a:lnTo>
                  <a:pt x="51741" y="21600"/>
                </a:lnTo>
                <a:lnTo>
                  <a:pt x="50341" y="20200"/>
                </a:lnTo>
                <a:lnTo>
                  <a:pt x="50341" y="1400"/>
                </a:lnTo>
                <a:close/>
              </a:path>
              <a:path fill="darkenLess" w="51741" h="21600">
                <a:moveTo>
                  <a:pt x="51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41" y="20200"/>
                </a:lnTo>
                <a:close/>
              </a:path>
              <a:path fill="lighten" w="51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22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380360" y="3933720"/>
            <a:ext cx="1763640" cy="720720"/>
          </a:xfrm>
          <a:custGeom>
            <a:avLst/>
            <a:gdLst>
              <a:gd name="textAreaLeft" fmla="*/ 46440 w 1763640"/>
              <a:gd name="textAreaRight" fmla="*/ 1717200 w 17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2841" h="21600">
                <a:moveTo>
                  <a:pt x="0" y="0"/>
                </a:moveTo>
                <a:lnTo>
                  <a:pt x="52841" y="0"/>
                </a:lnTo>
                <a:lnTo>
                  <a:pt x="52841" y="21600"/>
                </a:lnTo>
                <a:lnTo>
                  <a:pt x="0" y="21600"/>
                </a:lnTo>
                <a:close/>
              </a:path>
              <a:path fill="lightenLess" w="52841" h="21600">
                <a:moveTo>
                  <a:pt x="0" y="0"/>
                </a:moveTo>
                <a:lnTo>
                  <a:pt x="52841" y="0"/>
                </a:lnTo>
                <a:lnTo>
                  <a:pt x="51441" y="1400"/>
                </a:lnTo>
                <a:lnTo>
                  <a:pt x="1400" y="1400"/>
                </a:lnTo>
                <a:close/>
              </a:path>
              <a:path fill="darken" w="52841" h="21600">
                <a:moveTo>
                  <a:pt x="52841" y="0"/>
                </a:moveTo>
                <a:lnTo>
                  <a:pt x="52841" y="21600"/>
                </a:lnTo>
                <a:lnTo>
                  <a:pt x="51441" y="20200"/>
                </a:lnTo>
                <a:lnTo>
                  <a:pt x="51441" y="1400"/>
                </a:lnTo>
                <a:close/>
              </a:path>
              <a:path fill="darkenLess" w="52841" h="21600">
                <a:moveTo>
                  <a:pt x="528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441" y="20200"/>
                </a:lnTo>
                <a:close/>
              </a:path>
              <a:path fill="lighten" w="528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72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380360" y="4653000"/>
            <a:ext cx="1763640" cy="720720"/>
          </a:xfrm>
          <a:custGeom>
            <a:avLst/>
            <a:gdLst>
              <a:gd name="textAreaLeft" fmla="*/ 46440 w 1763640"/>
              <a:gd name="textAreaRight" fmla="*/ 1717200 w 17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2841" h="21600">
                <a:moveTo>
                  <a:pt x="0" y="0"/>
                </a:moveTo>
                <a:lnTo>
                  <a:pt x="52841" y="0"/>
                </a:lnTo>
                <a:lnTo>
                  <a:pt x="52841" y="21600"/>
                </a:lnTo>
                <a:lnTo>
                  <a:pt x="0" y="21600"/>
                </a:lnTo>
                <a:close/>
              </a:path>
              <a:path fill="lightenLess" w="52841" h="21600">
                <a:moveTo>
                  <a:pt x="0" y="0"/>
                </a:moveTo>
                <a:lnTo>
                  <a:pt x="52841" y="0"/>
                </a:lnTo>
                <a:lnTo>
                  <a:pt x="51441" y="1400"/>
                </a:lnTo>
                <a:lnTo>
                  <a:pt x="1400" y="1400"/>
                </a:lnTo>
                <a:close/>
              </a:path>
              <a:path fill="darken" w="52841" h="21600">
                <a:moveTo>
                  <a:pt x="52841" y="0"/>
                </a:moveTo>
                <a:lnTo>
                  <a:pt x="52841" y="21600"/>
                </a:lnTo>
                <a:lnTo>
                  <a:pt x="51441" y="20200"/>
                </a:lnTo>
                <a:lnTo>
                  <a:pt x="51441" y="1400"/>
                </a:lnTo>
                <a:close/>
              </a:path>
              <a:path fill="darkenLess" w="52841" h="21600">
                <a:moveTo>
                  <a:pt x="528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441" y="20200"/>
                </a:lnTo>
                <a:close/>
              </a:path>
              <a:path fill="lighten" w="528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13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380360" y="5373720"/>
            <a:ext cx="1763640" cy="720720"/>
          </a:xfrm>
          <a:custGeom>
            <a:avLst/>
            <a:gdLst>
              <a:gd name="textAreaLeft" fmla="*/ 46440 w 1763640"/>
              <a:gd name="textAreaRight" fmla="*/ 1717200 w 17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2841" h="21600">
                <a:moveTo>
                  <a:pt x="0" y="0"/>
                </a:moveTo>
                <a:lnTo>
                  <a:pt x="52841" y="0"/>
                </a:lnTo>
                <a:lnTo>
                  <a:pt x="52841" y="21600"/>
                </a:lnTo>
                <a:lnTo>
                  <a:pt x="0" y="21600"/>
                </a:lnTo>
                <a:close/>
              </a:path>
              <a:path fill="lightenLess" w="52841" h="21600">
                <a:moveTo>
                  <a:pt x="0" y="0"/>
                </a:moveTo>
                <a:lnTo>
                  <a:pt x="52841" y="0"/>
                </a:lnTo>
                <a:lnTo>
                  <a:pt x="51441" y="1400"/>
                </a:lnTo>
                <a:lnTo>
                  <a:pt x="1400" y="1400"/>
                </a:lnTo>
                <a:close/>
              </a:path>
              <a:path fill="darken" w="52841" h="21600">
                <a:moveTo>
                  <a:pt x="52841" y="0"/>
                </a:moveTo>
                <a:lnTo>
                  <a:pt x="52841" y="21600"/>
                </a:lnTo>
                <a:lnTo>
                  <a:pt x="51441" y="20200"/>
                </a:lnTo>
                <a:lnTo>
                  <a:pt x="51441" y="1400"/>
                </a:lnTo>
                <a:close/>
              </a:path>
              <a:path fill="darkenLess" w="52841" h="21600">
                <a:moveTo>
                  <a:pt x="528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441" y="20200"/>
                </a:lnTo>
                <a:close/>
              </a:path>
              <a:path fill="lighten" w="528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87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651640" y="4653000"/>
            <a:ext cx="1726920" cy="720720"/>
          </a:xfrm>
          <a:custGeom>
            <a:avLst/>
            <a:gdLst>
              <a:gd name="textAreaLeft" fmla="*/ 46440 w 1726920"/>
              <a:gd name="textAreaRight" fmla="*/ 1680480 w 1726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1741" h="21600">
                <a:moveTo>
                  <a:pt x="0" y="0"/>
                </a:moveTo>
                <a:lnTo>
                  <a:pt x="51741" y="0"/>
                </a:lnTo>
                <a:lnTo>
                  <a:pt x="51741" y="21600"/>
                </a:lnTo>
                <a:lnTo>
                  <a:pt x="0" y="21600"/>
                </a:lnTo>
                <a:close/>
              </a:path>
              <a:path fill="lightenLess" w="51741" h="21600">
                <a:moveTo>
                  <a:pt x="0" y="0"/>
                </a:moveTo>
                <a:lnTo>
                  <a:pt x="51741" y="0"/>
                </a:lnTo>
                <a:lnTo>
                  <a:pt x="50341" y="1400"/>
                </a:lnTo>
                <a:lnTo>
                  <a:pt x="1400" y="1400"/>
                </a:lnTo>
                <a:close/>
              </a:path>
              <a:path fill="darken" w="51741" h="21600">
                <a:moveTo>
                  <a:pt x="51741" y="0"/>
                </a:moveTo>
                <a:lnTo>
                  <a:pt x="51741" y="21600"/>
                </a:lnTo>
                <a:lnTo>
                  <a:pt x="50341" y="20200"/>
                </a:lnTo>
                <a:lnTo>
                  <a:pt x="50341" y="1400"/>
                </a:lnTo>
                <a:close/>
              </a:path>
              <a:path fill="darkenLess" w="51741" h="21600">
                <a:moveTo>
                  <a:pt x="51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41" y="20200"/>
                </a:lnTo>
                <a:close/>
              </a:path>
              <a:path fill="lighten" w="51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65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651640" y="5373720"/>
            <a:ext cx="1726920" cy="720720"/>
          </a:xfrm>
          <a:custGeom>
            <a:avLst/>
            <a:gdLst>
              <a:gd name="textAreaLeft" fmla="*/ 46440 w 1726920"/>
              <a:gd name="textAreaRight" fmla="*/ 1680480 w 1726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1741" h="21600">
                <a:moveTo>
                  <a:pt x="0" y="0"/>
                </a:moveTo>
                <a:lnTo>
                  <a:pt x="51741" y="0"/>
                </a:lnTo>
                <a:lnTo>
                  <a:pt x="51741" y="21600"/>
                </a:lnTo>
                <a:lnTo>
                  <a:pt x="0" y="21600"/>
                </a:lnTo>
                <a:close/>
              </a:path>
              <a:path fill="lightenLess" w="51741" h="21600">
                <a:moveTo>
                  <a:pt x="0" y="0"/>
                </a:moveTo>
                <a:lnTo>
                  <a:pt x="51741" y="0"/>
                </a:lnTo>
                <a:lnTo>
                  <a:pt x="50341" y="1400"/>
                </a:lnTo>
                <a:lnTo>
                  <a:pt x="1400" y="1400"/>
                </a:lnTo>
                <a:close/>
              </a:path>
              <a:path fill="darken" w="51741" h="21600">
                <a:moveTo>
                  <a:pt x="51741" y="0"/>
                </a:moveTo>
                <a:lnTo>
                  <a:pt x="51741" y="21600"/>
                </a:lnTo>
                <a:lnTo>
                  <a:pt x="50341" y="20200"/>
                </a:lnTo>
                <a:lnTo>
                  <a:pt x="50341" y="1400"/>
                </a:lnTo>
                <a:close/>
              </a:path>
              <a:path fill="darkenLess" w="51741" h="21600">
                <a:moveTo>
                  <a:pt x="51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41" y="20200"/>
                </a:lnTo>
                <a:close/>
              </a:path>
              <a:path fill="lighten" w="51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 87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6093000"/>
            <a:ext cx="3924360" cy="765000"/>
          </a:xfrm>
          <a:custGeom>
            <a:avLst/>
            <a:gdLst>
              <a:gd name="textAreaLeft" fmla="*/ 49320 w 3924360"/>
              <a:gd name="textAreaRight" fmla="*/ 3875040 w 3924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110763" h="21600">
                <a:moveTo>
                  <a:pt x="0" y="0"/>
                </a:moveTo>
                <a:lnTo>
                  <a:pt x="110763" y="0"/>
                </a:lnTo>
                <a:lnTo>
                  <a:pt x="110763" y="21600"/>
                </a:lnTo>
                <a:lnTo>
                  <a:pt x="0" y="21600"/>
                </a:lnTo>
                <a:close/>
              </a:path>
              <a:path fill="lightenLess" w="110763" h="21600">
                <a:moveTo>
                  <a:pt x="0" y="0"/>
                </a:moveTo>
                <a:lnTo>
                  <a:pt x="110763" y="0"/>
                </a:lnTo>
                <a:lnTo>
                  <a:pt x="109364" y="1400"/>
                </a:lnTo>
                <a:lnTo>
                  <a:pt x="1400" y="1400"/>
                </a:lnTo>
                <a:close/>
              </a:path>
              <a:path fill="darken" w="110763" h="21600">
                <a:moveTo>
                  <a:pt x="110763" y="0"/>
                </a:moveTo>
                <a:lnTo>
                  <a:pt x="110763" y="21600"/>
                </a:lnTo>
                <a:lnTo>
                  <a:pt x="109364" y="20200"/>
                </a:lnTo>
                <a:lnTo>
                  <a:pt x="109364" y="1400"/>
                </a:lnTo>
                <a:close/>
              </a:path>
              <a:path fill="darkenLess" w="110763" h="21600">
                <a:moveTo>
                  <a:pt x="1107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364" y="20200"/>
                </a:lnTo>
                <a:close/>
              </a:path>
              <a:path fill="lighten" w="1107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ЦП «Создание условий для предоставления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селению Зырянского района культурно –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осуговых услуг на 2016 - по 2018 годы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924360" y="6093000"/>
            <a:ext cx="1727280" cy="765000"/>
          </a:xfrm>
          <a:custGeom>
            <a:avLst/>
            <a:gdLst>
              <a:gd name="textAreaLeft" fmla="*/ 49320 w 1727280"/>
              <a:gd name="textAreaRight" fmla="*/ 1677960 w 1727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48757" h="21600">
                <a:moveTo>
                  <a:pt x="0" y="0"/>
                </a:moveTo>
                <a:lnTo>
                  <a:pt x="48757" y="0"/>
                </a:lnTo>
                <a:lnTo>
                  <a:pt x="48757" y="21600"/>
                </a:lnTo>
                <a:lnTo>
                  <a:pt x="0" y="21600"/>
                </a:lnTo>
                <a:close/>
              </a:path>
              <a:path fill="lightenLess" w="48757" h="21600">
                <a:moveTo>
                  <a:pt x="0" y="0"/>
                </a:moveTo>
                <a:lnTo>
                  <a:pt x="48757" y="0"/>
                </a:lnTo>
                <a:lnTo>
                  <a:pt x="47358" y="1400"/>
                </a:lnTo>
                <a:lnTo>
                  <a:pt x="1400" y="1400"/>
                </a:lnTo>
                <a:close/>
              </a:path>
              <a:path fill="darken" w="48757" h="21600">
                <a:moveTo>
                  <a:pt x="48757" y="0"/>
                </a:moveTo>
                <a:lnTo>
                  <a:pt x="48757" y="21600"/>
                </a:lnTo>
                <a:lnTo>
                  <a:pt x="47358" y="20200"/>
                </a:lnTo>
                <a:lnTo>
                  <a:pt x="47358" y="1400"/>
                </a:lnTo>
                <a:close/>
              </a:path>
              <a:path fill="darkenLess" w="48757" h="21600">
                <a:moveTo>
                  <a:pt x="487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358" y="20200"/>
                </a:lnTo>
                <a:close/>
              </a:path>
              <a:path fill="lighten" w="487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26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651640" y="6093000"/>
            <a:ext cx="1728720" cy="765000"/>
          </a:xfrm>
          <a:custGeom>
            <a:avLst/>
            <a:gdLst>
              <a:gd name="textAreaLeft" fmla="*/ 49320 w 1728720"/>
              <a:gd name="textAreaRight" fmla="*/ 1679400 w 17287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48798" h="21600">
                <a:moveTo>
                  <a:pt x="0" y="0"/>
                </a:moveTo>
                <a:lnTo>
                  <a:pt x="48798" y="0"/>
                </a:lnTo>
                <a:lnTo>
                  <a:pt x="48798" y="21600"/>
                </a:lnTo>
                <a:lnTo>
                  <a:pt x="0" y="21600"/>
                </a:lnTo>
                <a:close/>
              </a:path>
              <a:path fill="lightenLess" w="48798" h="21600">
                <a:moveTo>
                  <a:pt x="0" y="0"/>
                </a:moveTo>
                <a:lnTo>
                  <a:pt x="48798" y="0"/>
                </a:lnTo>
                <a:lnTo>
                  <a:pt x="47398" y="1400"/>
                </a:lnTo>
                <a:lnTo>
                  <a:pt x="1400" y="1400"/>
                </a:lnTo>
                <a:close/>
              </a:path>
              <a:path fill="darken" w="48798" h="21600">
                <a:moveTo>
                  <a:pt x="48798" y="0"/>
                </a:moveTo>
                <a:lnTo>
                  <a:pt x="48798" y="21600"/>
                </a:lnTo>
                <a:lnTo>
                  <a:pt x="47398" y="20200"/>
                </a:lnTo>
                <a:lnTo>
                  <a:pt x="47398" y="1400"/>
                </a:lnTo>
                <a:close/>
              </a:path>
              <a:path fill="darkenLess" w="48798" h="21600">
                <a:moveTo>
                  <a:pt x="48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398" y="20200"/>
                </a:lnTo>
                <a:close/>
              </a:path>
              <a:path fill="lighten" w="48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26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380360" y="6093000"/>
            <a:ext cx="1763640" cy="765000"/>
          </a:xfrm>
          <a:custGeom>
            <a:avLst/>
            <a:gdLst>
              <a:gd name="textAreaLeft" fmla="*/ 49320 w 1763640"/>
              <a:gd name="textAreaRight" fmla="*/ 1714320 w 176364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49784" h="21600">
                <a:moveTo>
                  <a:pt x="0" y="0"/>
                </a:moveTo>
                <a:lnTo>
                  <a:pt x="49784" y="0"/>
                </a:lnTo>
                <a:lnTo>
                  <a:pt x="49784" y="21600"/>
                </a:lnTo>
                <a:lnTo>
                  <a:pt x="0" y="21600"/>
                </a:lnTo>
                <a:close/>
              </a:path>
              <a:path fill="lightenLess" w="49784" h="21600">
                <a:moveTo>
                  <a:pt x="0" y="0"/>
                </a:moveTo>
                <a:lnTo>
                  <a:pt x="49784" y="0"/>
                </a:lnTo>
                <a:lnTo>
                  <a:pt x="48384" y="1400"/>
                </a:lnTo>
                <a:lnTo>
                  <a:pt x="1400" y="1400"/>
                </a:lnTo>
                <a:close/>
              </a:path>
              <a:path fill="darken" w="49784" h="21600">
                <a:moveTo>
                  <a:pt x="49784" y="0"/>
                </a:moveTo>
                <a:lnTo>
                  <a:pt x="49784" y="21600"/>
                </a:lnTo>
                <a:lnTo>
                  <a:pt x="48384" y="20200"/>
                </a:lnTo>
                <a:lnTo>
                  <a:pt x="48384" y="1400"/>
                </a:lnTo>
                <a:close/>
              </a:path>
              <a:path fill="darkenLess" w="49784" h="21600">
                <a:moveTo>
                  <a:pt x="49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384" y="20200"/>
                </a:lnTo>
                <a:close/>
              </a:path>
              <a:path fill="lighten" w="49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26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0" y="1413000"/>
            <a:ext cx="3924360" cy="720720"/>
          </a:xfrm>
          <a:custGeom>
            <a:avLst/>
            <a:gdLst>
              <a:gd name="textAreaLeft" fmla="*/ 46440 w 3924360"/>
              <a:gd name="textAreaRight" fmla="*/ 3877920 w 3924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17565" h="21600">
                <a:moveTo>
                  <a:pt x="0" y="0"/>
                </a:moveTo>
                <a:lnTo>
                  <a:pt x="117565" y="0"/>
                </a:lnTo>
                <a:lnTo>
                  <a:pt x="117565" y="21600"/>
                </a:lnTo>
                <a:lnTo>
                  <a:pt x="0" y="21600"/>
                </a:lnTo>
                <a:close/>
              </a:path>
              <a:path fill="lightenLess" w="117565" h="21600">
                <a:moveTo>
                  <a:pt x="0" y="0"/>
                </a:moveTo>
                <a:lnTo>
                  <a:pt x="117565" y="0"/>
                </a:lnTo>
                <a:lnTo>
                  <a:pt x="116165" y="1400"/>
                </a:lnTo>
                <a:lnTo>
                  <a:pt x="1400" y="1400"/>
                </a:lnTo>
                <a:close/>
              </a:path>
              <a:path fill="darken" w="117565" h="21600">
                <a:moveTo>
                  <a:pt x="117565" y="0"/>
                </a:moveTo>
                <a:lnTo>
                  <a:pt x="117565" y="21600"/>
                </a:lnTo>
                <a:lnTo>
                  <a:pt x="116165" y="20200"/>
                </a:lnTo>
                <a:lnTo>
                  <a:pt x="116165" y="1400"/>
                </a:lnTo>
                <a:close/>
              </a:path>
              <a:path fill="darkenLess" w="117565" h="21600">
                <a:moveTo>
                  <a:pt x="117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165" y="20200"/>
                </a:lnTo>
                <a:close/>
              </a:path>
              <a:path fill="lighten" w="117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ЦП "Создание условий для предоставления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селению Зырянского района библиотечных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услуг" на 2016 — 2018 годы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924360" y="1413000"/>
            <a:ext cx="1727280" cy="720720"/>
          </a:xfrm>
          <a:custGeom>
            <a:avLst/>
            <a:gdLst>
              <a:gd name="textAreaLeft" fmla="*/ 46440 w 1727280"/>
              <a:gd name="textAreaRight" fmla="*/ 1680840 w 1727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1752" h="21600">
                <a:moveTo>
                  <a:pt x="0" y="0"/>
                </a:moveTo>
                <a:lnTo>
                  <a:pt x="51752" y="0"/>
                </a:lnTo>
                <a:lnTo>
                  <a:pt x="51752" y="21600"/>
                </a:lnTo>
                <a:lnTo>
                  <a:pt x="0" y="21600"/>
                </a:lnTo>
                <a:close/>
              </a:path>
              <a:path fill="lightenLess" w="51752" h="21600">
                <a:moveTo>
                  <a:pt x="0" y="0"/>
                </a:moveTo>
                <a:lnTo>
                  <a:pt x="51752" y="0"/>
                </a:lnTo>
                <a:lnTo>
                  <a:pt x="50352" y="1400"/>
                </a:lnTo>
                <a:lnTo>
                  <a:pt x="1400" y="1400"/>
                </a:lnTo>
                <a:close/>
              </a:path>
              <a:path fill="darken" w="51752" h="21600">
                <a:moveTo>
                  <a:pt x="51752" y="0"/>
                </a:moveTo>
                <a:lnTo>
                  <a:pt x="51752" y="21600"/>
                </a:lnTo>
                <a:lnTo>
                  <a:pt x="50352" y="20200"/>
                </a:lnTo>
                <a:lnTo>
                  <a:pt x="50352" y="1400"/>
                </a:lnTo>
                <a:close/>
              </a:path>
              <a:path fill="darkenLess" w="51752" h="21600">
                <a:moveTo>
                  <a:pt x="51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52" y="20200"/>
                </a:lnTo>
                <a:close/>
              </a:path>
              <a:path fill="lighten" w="51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9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651640" y="1413000"/>
            <a:ext cx="1728720" cy="720720"/>
          </a:xfrm>
          <a:custGeom>
            <a:avLst/>
            <a:gdLst>
              <a:gd name="textAreaLeft" fmla="*/ 46440 w 1728720"/>
              <a:gd name="textAreaRight" fmla="*/ 1682280 w 1728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1795" h="21600">
                <a:moveTo>
                  <a:pt x="0" y="0"/>
                </a:moveTo>
                <a:lnTo>
                  <a:pt x="51795" y="0"/>
                </a:lnTo>
                <a:lnTo>
                  <a:pt x="51795" y="21600"/>
                </a:lnTo>
                <a:lnTo>
                  <a:pt x="0" y="21600"/>
                </a:lnTo>
                <a:close/>
              </a:path>
              <a:path fill="lightenLess" w="51795" h="21600">
                <a:moveTo>
                  <a:pt x="0" y="0"/>
                </a:moveTo>
                <a:lnTo>
                  <a:pt x="51795" y="0"/>
                </a:lnTo>
                <a:lnTo>
                  <a:pt x="50395" y="1400"/>
                </a:lnTo>
                <a:lnTo>
                  <a:pt x="1400" y="1400"/>
                </a:lnTo>
                <a:close/>
              </a:path>
              <a:path fill="darken" w="51795" h="21600">
                <a:moveTo>
                  <a:pt x="51795" y="0"/>
                </a:moveTo>
                <a:lnTo>
                  <a:pt x="51795" y="21600"/>
                </a:lnTo>
                <a:lnTo>
                  <a:pt x="50395" y="20200"/>
                </a:lnTo>
                <a:lnTo>
                  <a:pt x="50395" y="1400"/>
                </a:lnTo>
                <a:close/>
              </a:path>
              <a:path fill="darkenLess" w="51795" h="21600">
                <a:moveTo>
                  <a:pt x="51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95" y="20200"/>
                </a:lnTo>
                <a:close/>
              </a:path>
              <a:path fill="lighten" w="51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4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380360" y="1413000"/>
            <a:ext cx="1763640" cy="720720"/>
          </a:xfrm>
          <a:custGeom>
            <a:avLst/>
            <a:gdLst>
              <a:gd name="textAreaLeft" fmla="*/ 46440 w 1763640"/>
              <a:gd name="textAreaRight" fmla="*/ 1717200 w 17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2841" h="21600">
                <a:moveTo>
                  <a:pt x="0" y="0"/>
                </a:moveTo>
                <a:lnTo>
                  <a:pt x="52841" y="0"/>
                </a:lnTo>
                <a:lnTo>
                  <a:pt x="52841" y="21600"/>
                </a:lnTo>
                <a:lnTo>
                  <a:pt x="0" y="21600"/>
                </a:lnTo>
                <a:close/>
              </a:path>
              <a:path fill="lightenLess" w="52841" h="21600">
                <a:moveTo>
                  <a:pt x="0" y="0"/>
                </a:moveTo>
                <a:lnTo>
                  <a:pt x="52841" y="0"/>
                </a:lnTo>
                <a:lnTo>
                  <a:pt x="51441" y="1400"/>
                </a:lnTo>
                <a:lnTo>
                  <a:pt x="1400" y="1400"/>
                </a:lnTo>
                <a:close/>
              </a:path>
              <a:path fill="darken" w="52841" h="21600">
                <a:moveTo>
                  <a:pt x="52841" y="0"/>
                </a:moveTo>
                <a:lnTo>
                  <a:pt x="52841" y="21600"/>
                </a:lnTo>
                <a:lnTo>
                  <a:pt x="51441" y="20200"/>
                </a:lnTo>
                <a:lnTo>
                  <a:pt x="51441" y="1400"/>
                </a:lnTo>
                <a:close/>
              </a:path>
              <a:path fill="darkenLess" w="52841" h="21600">
                <a:moveTo>
                  <a:pt x="528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441" y="20200"/>
                </a:lnTo>
                <a:close/>
              </a:path>
              <a:path fill="lighten" w="528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 4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2133720"/>
            <a:ext cx="3924360" cy="720720"/>
          </a:xfrm>
          <a:custGeom>
            <a:avLst/>
            <a:gdLst>
              <a:gd name="textAreaLeft" fmla="*/ 46440 w 3924360"/>
              <a:gd name="textAreaRight" fmla="*/ 3877920 w 3924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17565" h="21600">
                <a:moveTo>
                  <a:pt x="0" y="0"/>
                </a:moveTo>
                <a:lnTo>
                  <a:pt x="117565" y="0"/>
                </a:lnTo>
                <a:lnTo>
                  <a:pt x="117565" y="21600"/>
                </a:lnTo>
                <a:lnTo>
                  <a:pt x="0" y="21600"/>
                </a:lnTo>
                <a:close/>
              </a:path>
              <a:path fill="lightenLess" w="117565" h="21600">
                <a:moveTo>
                  <a:pt x="0" y="0"/>
                </a:moveTo>
                <a:lnTo>
                  <a:pt x="117565" y="0"/>
                </a:lnTo>
                <a:lnTo>
                  <a:pt x="116165" y="1400"/>
                </a:lnTo>
                <a:lnTo>
                  <a:pt x="1400" y="1400"/>
                </a:lnTo>
                <a:close/>
              </a:path>
              <a:path fill="darken" w="117565" h="21600">
                <a:moveTo>
                  <a:pt x="117565" y="0"/>
                </a:moveTo>
                <a:lnTo>
                  <a:pt x="117565" y="21600"/>
                </a:lnTo>
                <a:lnTo>
                  <a:pt x="116165" y="20200"/>
                </a:lnTo>
                <a:lnTo>
                  <a:pt x="116165" y="1400"/>
                </a:lnTo>
                <a:close/>
              </a:path>
              <a:path fill="darkenLess" w="117565" h="21600">
                <a:moveTo>
                  <a:pt x="117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165" y="20200"/>
                </a:lnTo>
                <a:close/>
              </a:path>
              <a:path fill="lighten" w="117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ЦП «Создание условий для предоставле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зейных услуг населению Зырянского района"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 2016 - 2018 г.г.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24360" y="2133720"/>
            <a:ext cx="1728720" cy="720720"/>
          </a:xfrm>
          <a:custGeom>
            <a:avLst/>
            <a:gdLst>
              <a:gd name="textAreaLeft" fmla="*/ 46440 w 1728720"/>
              <a:gd name="textAreaRight" fmla="*/ 1682280 w 1728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1795" h="21600">
                <a:moveTo>
                  <a:pt x="0" y="0"/>
                </a:moveTo>
                <a:lnTo>
                  <a:pt x="51795" y="0"/>
                </a:lnTo>
                <a:lnTo>
                  <a:pt x="51795" y="21600"/>
                </a:lnTo>
                <a:lnTo>
                  <a:pt x="0" y="21600"/>
                </a:lnTo>
                <a:close/>
              </a:path>
              <a:path fill="lightenLess" w="51795" h="21600">
                <a:moveTo>
                  <a:pt x="0" y="0"/>
                </a:moveTo>
                <a:lnTo>
                  <a:pt x="51795" y="0"/>
                </a:lnTo>
                <a:lnTo>
                  <a:pt x="50395" y="1400"/>
                </a:lnTo>
                <a:lnTo>
                  <a:pt x="1400" y="1400"/>
                </a:lnTo>
                <a:close/>
              </a:path>
              <a:path fill="darken" w="51795" h="21600">
                <a:moveTo>
                  <a:pt x="51795" y="0"/>
                </a:moveTo>
                <a:lnTo>
                  <a:pt x="51795" y="21600"/>
                </a:lnTo>
                <a:lnTo>
                  <a:pt x="50395" y="20200"/>
                </a:lnTo>
                <a:lnTo>
                  <a:pt x="50395" y="1400"/>
                </a:lnTo>
                <a:close/>
              </a:path>
              <a:path fill="darkenLess" w="51795" h="21600">
                <a:moveTo>
                  <a:pt x="51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95" y="20200"/>
                </a:lnTo>
                <a:close/>
              </a:path>
              <a:path fill="lighten" w="51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26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651640" y="2133720"/>
            <a:ext cx="1728720" cy="720720"/>
          </a:xfrm>
          <a:custGeom>
            <a:avLst/>
            <a:gdLst>
              <a:gd name="textAreaLeft" fmla="*/ 46440 w 1728720"/>
              <a:gd name="textAreaRight" fmla="*/ 1682280 w 1728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1795" h="21600">
                <a:moveTo>
                  <a:pt x="0" y="0"/>
                </a:moveTo>
                <a:lnTo>
                  <a:pt x="51795" y="0"/>
                </a:lnTo>
                <a:lnTo>
                  <a:pt x="51795" y="21600"/>
                </a:lnTo>
                <a:lnTo>
                  <a:pt x="0" y="21600"/>
                </a:lnTo>
                <a:close/>
              </a:path>
              <a:path fill="lightenLess" w="51795" h="21600">
                <a:moveTo>
                  <a:pt x="0" y="0"/>
                </a:moveTo>
                <a:lnTo>
                  <a:pt x="51795" y="0"/>
                </a:lnTo>
                <a:lnTo>
                  <a:pt x="50395" y="1400"/>
                </a:lnTo>
                <a:lnTo>
                  <a:pt x="1400" y="1400"/>
                </a:lnTo>
                <a:close/>
              </a:path>
              <a:path fill="darken" w="51795" h="21600">
                <a:moveTo>
                  <a:pt x="51795" y="0"/>
                </a:moveTo>
                <a:lnTo>
                  <a:pt x="51795" y="21600"/>
                </a:lnTo>
                <a:lnTo>
                  <a:pt x="50395" y="20200"/>
                </a:lnTo>
                <a:lnTo>
                  <a:pt x="50395" y="1400"/>
                </a:lnTo>
                <a:close/>
              </a:path>
              <a:path fill="darkenLess" w="51795" h="21600">
                <a:moveTo>
                  <a:pt x="51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95" y="20200"/>
                </a:lnTo>
                <a:close/>
              </a:path>
              <a:path fill="lighten" w="51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27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7380360" y="2133720"/>
            <a:ext cx="1763640" cy="720720"/>
          </a:xfrm>
          <a:custGeom>
            <a:avLst/>
            <a:gdLst>
              <a:gd name="textAreaLeft" fmla="*/ 46440 w 1763640"/>
              <a:gd name="textAreaRight" fmla="*/ 1717200 w 17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2841" h="21600">
                <a:moveTo>
                  <a:pt x="0" y="0"/>
                </a:moveTo>
                <a:lnTo>
                  <a:pt x="52841" y="0"/>
                </a:lnTo>
                <a:lnTo>
                  <a:pt x="52841" y="21600"/>
                </a:lnTo>
                <a:lnTo>
                  <a:pt x="0" y="21600"/>
                </a:lnTo>
                <a:close/>
              </a:path>
              <a:path fill="lightenLess" w="52841" h="21600">
                <a:moveTo>
                  <a:pt x="0" y="0"/>
                </a:moveTo>
                <a:lnTo>
                  <a:pt x="52841" y="0"/>
                </a:lnTo>
                <a:lnTo>
                  <a:pt x="51441" y="1400"/>
                </a:lnTo>
                <a:lnTo>
                  <a:pt x="1400" y="1400"/>
                </a:lnTo>
                <a:close/>
              </a:path>
              <a:path fill="darken" w="52841" h="21600">
                <a:moveTo>
                  <a:pt x="52841" y="0"/>
                </a:moveTo>
                <a:lnTo>
                  <a:pt x="52841" y="21600"/>
                </a:lnTo>
                <a:lnTo>
                  <a:pt x="51441" y="20200"/>
                </a:lnTo>
                <a:lnTo>
                  <a:pt x="51441" y="1400"/>
                </a:lnTo>
                <a:close/>
              </a:path>
              <a:path fill="darkenLess" w="52841" h="21600">
                <a:moveTo>
                  <a:pt x="528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441" y="20200"/>
                </a:lnTo>
                <a:close/>
              </a:path>
              <a:path fill="lighten" w="528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27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0" y="2852640"/>
            <a:ext cx="3924360" cy="1008000"/>
          </a:xfrm>
          <a:custGeom>
            <a:avLst/>
            <a:gdLst>
              <a:gd name="textAreaLeft" fmla="*/ 65160 w 3924360"/>
              <a:gd name="textAreaRight" fmla="*/ 3859200 w 392436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84071" h="21600">
                <a:moveTo>
                  <a:pt x="0" y="0"/>
                </a:moveTo>
                <a:lnTo>
                  <a:pt x="84071" y="0"/>
                </a:lnTo>
                <a:lnTo>
                  <a:pt x="84071" y="21600"/>
                </a:lnTo>
                <a:lnTo>
                  <a:pt x="0" y="21600"/>
                </a:lnTo>
                <a:close/>
              </a:path>
              <a:path fill="lightenLess" w="84071" h="21600">
                <a:moveTo>
                  <a:pt x="0" y="0"/>
                </a:moveTo>
                <a:lnTo>
                  <a:pt x="84071" y="0"/>
                </a:lnTo>
                <a:lnTo>
                  <a:pt x="82671" y="1400"/>
                </a:lnTo>
                <a:lnTo>
                  <a:pt x="1400" y="1400"/>
                </a:lnTo>
                <a:close/>
              </a:path>
              <a:path fill="darken" w="84071" h="21600">
                <a:moveTo>
                  <a:pt x="84071" y="0"/>
                </a:moveTo>
                <a:lnTo>
                  <a:pt x="84071" y="21600"/>
                </a:lnTo>
                <a:lnTo>
                  <a:pt x="82671" y="20200"/>
                </a:lnTo>
                <a:lnTo>
                  <a:pt x="82671" y="1400"/>
                </a:lnTo>
                <a:close/>
              </a:path>
              <a:path fill="darkenLess" w="84071" h="21600">
                <a:moveTo>
                  <a:pt x="84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2671" y="20200"/>
                </a:lnTo>
                <a:close/>
              </a:path>
              <a:path fill="lighten" w="84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ЦП «Создание условий для обеспече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авных финансовых возможностей сельских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селений Зырянского района на 2016-2018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годы по решению вопросов местного значения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924360" y="2852640"/>
            <a:ext cx="1728720" cy="1008000"/>
          </a:xfrm>
          <a:custGeom>
            <a:avLst/>
            <a:gdLst>
              <a:gd name="textAreaLeft" fmla="*/ 65160 w 1728720"/>
              <a:gd name="textAreaRight" fmla="*/ 1663560 w 172872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7038" h="21600">
                <a:moveTo>
                  <a:pt x="0" y="0"/>
                </a:moveTo>
                <a:lnTo>
                  <a:pt x="37038" y="0"/>
                </a:lnTo>
                <a:lnTo>
                  <a:pt x="37038" y="21600"/>
                </a:lnTo>
                <a:lnTo>
                  <a:pt x="0" y="21600"/>
                </a:lnTo>
                <a:close/>
              </a:path>
              <a:path fill="lightenLess" w="37038" h="21600">
                <a:moveTo>
                  <a:pt x="0" y="0"/>
                </a:moveTo>
                <a:lnTo>
                  <a:pt x="37038" y="0"/>
                </a:lnTo>
                <a:lnTo>
                  <a:pt x="35639" y="1400"/>
                </a:lnTo>
                <a:lnTo>
                  <a:pt x="1400" y="1400"/>
                </a:lnTo>
                <a:close/>
              </a:path>
              <a:path fill="darken" w="37038" h="21600">
                <a:moveTo>
                  <a:pt x="37038" y="0"/>
                </a:moveTo>
                <a:lnTo>
                  <a:pt x="37038" y="21600"/>
                </a:lnTo>
                <a:lnTo>
                  <a:pt x="35639" y="20200"/>
                </a:lnTo>
                <a:lnTo>
                  <a:pt x="35639" y="1400"/>
                </a:lnTo>
                <a:close/>
              </a:path>
              <a:path fill="darkenLess" w="37038" h="21600">
                <a:moveTo>
                  <a:pt x="37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9" y="20200"/>
                </a:lnTo>
                <a:close/>
              </a:path>
              <a:path fill="lighten" w="37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 05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651640" y="2852640"/>
            <a:ext cx="1728720" cy="1008000"/>
          </a:xfrm>
          <a:custGeom>
            <a:avLst/>
            <a:gdLst>
              <a:gd name="textAreaLeft" fmla="*/ 65160 w 1728720"/>
              <a:gd name="textAreaRight" fmla="*/ 1663560 w 172872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7038" h="21600">
                <a:moveTo>
                  <a:pt x="0" y="0"/>
                </a:moveTo>
                <a:lnTo>
                  <a:pt x="37038" y="0"/>
                </a:lnTo>
                <a:lnTo>
                  <a:pt x="37038" y="21600"/>
                </a:lnTo>
                <a:lnTo>
                  <a:pt x="0" y="21600"/>
                </a:lnTo>
                <a:close/>
              </a:path>
              <a:path fill="lightenLess" w="37038" h="21600">
                <a:moveTo>
                  <a:pt x="0" y="0"/>
                </a:moveTo>
                <a:lnTo>
                  <a:pt x="37038" y="0"/>
                </a:lnTo>
                <a:lnTo>
                  <a:pt x="35639" y="1400"/>
                </a:lnTo>
                <a:lnTo>
                  <a:pt x="1400" y="1400"/>
                </a:lnTo>
                <a:close/>
              </a:path>
              <a:path fill="darken" w="37038" h="21600">
                <a:moveTo>
                  <a:pt x="37038" y="0"/>
                </a:moveTo>
                <a:lnTo>
                  <a:pt x="37038" y="21600"/>
                </a:lnTo>
                <a:lnTo>
                  <a:pt x="35639" y="20200"/>
                </a:lnTo>
                <a:lnTo>
                  <a:pt x="35639" y="1400"/>
                </a:lnTo>
                <a:close/>
              </a:path>
              <a:path fill="darkenLess" w="37038" h="21600">
                <a:moveTo>
                  <a:pt x="37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9" y="20200"/>
                </a:lnTo>
                <a:close/>
              </a:path>
              <a:path fill="lighten" w="37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 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7380360" y="2852640"/>
            <a:ext cx="1763640" cy="1008000"/>
          </a:xfrm>
          <a:custGeom>
            <a:avLst/>
            <a:gdLst>
              <a:gd name="textAreaLeft" fmla="*/ 65160 w 1763640"/>
              <a:gd name="textAreaRight" fmla="*/ 1698480 w 1763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37787" h="21600">
                <a:moveTo>
                  <a:pt x="0" y="0"/>
                </a:moveTo>
                <a:lnTo>
                  <a:pt x="37787" y="0"/>
                </a:lnTo>
                <a:lnTo>
                  <a:pt x="37787" y="21600"/>
                </a:lnTo>
                <a:lnTo>
                  <a:pt x="0" y="21600"/>
                </a:lnTo>
                <a:close/>
              </a:path>
              <a:path fill="lightenLess" w="37787" h="21600">
                <a:moveTo>
                  <a:pt x="0" y="0"/>
                </a:moveTo>
                <a:lnTo>
                  <a:pt x="37787" y="0"/>
                </a:lnTo>
                <a:lnTo>
                  <a:pt x="36387" y="1400"/>
                </a:lnTo>
                <a:lnTo>
                  <a:pt x="1400" y="1400"/>
                </a:lnTo>
                <a:close/>
              </a:path>
              <a:path fill="darken" w="37787" h="21600">
                <a:moveTo>
                  <a:pt x="37787" y="0"/>
                </a:moveTo>
                <a:lnTo>
                  <a:pt x="37787" y="21600"/>
                </a:lnTo>
                <a:lnTo>
                  <a:pt x="36387" y="20200"/>
                </a:lnTo>
                <a:lnTo>
                  <a:pt x="36387" y="1400"/>
                </a:lnTo>
                <a:close/>
              </a:path>
              <a:path fill="darkenLess" w="37787" h="21600">
                <a:moveTo>
                  <a:pt x="37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87" y="20200"/>
                </a:lnTo>
                <a:close/>
              </a:path>
              <a:path fill="lighten" w="37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64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0" y="4292640"/>
            <a:ext cx="9144000" cy="431640"/>
          </a:xfrm>
          <a:custGeom>
            <a:avLst/>
            <a:gdLst>
              <a:gd name="textAreaLeft" fmla="*/ 27720 w 9144000"/>
              <a:gd name="textAreaRight" fmla="*/ 9116280 w 9144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57218" h="21600">
                <a:moveTo>
                  <a:pt x="0" y="0"/>
                </a:moveTo>
                <a:lnTo>
                  <a:pt x="457218" y="0"/>
                </a:lnTo>
                <a:lnTo>
                  <a:pt x="457218" y="21600"/>
                </a:lnTo>
                <a:lnTo>
                  <a:pt x="0" y="21600"/>
                </a:lnTo>
                <a:close/>
              </a:path>
              <a:path fill="lightenLess" w="457218" h="21600">
                <a:moveTo>
                  <a:pt x="0" y="0"/>
                </a:moveTo>
                <a:lnTo>
                  <a:pt x="457218" y="0"/>
                </a:lnTo>
                <a:lnTo>
                  <a:pt x="455818" y="1400"/>
                </a:lnTo>
                <a:lnTo>
                  <a:pt x="1400" y="1400"/>
                </a:lnTo>
                <a:close/>
              </a:path>
              <a:path fill="darken" w="457218" h="21600">
                <a:moveTo>
                  <a:pt x="457218" y="0"/>
                </a:moveTo>
                <a:lnTo>
                  <a:pt x="457218" y="21600"/>
                </a:lnTo>
                <a:lnTo>
                  <a:pt x="455818" y="20200"/>
                </a:lnTo>
                <a:lnTo>
                  <a:pt x="455818" y="1400"/>
                </a:lnTo>
                <a:close/>
              </a:path>
              <a:path fill="darkenLess" w="457218" h="21600">
                <a:moveTo>
                  <a:pt x="457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5818" y="20200"/>
                </a:lnTo>
                <a:close/>
              </a:path>
              <a:path fill="lighten" w="457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ВЦП, носящие срочный характе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4724280"/>
            <a:ext cx="3924360" cy="865440"/>
          </a:xfrm>
          <a:custGeom>
            <a:avLst/>
            <a:gdLst>
              <a:gd name="textAreaLeft" fmla="*/ 55800 w 3924360"/>
              <a:gd name="textAreaRight" fmla="*/ 3868560 w 3924360"/>
              <a:gd name="textAreaTop" fmla="*/ 55800 h 865440"/>
              <a:gd name="textAreaBottom" fmla="*/ 809640 h 865440"/>
            </a:gdLst>
            <a:ahLst/>
            <a:rect l="textAreaLeft" t="textAreaTop" r="textAreaRight" b="textAreaBottom"/>
            <a:pathLst>
              <a:path w="97914" h="21600">
                <a:moveTo>
                  <a:pt x="0" y="0"/>
                </a:moveTo>
                <a:lnTo>
                  <a:pt x="97914" y="0"/>
                </a:lnTo>
                <a:lnTo>
                  <a:pt x="97914" y="21600"/>
                </a:lnTo>
                <a:lnTo>
                  <a:pt x="0" y="21600"/>
                </a:lnTo>
                <a:close/>
              </a:path>
              <a:path fill="lightenLess" w="97914" h="21600">
                <a:moveTo>
                  <a:pt x="0" y="0"/>
                </a:moveTo>
                <a:lnTo>
                  <a:pt x="97914" y="0"/>
                </a:lnTo>
                <a:lnTo>
                  <a:pt x="96514" y="1400"/>
                </a:lnTo>
                <a:lnTo>
                  <a:pt x="1400" y="1400"/>
                </a:lnTo>
                <a:close/>
              </a:path>
              <a:path fill="darken" w="97914" h="21600">
                <a:moveTo>
                  <a:pt x="97914" y="0"/>
                </a:moveTo>
                <a:lnTo>
                  <a:pt x="97914" y="21600"/>
                </a:lnTo>
                <a:lnTo>
                  <a:pt x="96514" y="20200"/>
                </a:lnTo>
                <a:lnTo>
                  <a:pt x="96514" y="1400"/>
                </a:lnTo>
                <a:close/>
              </a:path>
              <a:path fill="darkenLess" w="97914" h="21600">
                <a:moveTo>
                  <a:pt x="97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6514" y="20200"/>
                </a:lnTo>
                <a:close/>
              </a:path>
              <a:path fill="lighten" w="97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ЦП «Противопожарная безопасност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бразовательных организаций Зырян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айона на 2016-2018 годы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5589720"/>
            <a:ext cx="3924360" cy="1268280"/>
          </a:xfrm>
          <a:custGeom>
            <a:avLst/>
            <a:gdLst>
              <a:gd name="textAreaLeft" fmla="*/ 82080 w 3924360"/>
              <a:gd name="textAreaRight" fmla="*/ 3842280 w 392436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66823" h="21600">
                <a:moveTo>
                  <a:pt x="0" y="0"/>
                </a:moveTo>
                <a:lnTo>
                  <a:pt x="66823" y="0"/>
                </a:lnTo>
                <a:lnTo>
                  <a:pt x="66823" y="21600"/>
                </a:lnTo>
                <a:lnTo>
                  <a:pt x="0" y="21600"/>
                </a:lnTo>
                <a:close/>
              </a:path>
              <a:path fill="lightenLess" w="66823" h="21600">
                <a:moveTo>
                  <a:pt x="0" y="0"/>
                </a:moveTo>
                <a:lnTo>
                  <a:pt x="66823" y="0"/>
                </a:lnTo>
                <a:lnTo>
                  <a:pt x="65423" y="1400"/>
                </a:lnTo>
                <a:lnTo>
                  <a:pt x="1400" y="1400"/>
                </a:lnTo>
                <a:close/>
              </a:path>
              <a:path fill="darken" w="66823" h="21600">
                <a:moveTo>
                  <a:pt x="66823" y="0"/>
                </a:moveTo>
                <a:lnTo>
                  <a:pt x="66823" y="21600"/>
                </a:lnTo>
                <a:lnTo>
                  <a:pt x="65423" y="20200"/>
                </a:lnTo>
                <a:lnTo>
                  <a:pt x="65423" y="1400"/>
                </a:lnTo>
                <a:close/>
              </a:path>
              <a:path fill="darkenLess" w="66823" h="21600">
                <a:moveTo>
                  <a:pt x="668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423" y="20200"/>
                </a:lnTo>
                <a:close/>
              </a:path>
              <a:path fill="lighten" w="668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ЦП «Профилактика преступлений 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авонарушений, пропаганда здоров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браза жизни среди несовершеннолетних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го образования «Зырянски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айон» на 2016-2018 годы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924360" y="5589720"/>
            <a:ext cx="1727280" cy="1268280"/>
          </a:xfrm>
          <a:custGeom>
            <a:avLst/>
            <a:gdLst>
              <a:gd name="textAreaLeft" fmla="*/ 82080 w 1727280"/>
              <a:gd name="textAreaRight" fmla="*/ 1645200 w 172728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9415" h="21600">
                <a:moveTo>
                  <a:pt x="0" y="0"/>
                </a:moveTo>
                <a:lnTo>
                  <a:pt x="29415" y="0"/>
                </a:lnTo>
                <a:lnTo>
                  <a:pt x="29415" y="21600"/>
                </a:lnTo>
                <a:lnTo>
                  <a:pt x="0" y="21600"/>
                </a:lnTo>
                <a:close/>
              </a:path>
              <a:path fill="lightenLess" w="29415" h="21600">
                <a:moveTo>
                  <a:pt x="0" y="0"/>
                </a:moveTo>
                <a:lnTo>
                  <a:pt x="29415" y="0"/>
                </a:lnTo>
                <a:lnTo>
                  <a:pt x="28015" y="1400"/>
                </a:lnTo>
                <a:lnTo>
                  <a:pt x="1400" y="1400"/>
                </a:lnTo>
                <a:close/>
              </a:path>
              <a:path fill="darken" w="29415" h="21600">
                <a:moveTo>
                  <a:pt x="29415" y="0"/>
                </a:moveTo>
                <a:lnTo>
                  <a:pt x="29415" y="21600"/>
                </a:lnTo>
                <a:lnTo>
                  <a:pt x="28015" y="20200"/>
                </a:lnTo>
                <a:lnTo>
                  <a:pt x="28015" y="1400"/>
                </a:lnTo>
                <a:close/>
              </a:path>
              <a:path fill="darkenLess" w="29415" h="21600">
                <a:moveTo>
                  <a:pt x="294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15" y="20200"/>
                </a:lnTo>
                <a:close/>
              </a:path>
              <a:path fill="lighten" w="294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651640" y="5589720"/>
            <a:ext cx="1726920" cy="1268280"/>
          </a:xfrm>
          <a:custGeom>
            <a:avLst/>
            <a:gdLst>
              <a:gd name="textAreaLeft" fmla="*/ 82080 w 1726920"/>
              <a:gd name="textAreaRight" fmla="*/ 1644840 w 172692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29409" h="21600">
                <a:moveTo>
                  <a:pt x="0" y="0"/>
                </a:moveTo>
                <a:lnTo>
                  <a:pt x="29409" y="0"/>
                </a:lnTo>
                <a:lnTo>
                  <a:pt x="29409" y="21600"/>
                </a:lnTo>
                <a:lnTo>
                  <a:pt x="0" y="21600"/>
                </a:lnTo>
                <a:close/>
              </a:path>
              <a:path fill="lightenLess" w="29409" h="21600">
                <a:moveTo>
                  <a:pt x="0" y="0"/>
                </a:moveTo>
                <a:lnTo>
                  <a:pt x="29409" y="0"/>
                </a:lnTo>
                <a:lnTo>
                  <a:pt x="28009" y="1400"/>
                </a:lnTo>
                <a:lnTo>
                  <a:pt x="1400" y="1400"/>
                </a:lnTo>
                <a:close/>
              </a:path>
              <a:path fill="darken" w="29409" h="21600">
                <a:moveTo>
                  <a:pt x="29409" y="0"/>
                </a:moveTo>
                <a:lnTo>
                  <a:pt x="29409" y="21600"/>
                </a:lnTo>
                <a:lnTo>
                  <a:pt x="28009" y="20200"/>
                </a:lnTo>
                <a:lnTo>
                  <a:pt x="28009" y="1400"/>
                </a:lnTo>
                <a:close/>
              </a:path>
              <a:path fill="darkenLess" w="29409" h="21600">
                <a:moveTo>
                  <a:pt x="29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09" y="20200"/>
                </a:lnTo>
                <a:close/>
              </a:path>
              <a:path fill="lighten" w="29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380360" y="5589720"/>
            <a:ext cx="1763640" cy="1268280"/>
          </a:xfrm>
          <a:custGeom>
            <a:avLst/>
            <a:gdLst>
              <a:gd name="textAreaLeft" fmla="*/ 82080 w 1763640"/>
              <a:gd name="textAreaRight" fmla="*/ 1681560 w 1763640"/>
              <a:gd name="textAreaTop" fmla="*/ 82080 h 1268280"/>
              <a:gd name="textAreaBottom" fmla="*/ 1186200 h 1268280"/>
            </a:gdLst>
            <a:ahLst/>
            <a:rect l="textAreaLeft" t="textAreaTop" r="textAreaRight" b="textAreaBottom"/>
            <a:pathLst>
              <a:path w="30034" h="21600">
                <a:moveTo>
                  <a:pt x="0" y="0"/>
                </a:moveTo>
                <a:lnTo>
                  <a:pt x="30034" y="0"/>
                </a:lnTo>
                <a:lnTo>
                  <a:pt x="30034" y="21600"/>
                </a:lnTo>
                <a:lnTo>
                  <a:pt x="0" y="21600"/>
                </a:lnTo>
                <a:close/>
              </a:path>
              <a:path fill="lightenLess" w="30034" h="21600">
                <a:moveTo>
                  <a:pt x="0" y="0"/>
                </a:moveTo>
                <a:lnTo>
                  <a:pt x="30034" y="0"/>
                </a:lnTo>
                <a:lnTo>
                  <a:pt x="28634" y="1400"/>
                </a:lnTo>
                <a:lnTo>
                  <a:pt x="1400" y="1400"/>
                </a:lnTo>
                <a:close/>
              </a:path>
              <a:path fill="darken" w="30034" h="21600">
                <a:moveTo>
                  <a:pt x="30034" y="0"/>
                </a:moveTo>
                <a:lnTo>
                  <a:pt x="30034" y="21600"/>
                </a:lnTo>
                <a:lnTo>
                  <a:pt x="28634" y="20200"/>
                </a:lnTo>
                <a:lnTo>
                  <a:pt x="28634" y="1400"/>
                </a:lnTo>
                <a:close/>
              </a:path>
              <a:path fill="darkenLess" w="30034" h="21600">
                <a:moveTo>
                  <a:pt x="300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34" y="20200"/>
                </a:lnTo>
                <a:close/>
              </a:path>
              <a:path fill="lighten" w="300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0" y="3860640"/>
            <a:ext cx="3924360" cy="432000"/>
          </a:xfrm>
          <a:custGeom>
            <a:avLst/>
            <a:gdLst>
              <a:gd name="textAreaLeft" fmla="*/ 27720 w 3924360"/>
              <a:gd name="textAreaRight" fmla="*/ 3896640 w 3924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196073" h="21600">
                <a:moveTo>
                  <a:pt x="0" y="0"/>
                </a:moveTo>
                <a:lnTo>
                  <a:pt x="196073" y="0"/>
                </a:lnTo>
                <a:lnTo>
                  <a:pt x="196073" y="21600"/>
                </a:lnTo>
                <a:lnTo>
                  <a:pt x="0" y="21600"/>
                </a:lnTo>
                <a:close/>
              </a:path>
              <a:path fill="lightenLess" w="196073" h="21600">
                <a:moveTo>
                  <a:pt x="0" y="0"/>
                </a:moveTo>
                <a:lnTo>
                  <a:pt x="196073" y="0"/>
                </a:lnTo>
                <a:lnTo>
                  <a:pt x="194673" y="1400"/>
                </a:lnTo>
                <a:lnTo>
                  <a:pt x="1400" y="1400"/>
                </a:lnTo>
                <a:close/>
              </a:path>
              <a:path fill="darken" w="196073" h="21600">
                <a:moveTo>
                  <a:pt x="196073" y="0"/>
                </a:moveTo>
                <a:lnTo>
                  <a:pt x="196073" y="21600"/>
                </a:lnTo>
                <a:lnTo>
                  <a:pt x="194673" y="20200"/>
                </a:lnTo>
                <a:lnTo>
                  <a:pt x="194673" y="1400"/>
                </a:lnTo>
                <a:close/>
              </a:path>
              <a:path fill="darkenLess" w="196073" h="21600">
                <a:moveTo>
                  <a:pt x="196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4673" y="20200"/>
                </a:lnTo>
                <a:close/>
              </a:path>
              <a:path fill="lighten" w="196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Итог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924360" y="3860640"/>
            <a:ext cx="1727280" cy="432000"/>
          </a:xfrm>
          <a:custGeom>
            <a:avLst/>
            <a:gdLst>
              <a:gd name="textAreaLeft" fmla="*/ 27720 w 1727280"/>
              <a:gd name="textAreaRight" fmla="*/ 1699560 w 1727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6310" h="21600">
                <a:moveTo>
                  <a:pt x="0" y="0"/>
                </a:moveTo>
                <a:lnTo>
                  <a:pt x="86310" y="0"/>
                </a:lnTo>
                <a:lnTo>
                  <a:pt x="86310" y="21600"/>
                </a:lnTo>
                <a:lnTo>
                  <a:pt x="0" y="21600"/>
                </a:lnTo>
                <a:close/>
              </a:path>
              <a:path fill="lightenLess" w="86310" h="21600">
                <a:moveTo>
                  <a:pt x="0" y="0"/>
                </a:moveTo>
                <a:lnTo>
                  <a:pt x="86310" y="0"/>
                </a:lnTo>
                <a:lnTo>
                  <a:pt x="84910" y="1400"/>
                </a:lnTo>
                <a:lnTo>
                  <a:pt x="1400" y="1400"/>
                </a:lnTo>
                <a:close/>
              </a:path>
              <a:path fill="darken" w="86310" h="21600">
                <a:moveTo>
                  <a:pt x="86310" y="0"/>
                </a:moveTo>
                <a:lnTo>
                  <a:pt x="86310" y="21600"/>
                </a:lnTo>
                <a:lnTo>
                  <a:pt x="84910" y="20200"/>
                </a:lnTo>
                <a:lnTo>
                  <a:pt x="84910" y="1400"/>
                </a:lnTo>
                <a:close/>
              </a:path>
              <a:path fill="darkenLess" w="86310" h="21600">
                <a:moveTo>
                  <a:pt x="86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10" y="20200"/>
                </a:lnTo>
                <a:close/>
              </a:path>
              <a:path fill="lighten" w="86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2 6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651640" y="3860640"/>
            <a:ext cx="1726920" cy="432000"/>
          </a:xfrm>
          <a:custGeom>
            <a:avLst/>
            <a:gdLst>
              <a:gd name="textAreaLeft" fmla="*/ 27720 w 1726920"/>
              <a:gd name="textAreaRight" fmla="*/ 1699200 w 1726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6292" h="21600">
                <a:moveTo>
                  <a:pt x="0" y="0"/>
                </a:moveTo>
                <a:lnTo>
                  <a:pt x="86292" y="0"/>
                </a:lnTo>
                <a:lnTo>
                  <a:pt x="86292" y="21600"/>
                </a:lnTo>
                <a:lnTo>
                  <a:pt x="0" y="21600"/>
                </a:lnTo>
                <a:close/>
              </a:path>
              <a:path fill="lightenLess" w="86292" h="21600">
                <a:moveTo>
                  <a:pt x="0" y="0"/>
                </a:moveTo>
                <a:lnTo>
                  <a:pt x="86292" y="0"/>
                </a:lnTo>
                <a:lnTo>
                  <a:pt x="84892" y="1400"/>
                </a:lnTo>
                <a:lnTo>
                  <a:pt x="1400" y="1400"/>
                </a:lnTo>
                <a:close/>
              </a:path>
              <a:path fill="darken" w="86292" h="21600">
                <a:moveTo>
                  <a:pt x="86292" y="0"/>
                </a:moveTo>
                <a:lnTo>
                  <a:pt x="86292" y="21600"/>
                </a:lnTo>
                <a:lnTo>
                  <a:pt x="84892" y="20200"/>
                </a:lnTo>
                <a:lnTo>
                  <a:pt x="84892" y="1400"/>
                </a:lnTo>
                <a:close/>
              </a:path>
              <a:path fill="darkenLess" w="86292" h="21600">
                <a:moveTo>
                  <a:pt x="86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92" y="20200"/>
                </a:lnTo>
                <a:close/>
              </a:path>
              <a:path fill="lighten" w="86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7 1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380360" y="3860640"/>
            <a:ext cx="1763640" cy="432000"/>
          </a:xfrm>
          <a:custGeom>
            <a:avLst/>
            <a:gdLst>
              <a:gd name="textAreaLeft" fmla="*/ 27720 w 1763640"/>
              <a:gd name="textAreaRight" fmla="*/ 1735920 w 1763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8127" h="21600">
                <a:moveTo>
                  <a:pt x="0" y="0"/>
                </a:moveTo>
                <a:lnTo>
                  <a:pt x="88127" y="0"/>
                </a:lnTo>
                <a:lnTo>
                  <a:pt x="88127" y="21600"/>
                </a:lnTo>
                <a:lnTo>
                  <a:pt x="0" y="21600"/>
                </a:lnTo>
                <a:close/>
              </a:path>
              <a:path fill="lightenLess" w="88127" h="21600">
                <a:moveTo>
                  <a:pt x="0" y="0"/>
                </a:moveTo>
                <a:lnTo>
                  <a:pt x="88127" y="0"/>
                </a:lnTo>
                <a:lnTo>
                  <a:pt x="86727" y="1400"/>
                </a:lnTo>
                <a:lnTo>
                  <a:pt x="1400" y="1400"/>
                </a:lnTo>
                <a:close/>
              </a:path>
              <a:path fill="darken" w="88127" h="21600">
                <a:moveTo>
                  <a:pt x="88127" y="0"/>
                </a:moveTo>
                <a:lnTo>
                  <a:pt x="88127" y="21600"/>
                </a:lnTo>
                <a:lnTo>
                  <a:pt x="86727" y="20200"/>
                </a:lnTo>
                <a:lnTo>
                  <a:pt x="86727" y="1400"/>
                </a:lnTo>
                <a:close/>
              </a:path>
              <a:path fill="darkenLess" w="88127" h="21600">
                <a:moveTo>
                  <a:pt x="881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727" y="20200"/>
                </a:lnTo>
                <a:close/>
              </a:path>
              <a:path fill="lighten" w="881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3 34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924360" y="4724280"/>
            <a:ext cx="1727280" cy="865440"/>
          </a:xfrm>
          <a:custGeom>
            <a:avLst/>
            <a:gdLst>
              <a:gd name="textAreaLeft" fmla="*/ 55800 w 1727280"/>
              <a:gd name="textAreaRight" fmla="*/ 1671480 w 1727280"/>
              <a:gd name="textAreaTop" fmla="*/ 55800 h 865440"/>
              <a:gd name="textAreaBottom" fmla="*/ 809640 h 865440"/>
            </a:gdLst>
            <a:ahLst/>
            <a:rect l="textAreaLeft" t="textAreaTop" r="textAreaRight" b="textAreaBottom"/>
            <a:pathLst>
              <a:path w="43101" h="21600">
                <a:moveTo>
                  <a:pt x="0" y="0"/>
                </a:moveTo>
                <a:lnTo>
                  <a:pt x="43101" y="0"/>
                </a:lnTo>
                <a:lnTo>
                  <a:pt x="43101" y="21600"/>
                </a:lnTo>
                <a:lnTo>
                  <a:pt x="0" y="21600"/>
                </a:lnTo>
                <a:close/>
              </a:path>
              <a:path fill="lightenLess" w="43101" h="21600">
                <a:moveTo>
                  <a:pt x="0" y="0"/>
                </a:moveTo>
                <a:lnTo>
                  <a:pt x="43101" y="0"/>
                </a:lnTo>
                <a:lnTo>
                  <a:pt x="41701" y="1400"/>
                </a:lnTo>
                <a:lnTo>
                  <a:pt x="1400" y="1400"/>
                </a:lnTo>
                <a:close/>
              </a:path>
              <a:path fill="darken" w="43101" h="21600">
                <a:moveTo>
                  <a:pt x="43101" y="0"/>
                </a:moveTo>
                <a:lnTo>
                  <a:pt x="43101" y="21600"/>
                </a:lnTo>
                <a:lnTo>
                  <a:pt x="41701" y="20200"/>
                </a:lnTo>
                <a:lnTo>
                  <a:pt x="41701" y="1400"/>
                </a:lnTo>
                <a:close/>
              </a:path>
              <a:path fill="darkenLess" w="43101" h="21600">
                <a:moveTo>
                  <a:pt x="431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01" y="20200"/>
                </a:lnTo>
                <a:close/>
              </a:path>
              <a:path fill="lighten" w="431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651640" y="4724280"/>
            <a:ext cx="1726920" cy="865440"/>
          </a:xfrm>
          <a:custGeom>
            <a:avLst/>
            <a:gdLst>
              <a:gd name="textAreaLeft" fmla="*/ 55800 w 1726920"/>
              <a:gd name="textAreaRight" fmla="*/ 1671120 w 1726920"/>
              <a:gd name="textAreaTop" fmla="*/ 55800 h 865440"/>
              <a:gd name="textAreaBottom" fmla="*/ 809640 h 86544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380360" y="4724280"/>
            <a:ext cx="1763640" cy="865440"/>
          </a:xfrm>
          <a:custGeom>
            <a:avLst/>
            <a:gdLst>
              <a:gd name="textAreaLeft" fmla="*/ 55800 w 1763640"/>
              <a:gd name="textAreaRight" fmla="*/ 1707840 w 1763640"/>
              <a:gd name="textAreaTop" fmla="*/ 55800 h 865440"/>
              <a:gd name="textAreaBottom" fmla="*/ 809640 h 865440"/>
            </a:gdLst>
            <a:ahLst/>
            <a:rect l="textAreaLeft" t="textAreaTop" r="textAreaRight" b="textAreaBottom"/>
            <a:pathLst>
              <a:path w="44008" h="21600">
                <a:moveTo>
                  <a:pt x="0" y="0"/>
                </a:moveTo>
                <a:lnTo>
                  <a:pt x="44008" y="0"/>
                </a:lnTo>
                <a:lnTo>
                  <a:pt x="44008" y="21600"/>
                </a:lnTo>
                <a:lnTo>
                  <a:pt x="0" y="21600"/>
                </a:lnTo>
                <a:close/>
              </a:path>
              <a:path fill="lightenLess" w="44008" h="21600">
                <a:moveTo>
                  <a:pt x="0" y="0"/>
                </a:moveTo>
                <a:lnTo>
                  <a:pt x="44008" y="0"/>
                </a:lnTo>
                <a:lnTo>
                  <a:pt x="42608" y="1400"/>
                </a:lnTo>
                <a:lnTo>
                  <a:pt x="1400" y="1400"/>
                </a:lnTo>
                <a:close/>
              </a:path>
              <a:path fill="darken" w="44008" h="21600">
                <a:moveTo>
                  <a:pt x="44008" y="0"/>
                </a:moveTo>
                <a:lnTo>
                  <a:pt x="44008" y="21600"/>
                </a:lnTo>
                <a:lnTo>
                  <a:pt x="42608" y="20200"/>
                </a:lnTo>
                <a:lnTo>
                  <a:pt x="42608" y="1400"/>
                </a:lnTo>
                <a:close/>
              </a:path>
              <a:path fill="darkenLess" w="44008" h="21600">
                <a:moveTo>
                  <a:pt x="440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608" y="20200"/>
                </a:lnTo>
                <a:close/>
              </a:path>
              <a:path fill="lighten" w="440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0"/>
            <a:ext cx="9144000" cy="836640"/>
          </a:xfrm>
          <a:custGeom>
            <a:avLst/>
            <a:gdLst>
              <a:gd name="textAreaLeft" fmla="*/ 54000 w 9144000"/>
              <a:gd name="textAreaRight" fmla="*/ 9090000 w 9144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5983" h="21600">
                <a:moveTo>
                  <a:pt x="0" y="0"/>
                </a:moveTo>
                <a:lnTo>
                  <a:pt x="235983" y="0"/>
                </a:lnTo>
                <a:lnTo>
                  <a:pt x="235983" y="21600"/>
                </a:lnTo>
                <a:lnTo>
                  <a:pt x="0" y="21600"/>
                </a:lnTo>
                <a:close/>
              </a:path>
              <a:path fill="lightenLess" w="235983" h="21600">
                <a:moveTo>
                  <a:pt x="0" y="0"/>
                </a:moveTo>
                <a:lnTo>
                  <a:pt x="235983" y="0"/>
                </a:lnTo>
                <a:lnTo>
                  <a:pt x="234584" y="1400"/>
                </a:lnTo>
                <a:lnTo>
                  <a:pt x="1400" y="1400"/>
                </a:lnTo>
                <a:close/>
              </a:path>
              <a:path fill="darken" w="235983" h="21600">
                <a:moveTo>
                  <a:pt x="235983" y="0"/>
                </a:moveTo>
                <a:lnTo>
                  <a:pt x="235983" y="21600"/>
                </a:lnTo>
                <a:lnTo>
                  <a:pt x="234584" y="20200"/>
                </a:lnTo>
                <a:lnTo>
                  <a:pt x="234584" y="1400"/>
                </a:lnTo>
                <a:close/>
              </a:path>
              <a:path fill="darkenLess" w="235983" h="21600">
                <a:moveTo>
                  <a:pt x="235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584" y="20200"/>
                </a:lnTo>
                <a:close/>
              </a:path>
              <a:path fill="lighten" w="235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асходы на реализацию ведомственных и муниципаль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ограмм муниципального образования на 2016 - 2018 г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0" y="836640"/>
            <a:ext cx="3924360" cy="576360"/>
          </a:xfrm>
          <a:custGeom>
            <a:avLst/>
            <a:gdLst>
              <a:gd name="textAreaLeft" fmla="*/ 37080 w 3924360"/>
              <a:gd name="textAreaRight" fmla="*/ 3887280 w 3924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6993" h="21600">
                <a:moveTo>
                  <a:pt x="0" y="0"/>
                </a:moveTo>
                <a:lnTo>
                  <a:pt x="146993" y="0"/>
                </a:lnTo>
                <a:lnTo>
                  <a:pt x="146993" y="21600"/>
                </a:lnTo>
                <a:lnTo>
                  <a:pt x="0" y="21600"/>
                </a:lnTo>
                <a:close/>
              </a:path>
              <a:path fill="lightenLess" w="146993" h="21600">
                <a:moveTo>
                  <a:pt x="0" y="0"/>
                </a:moveTo>
                <a:lnTo>
                  <a:pt x="146993" y="0"/>
                </a:lnTo>
                <a:lnTo>
                  <a:pt x="145593" y="1400"/>
                </a:lnTo>
                <a:lnTo>
                  <a:pt x="1400" y="1400"/>
                </a:lnTo>
                <a:close/>
              </a:path>
              <a:path fill="darken" w="146993" h="21600">
                <a:moveTo>
                  <a:pt x="146993" y="0"/>
                </a:moveTo>
                <a:lnTo>
                  <a:pt x="146993" y="21600"/>
                </a:lnTo>
                <a:lnTo>
                  <a:pt x="145593" y="20200"/>
                </a:lnTo>
                <a:lnTo>
                  <a:pt x="145593" y="1400"/>
                </a:lnTo>
                <a:close/>
              </a:path>
              <a:path fill="darkenLess" w="146993" h="21600">
                <a:moveTo>
                  <a:pt x="146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5593" y="20200"/>
                </a:lnTo>
                <a:close/>
              </a:path>
              <a:path fill="lighten" w="146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едомственные целев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рограмм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924360" y="83664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лан 2016 год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651640" y="836640"/>
            <a:ext cx="1728720" cy="576360"/>
          </a:xfrm>
          <a:custGeom>
            <a:avLst/>
            <a:gdLst>
              <a:gd name="textAreaLeft" fmla="*/ 37080 w 1728720"/>
              <a:gd name="textAreaRight" fmla="*/ 1691640 w 1728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60" h="21600">
                <a:moveTo>
                  <a:pt x="0" y="0"/>
                </a:moveTo>
                <a:lnTo>
                  <a:pt x="64760" y="0"/>
                </a:lnTo>
                <a:lnTo>
                  <a:pt x="64760" y="21600"/>
                </a:lnTo>
                <a:lnTo>
                  <a:pt x="0" y="21600"/>
                </a:lnTo>
                <a:close/>
              </a:path>
              <a:path fill="lightenLess" w="64760" h="21600">
                <a:moveTo>
                  <a:pt x="0" y="0"/>
                </a:moveTo>
                <a:lnTo>
                  <a:pt x="64760" y="0"/>
                </a:lnTo>
                <a:lnTo>
                  <a:pt x="63360" y="1400"/>
                </a:lnTo>
                <a:lnTo>
                  <a:pt x="1400" y="1400"/>
                </a:lnTo>
                <a:close/>
              </a:path>
              <a:path fill="darken" w="64760" h="21600">
                <a:moveTo>
                  <a:pt x="64760" y="0"/>
                </a:moveTo>
                <a:lnTo>
                  <a:pt x="64760" y="21600"/>
                </a:lnTo>
                <a:lnTo>
                  <a:pt x="63360" y="20200"/>
                </a:lnTo>
                <a:lnTo>
                  <a:pt x="63360" y="1400"/>
                </a:lnTo>
                <a:close/>
              </a:path>
              <a:path fill="darkenLess" w="64760" h="21600">
                <a:moveTo>
                  <a:pt x="64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0" y="20200"/>
                </a:lnTo>
                <a:close/>
              </a:path>
              <a:path fill="lighten" w="64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лан 2017 год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380360" y="836640"/>
            <a:ext cx="1763640" cy="576360"/>
          </a:xfrm>
          <a:custGeom>
            <a:avLst/>
            <a:gdLst>
              <a:gd name="textAreaLeft" fmla="*/ 37080 w 1763640"/>
              <a:gd name="textAreaRight" fmla="*/ 1726560 w 17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6067" h="21600">
                <a:moveTo>
                  <a:pt x="0" y="0"/>
                </a:moveTo>
                <a:lnTo>
                  <a:pt x="66067" y="0"/>
                </a:lnTo>
                <a:lnTo>
                  <a:pt x="66067" y="21600"/>
                </a:lnTo>
                <a:lnTo>
                  <a:pt x="0" y="21600"/>
                </a:lnTo>
                <a:close/>
              </a:path>
              <a:path fill="lightenLess" w="66067" h="21600">
                <a:moveTo>
                  <a:pt x="0" y="0"/>
                </a:moveTo>
                <a:lnTo>
                  <a:pt x="66067" y="0"/>
                </a:lnTo>
                <a:lnTo>
                  <a:pt x="64667" y="1400"/>
                </a:lnTo>
                <a:lnTo>
                  <a:pt x="1400" y="1400"/>
                </a:lnTo>
                <a:close/>
              </a:path>
              <a:path fill="darken" w="66067" h="21600">
                <a:moveTo>
                  <a:pt x="66067" y="0"/>
                </a:moveTo>
                <a:lnTo>
                  <a:pt x="66067" y="21600"/>
                </a:lnTo>
                <a:lnTo>
                  <a:pt x="64667" y="20200"/>
                </a:lnTo>
                <a:lnTo>
                  <a:pt x="64667" y="1400"/>
                </a:lnTo>
                <a:close/>
              </a:path>
              <a:path fill="darkenLess" w="66067" h="21600">
                <a:moveTo>
                  <a:pt x="660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667" y="20200"/>
                </a:lnTo>
                <a:close/>
              </a:path>
              <a:path fill="lighten" w="660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лан 2018 год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0" y="1413000"/>
            <a:ext cx="3924360" cy="504720"/>
          </a:xfrm>
          <a:custGeom>
            <a:avLst/>
            <a:gdLst>
              <a:gd name="textAreaLeft" fmla="*/ 32400 w 3924360"/>
              <a:gd name="textAreaRight" fmla="*/ 3891960 w 3924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167843" h="21600">
                <a:moveTo>
                  <a:pt x="0" y="0"/>
                </a:moveTo>
                <a:lnTo>
                  <a:pt x="167843" y="0"/>
                </a:lnTo>
                <a:lnTo>
                  <a:pt x="167843" y="21600"/>
                </a:lnTo>
                <a:lnTo>
                  <a:pt x="0" y="21600"/>
                </a:lnTo>
                <a:close/>
              </a:path>
              <a:path fill="lightenLess" w="167843" h="21600">
                <a:moveTo>
                  <a:pt x="0" y="0"/>
                </a:moveTo>
                <a:lnTo>
                  <a:pt x="167843" y="0"/>
                </a:lnTo>
                <a:lnTo>
                  <a:pt x="166443" y="1400"/>
                </a:lnTo>
                <a:lnTo>
                  <a:pt x="1400" y="1400"/>
                </a:lnTo>
                <a:close/>
              </a:path>
              <a:path fill="darken" w="167843" h="21600">
                <a:moveTo>
                  <a:pt x="167843" y="0"/>
                </a:moveTo>
                <a:lnTo>
                  <a:pt x="167843" y="21600"/>
                </a:lnTo>
                <a:lnTo>
                  <a:pt x="166443" y="20200"/>
                </a:lnTo>
                <a:lnTo>
                  <a:pt x="166443" y="1400"/>
                </a:lnTo>
                <a:close/>
              </a:path>
              <a:path fill="darkenLess" w="167843" h="21600">
                <a:moveTo>
                  <a:pt x="167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6443" y="20200"/>
                </a:lnTo>
                <a:close/>
              </a:path>
              <a:path fill="lighten" w="167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ЦП «Содействие развитию массов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физической культуры на 2016-2018 годы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24360" y="1413000"/>
            <a:ext cx="1727280" cy="504720"/>
          </a:xfrm>
          <a:custGeom>
            <a:avLst/>
            <a:gdLst>
              <a:gd name="textAreaLeft" fmla="*/ 32400 w 1727280"/>
              <a:gd name="textAreaRight" fmla="*/ 1694880 w 1727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73883" h="21600">
                <a:moveTo>
                  <a:pt x="0" y="0"/>
                </a:moveTo>
                <a:lnTo>
                  <a:pt x="73883" y="0"/>
                </a:lnTo>
                <a:lnTo>
                  <a:pt x="73883" y="21600"/>
                </a:lnTo>
                <a:lnTo>
                  <a:pt x="0" y="21600"/>
                </a:lnTo>
                <a:close/>
              </a:path>
              <a:path fill="lightenLess" w="73883" h="21600">
                <a:moveTo>
                  <a:pt x="0" y="0"/>
                </a:moveTo>
                <a:lnTo>
                  <a:pt x="73883" y="0"/>
                </a:lnTo>
                <a:lnTo>
                  <a:pt x="72483" y="1400"/>
                </a:lnTo>
                <a:lnTo>
                  <a:pt x="1400" y="1400"/>
                </a:lnTo>
                <a:close/>
              </a:path>
              <a:path fill="darken" w="73883" h="21600">
                <a:moveTo>
                  <a:pt x="73883" y="0"/>
                </a:moveTo>
                <a:lnTo>
                  <a:pt x="73883" y="21600"/>
                </a:lnTo>
                <a:lnTo>
                  <a:pt x="72483" y="20200"/>
                </a:lnTo>
                <a:lnTo>
                  <a:pt x="72483" y="1400"/>
                </a:lnTo>
                <a:close/>
              </a:path>
              <a:path fill="darkenLess" w="73883" h="21600">
                <a:moveTo>
                  <a:pt x="73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483" y="20200"/>
                </a:lnTo>
                <a:close/>
              </a:path>
              <a:path fill="lighten" w="73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6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651640" y="1413000"/>
            <a:ext cx="1728720" cy="504720"/>
          </a:xfrm>
          <a:custGeom>
            <a:avLst/>
            <a:gdLst>
              <a:gd name="textAreaLeft" fmla="*/ 32400 w 1728720"/>
              <a:gd name="textAreaRight" fmla="*/ 1696320 w 1728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73945" h="21600">
                <a:moveTo>
                  <a:pt x="0" y="0"/>
                </a:moveTo>
                <a:lnTo>
                  <a:pt x="73945" y="0"/>
                </a:lnTo>
                <a:lnTo>
                  <a:pt x="73945" y="21600"/>
                </a:lnTo>
                <a:lnTo>
                  <a:pt x="0" y="21600"/>
                </a:lnTo>
                <a:close/>
              </a:path>
              <a:path fill="lightenLess" w="73945" h="21600">
                <a:moveTo>
                  <a:pt x="0" y="0"/>
                </a:moveTo>
                <a:lnTo>
                  <a:pt x="73945" y="0"/>
                </a:lnTo>
                <a:lnTo>
                  <a:pt x="72545" y="1400"/>
                </a:lnTo>
                <a:lnTo>
                  <a:pt x="1400" y="1400"/>
                </a:lnTo>
                <a:close/>
              </a:path>
              <a:path fill="darken" w="73945" h="21600">
                <a:moveTo>
                  <a:pt x="73945" y="0"/>
                </a:moveTo>
                <a:lnTo>
                  <a:pt x="73945" y="21600"/>
                </a:lnTo>
                <a:lnTo>
                  <a:pt x="72545" y="20200"/>
                </a:lnTo>
                <a:lnTo>
                  <a:pt x="72545" y="1400"/>
                </a:lnTo>
                <a:close/>
              </a:path>
              <a:path fill="darkenLess" w="73945" h="21600">
                <a:moveTo>
                  <a:pt x="7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45" y="20200"/>
                </a:lnTo>
                <a:close/>
              </a:path>
              <a:path fill="lighten" w="7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6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380360" y="1413000"/>
            <a:ext cx="1763640" cy="504720"/>
          </a:xfrm>
          <a:custGeom>
            <a:avLst/>
            <a:gdLst>
              <a:gd name="textAreaLeft" fmla="*/ 32400 w 1763640"/>
              <a:gd name="textAreaRight" fmla="*/ 1731240 w 1763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75438" h="21600">
                <a:moveTo>
                  <a:pt x="0" y="0"/>
                </a:moveTo>
                <a:lnTo>
                  <a:pt x="75438" y="0"/>
                </a:lnTo>
                <a:lnTo>
                  <a:pt x="75438" y="21600"/>
                </a:lnTo>
                <a:lnTo>
                  <a:pt x="0" y="21600"/>
                </a:lnTo>
                <a:close/>
              </a:path>
              <a:path fill="lightenLess" w="75438" h="21600">
                <a:moveTo>
                  <a:pt x="0" y="0"/>
                </a:moveTo>
                <a:lnTo>
                  <a:pt x="75438" y="0"/>
                </a:lnTo>
                <a:lnTo>
                  <a:pt x="74038" y="1400"/>
                </a:lnTo>
                <a:lnTo>
                  <a:pt x="1400" y="1400"/>
                </a:lnTo>
                <a:close/>
              </a:path>
              <a:path fill="darken" w="75438" h="21600">
                <a:moveTo>
                  <a:pt x="75438" y="0"/>
                </a:moveTo>
                <a:lnTo>
                  <a:pt x="75438" y="21600"/>
                </a:lnTo>
                <a:lnTo>
                  <a:pt x="74038" y="20200"/>
                </a:lnTo>
                <a:lnTo>
                  <a:pt x="74038" y="1400"/>
                </a:lnTo>
                <a:close/>
              </a:path>
              <a:path fill="darkenLess" w="75438" h="21600">
                <a:moveTo>
                  <a:pt x="754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38" y="20200"/>
                </a:lnTo>
                <a:close/>
              </a:path>
              <a:path fill="lighten" w="754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6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1916280"/>
            <a:ext cx="3924360" cy="936360"/>
          </a:xfrm>
          <a:custGeom>
            <a:avLst/>
            <a:gdLst>
              <a:gd name="textAreaLeft" fmla="*/ 60480 w 3924360"/>
              <a:gd name="textAreaRight" fmla="*/ 3863880 w 392436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90501" h="21600">
                <a:moveTo>
                  <a:pt x="0" y="0"/>
                </a:moveTo>
                <a:lnTo>
                  <a:pt x="90501" y="0"/>
                </a:lnTo>
                <a:lnTo>
                  <a:pt x="90501" y="21600"/>
                </a:lnTo>
                <a:lnTo>
                  <a:pt x="0" y="21600"/>
                </a:lnTo>
                <a:close/>
              </a:path>
              <a:path fill="lightenLess" w="90501" h="21600">
                <a:moveTo>
                  <a:pt x="0" y="0"/>
                </a:moveTo>
                <a:lnTo>
                  <a:pt x="90501" y="0"/>
                </a:lnTo>
                <a:lnTo>
                  <a:pt x="89101" y="1400"/>
                </a:lnTo>
                <a:lnTo>
                  <a:pt x="1400" y="1400"/>
                </a:lnTo>
                <a:close/>
              </a:path>
              <a:path fill="darken" w="90501" h="21600">
                <a:moveTo>
                  <a:pt x="90501" y="0"/>
                </a:moveTo>
                <a:lnTo>
                  <a:pt x="90501" y="21600"/>
                </a:lnTo>
                <a:lnTo>
                  <a:pt x="89101" y="20200"/>
                </a:lnTo>
                <a:lnTo>
                  <a:pt x="89101" y="1400"/>
                </a:lnTo>
                <a:close/>
              </a:path>
              <a:path fill="darkenLess" w="90501" h="21600">
                <a:moveTo>
                  <a:pt x="90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101" y="20200"/>
                </a:lnTo>
                <a:close/>
              </a:path>
              <a:path fill="lighten" w="90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ЦП «Школьное питание в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бщеобразовательных учреждениях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 2016 год и на планов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ериод 2017-2018 годов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924360" y="1916280"/>
            <a:ext cx="1728720" cy="936360"/>
          </a:xfrm>
          <a:custGeom>
            <a:avLst/>
            <a:gdLst>
              <a:gd name="textAreaLeft" fmla="*/ 60480 w 1728720"/>
              <a:gd name="textAreaRight" fmla="*/ 1668240 w 172872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39871" h="21600">
                <a:moveTo>
                  <a:pt x="0" y="0"/>
                </a:moveTo>
                <a:lnTo>
                  <a:pt x="39871" y="0"/>
                </a:lnTo>
                <a:lnTo>
                  <a:pt x="39871" y="21600"/>
                </a:lnTo>
                <a:lnTo>
                  <a:pt x="0" y="21600"/>
                </a:lnTo>
                <a:close/>
              </a:path>
              <a:path fill="lightenLess" w="39871" h="21600">
                <a:moveTo>
                  <a:pt x="0" y="0"/>
                </a:moveTo>
                <a:lnTo>
                  <a:pt x="39871" y="0"/>
                </a:lnTo>
                <a:lnTo>
                  <a:pt x="38471" y="1400"/>
                </a:lnTo>
                <a:lnTo>
                  <a:pt x="1400" y="1400"/>
                </a:lnTo>
                <a:close/>
              </a:path>
              <a:path fill="darken" w="39871" h="21600">
                <a:moveTo>
                  <a:pt x="39871" y="0"/>
                </a:moveTo>
                <a:lnTo>
                  <a:pt x="39871" y="21600"/>
                </a:lnTo>
                <a:lnTo>
                  <a:pt x="38471" y="20200"/>
                </a:lnTo>
                <a:lnTo>
                  <a:pt x="38471" y="1400"/>
                </a:lnTo>
                <a:close/>
              </a:path>
              <a:path fill="darkenLess" w="39871" h="21600">
                <a:moveTo>
                  <a:pt x="39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71" y="20200"/>
                </a:lnTo>
                <a:close/>
              </a:path>
              <a:path fill="lighten" w="39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651640" y="1916280"/>
            <a:ext cx="1728720" cy="936360"/>
          </a:xfrm>
          <a:custGeom>
            <a:avLst/>
            <a:gdLst>
              <a:gd name="textAreaLeft" fmla="*/ 60480 w 1728720"/>
              <a:gd name="textAreaRight" fmla="*/ 1668240 w 172872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39871" h="21600">
                <a:moveTo>
                  <a:pt x="0" y="0"/>
                </a:moveTo>
                <a:lnTo>
                  <a:pt x="39871" y="0"/>
                </a:lnTo>
                <a:lnTo>
                  <a:pt x="39871" y="21600"/>
                </a:lnTo>
                <a:lnTo>
                  <a:pt x="0" y="21600"/>
                </a:lnTo>
                <a:close/>
              </a:path>
              <a:path fill="lightenLess" w="39871" h="21600">
                <a:moveTo>
                  <a:pt x="0" y="0"/>
                </a:moveTo>
                <a:lnTo>
                  <a:pt x="39871" y="0"/>
                </a:lnTo>
                <a:lnTo>
                  <a:pt x="38471" y="1400"/>
                </a:lnTo>
                <a:lnTo>
                  <a:pt x="1400" y="1400"/>
                </a:lnTo>
                <a:close/>
              </a:path>
              <a:path fill="darken" w="39871" h="21600">
                <a:moveTo>
                  <a:pt x="39871" y="0"/>
                </a:moveTo>
                <a:lnTo>
                  <a:pt x="39871" y="21600"/>
                </a:lnTo>
                <a:lnTo>
                  <a:pt x="38471" y="20200"/>
                </a:lnTo>
                <a:lnTo>
                  <a:pt x="38471" y="1400"/>
                </a:lnTo>
                <a:close/>
              </a:path>
              <a:path fill="darkenLess" w="39871" h="21600">
                <a:moveTo>
                  <a:pt x="398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71" y="20200"/>
                </a:lnTo>
                <a:close/>
              </a:path>
              <a:path fill="lighten" w="398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380360" y="1916280"/>
            <a:ext cx="1763640" cy="936360"/>
          </a:xfrm>
          <a:custGeom>
            <a:avLst/>
            <a:gdLst>
              <a:gd name="textAreaLeft" fmla="*/ 60480 w 1763640"/>
              <a:gd name="textAreaRight" fmla="*/ 1703160 w 176364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40676" h="21600">
                <a:moveTo>
                  <a:pt x="0" y="0"/>
                </a:moveTo>
                <a:lnTo>
                  <a:pt x="40676" y="0"/>
                </a:lnTo>
                <a:lnTo>
                  <a:pt x="40676" y="21600"/>
                </a:lnTo>
                <a:lnTo>
                  <a:pt x="0" y="21600"/>
                </a:lnTo>
                <a:close/>
              </a:path>
              <a:path fill="lightenLess" w="40676" h="21600">
                <a:moveTo>
                  <a:pt x="0" y="0"/>
                </a:moveTo>
                <a:lnTo>
                  <a:pt x="40676" y="0"/>
                </a:lnTo>
                <a:lnTo>
                  <a:pt x="39276" y="1400"/>
                </a:lnTo>
                <a:lnTo>
                  <a:pt x="1400" y="1400"/>
                </a:lnTo>
                <a:close/>
              </a:path>
              <a:path fill="darken" w="40676" h="21600">
                <a:moveTo>
                  <a:pt x="40676" y="0"/>
                </a:moveTo>
                <a:lnTo>
                  <a:pt x="40676" y="21600"/>
                </a:lnTo>
                <a:lnTo>
                  <a:pt x="39276" y="20200"/>
                </a:lnTo>
                <a:lnTo>
                  <a:pt x="39276" y="1400"/>
                </a:lnTo>
                <a:close/>
              </a:path>
              <a:path fill="darkenLess" w="40676" h="21600">
                <a:moveTo>
                  <a:pt x="40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276" y="20200"/>
                </a:lnTo>
                <a:close/>
              </a:path>
              <a:path fill="lighten" w="40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5445000"/>
            <a:ext cx="3924360" cy="720720"/>
          </a:xfrm>
          <a:custGeom>
            <a:avLst/>
            <a:gdLst>
              <a:gd name="textAreaLeft" fmla="*/ 46440 w 3924360"/>
              <a:gd name="textAreaRight" fmla="*/ 3877920 w 3924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17565" h="21600">
                <a:moveTo>
                  <a:pt x="0" y="0"/>
                </a:moveTo>
                <a:lnTo>
                  <a:pt x="117565" y="0"/>
                </a:lnTo>
                <a:lnTo>
                  <a:pt x="117565" y="21600"/>
                </a:lnTo>
                <a:lnTo>
                  <a:pt x="0" y="21600"/>
                </a:lnTo>
                <a:close/>
              </a:path>
              <a:path fill="lightenLess" w="117565" h="21600">
                <a:moveTo>
                  <a:pt x="0" y="0"/>
                </a:moveTo>
                <a:lnTo>
                  <a:pt x="117565" y="0"/>
                </a:lnTo>
                <a:lnTo>
                  <a:pt x="116165" y="1400"/>
                </a:lnTo>
                <a:lnTo>
                  <a:pt x="1400" y="1400"/>
                </a:lnTo>
                <a:close/>
              </a:path>
              <a:path fill="darken" w="117565" h="21600">
                <a:moveTo>
                  <a:pt x="117565" y="0"/>
                </a:moveTo>
                <a:lnTo>
                  <a:pt x="117565" y="21600"/>
                </a:lnTo>
                <a:lnTo>
                  <a:pt x="116165" y="20200"/>
                </a:lnTo>
                <a:lnTo>
                  <a:pt x="116165" y="1400"/>
                </a:lnTo>
                <a:close/>
              </a:path>
              <a:path fill="darkenLess" w="117565" h="21600">
                <a:moveTo>
                  <a:pt x="117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165" y="20200"/>
                </a:lnTo>
                <a:close/>
              </a:path>
              <a:path fill="lighten" w="117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ЦП «Одаренные дети на 2016-2018 годы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924360" y="5445000"/>
            <a:ext cx="1727280" cy="720720"/>
          </a:xfrm>
          <a:custGeom>
            <a:avLst/>
            <a:gdLst>
              <a:gd name="textAreaLeft" fmla="*/ 46440 w 1727280"/>
              <a:gd name="textAreaRight" fmla="*/ 1680840 w 1727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1752" h="21600">
                <a:moveTo>
                  <a:pt x="0" y="0"/>
                </a:moveTo>
                <a:lnTo>
                  <a:pt x="51752" y="0"/>
                </a:lnTo>
                <a:lnTo>
                  <a:pt x="51752" y="21600"/>
                </a:lnTo>
                <a:lnTo>
                  <a:pt x="0" y="21600"/>
                </a:lnTo>
                <a:close/>
              </a:path>
              <a:path fill="lightenLess" w="51752" h="21600">
                <a:moveTo>
                  <a:pt x="0" y="0"/>
                </a:moveTo>
                <a:lnTo>
                  <a:pt x="51752" y="0"/>
                </a:lnTo>
                <a:lnTo>
                  <a:pt x="50352" y="1400"/>
                </a:lnTo>
                <a:lnTo>
                  <a:pt x="1400" y="1400"/>
                </a:lnTo>
                <a:close/>
              </a:path>
              <a:path fill="darken" w="51752" h="21600">
                <a:moveTo>
                  <a:pt x="51752" y="0"/>
                </a:moveTo>
                <a:lnTo>
                  <a:pt x="51752" y="21600"/>
                </a:lnTo>
                <a:lnTo>
                  <a:pt x="50352" y="20200"/>
                </a:lnTo>
                <a:lnTo>
                  <a:pt x="50352" y="1400"/>
                </a:lnTo>
                <a:close/>
              </a:path>
              <a:path fill="darkenLess" w="51752" h="21600">
                <a:moveTo>
                  <a:pt x="51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52" y="20200"/>
                </a:lnTo>
                <a:close/>
              </a:path>
              <a:path fill="lighten" w="51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651640" y="5445000"/>
            <a:ext cx="1726920" cy="720720"/>
          </a:xfrm>
          <a:custGeom>
            <a:avLst/>
            <a:gdLst>
              <a:gd name="textAreaLeft" fmla="*/ 46440 w 1726920"/>
              <a:gd name="textAreaRight" fmla="*/ 1680480 w 1726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1741" h="21600">
                <a:moveTo>
                  <a:pt x="0" y="0"/>
                </a:moveTo>
                <a:lnTo>
                  <a:pt x="51741" y="0"/>
                </a:lnTo>
                <a:lnTo>
                  <a:pt x="51741" y="21600"/>
                </a:lnTo>
                <a:lnTo>
                  <a:pt x="0" y="21600"/>
                </a:lnTo>
                <a:close/>
              </a:path>
              <a:path fill="lightenLess" w="51741" h="21600">
                <a:moveTo>
                  <a:pt x="0" y="0"/>
                </a:moveTo>
                <a:lnTo>
                  <a:pt x="51741" y="0"/>
                </a:lnTo>
                <a:lnTo>
                  <a:pt x="50341" y="1400"/>
                </a:lnTo>
                <a:lnTo>
                  <a:pt x="1400" y="1400"/>
                </a:lnTo>
                <a:close/>
              </a:path>
              <a:path fill="darken" w="51741" h="21600">
                <a:moveTo>
                  <a:pt x="51741" y="0"/>
                </a:moveTo>
                <a:lnTo>
                  <a:pt x="51741" y="21600"/>
                </a:lnTo>
                <a:lnTo>
                  <a:pt x="50341" y="20200"/>
                </a:lnTo>
                <a:lnTo>
                  <a:pt x="50341" y="1400"/>
                </a:lnTo>
                <a:close/>
              </a:path>
              <a:path fill="darkenLess" w="51741" h="21600">
                <a:moveTo>
                  <a:pt x="51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41" y="20200"/>
                </a:lnTo>
                <a:close/>
              </a:path>
              <a:path fill="lighten" w="51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380360" y="5445000"/>
            <a:ext cx="1763640" cy="720720"/>
          </a:xfrm>
          <a:custGeom>
            <a:avLst/>
            <a:gdLst>
              <a:gd name="textAreaLeft" fmla="*/ 46440 w 1763640"/>
              <a:gd name="textAreaRight" fmla="*/ 1717200 w 17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2841" h="21600">
                <a:moveTo>
                  <a:pt x="0" y="0"/>
                </a:moveTo>
                <a:lnTo>
                  <a:pt x="52841" y="0"/>
                </a:lnTo>
                <a:lnTo>
                  <a:pt x="52841" y="21600"/>
                </a:lnTo>
                <a:lnTo>
                  <a:pt x="0" y="21600"/>
                </a:lnTo>
                <a:close/>
              </a:path>
              <a:path fill="lightenLess" w="52841" h="21600">
                <a:moveTo>
                  <a:pt x="0" y="0"/>
                </a:moveTo>
                <a:lnTo>
                  <a:pt x="52841" y="0"/>
                </a:lnTo>
                <a:lnTo>
                  <a:pt x="51441" y="1400"/>
                </a:lnTo>
                <a:lnTo>
                  <a:pt x="1400" y="1400"/>
                </a:lnTo>
                <a:close/>
              </a:path>
              <a:path fill="darken" w="52841" h="21600">
                <a:moveTo>
                  <a:pt x="52841" y="0"/>
                </a:moveTo>
                <a:lnTo>
                  <a:pt x="52841" y="21600"/>
                </a:lnTo>
                <a:lnTo>
                  <a:pt x="51441" y="20200"/>
                </a:lnTo>
                <a:lnTo>
                  <a:pt x="51441" y="1400"/>
                </a:lnTo>
                <a:close/>
              </a:path>
              <a:path fill="darkenLess" w="52841" h="21600">
                <a:moveTo>
                  <a:pt x="528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441" y="20200"/>
                </a:lnTo>
                <a:close/>
              </a:path>
              <a:path fill="lighten" w="528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0" y="4724280"/>
            <a:ext cx="3924360" cy="720720"/>
          </a:xfrm>
          <a:custGeom>
            <a:avLst/>
            <a:gdLst>
              <a:gd name="textAreaLeft" fmla="*/ 46440 w 3924360"/>
              <a:gd name="textAreaRight" fmla="*/ 3877920 w 3924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17565" h="21600">
                <a:moveTo>
                  <a:pt x="0" y="0"/>
                </a:moveTo>
                <a:lnTo>
                  <a:pt x="117565" y="0"/>
                </a:lnTo>
                <a:lnTo>
                  <a:pt x="117565" y="21600"/>
                </a:lnTo>
                <a:lnTo>
                  <a:pt x="0" y="21600"/>
                </a:lnTo>
                <a:close/>
              </a:path>
              <a:path fill="lightenLess" w="117565" h="21600">
                <a:moveTo>
                  <a:pt x="0" y="0"/>
                </a:moveTo>
                <a:lnTo>
                  <a:pt x="117565" y="0"/>
                </a:lnTo>
                <a:lnTo>
                  <a:pt x="116165" y="1400"/>
                </a:lnTo>
                <a:lnTo>
                  <a:pt x="1400" y="1400"/>
                </a:lnTo>
                <a:close/>
              </a:path>
              <a:path fill="darken" w="117565" h="21600">
                <a:moveTo>
                  <a:pt x="117565" y="0"/>
                </a:moveTo>
                <a:lnTo>
                  <a:pt x="117565" y="21600"/>
                </a:lnTo>
                <a:lnTo>
                  <a:pt x="116165" y="20200"/>
                </a:lnTo>
                <a:lnTo>
                  <a:pt x="116165" y="1400"/>
                </a:lnTo>
                <a:close/>
              </a:path>
              <a:path fill="darkenLess" w="117565" h="21600">
                <a:moveTo>
                  <a:pt x="117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165" y="20200"/>
                </a:lnTo>
                <a:close/>
              </a:path>
              <a:path fill="lighten" w="117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ЦП «Патриотическое воспита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школьников на 2016-2018 гг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0" y="6165720"/>
            <a:ext cx="3924360" cy="692280"/>
          </a:xfrm>
          <a:custGeom>
            <a:avLst/>
            <a:gdLst>
              <a:gd name="textAreaLeft" fmla="*/ 44640 w 3924360"/>
              <a:gd name="textAreaRight" fmla="*/ 3879720 w 392436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122393" h="21600">
                <a:moveTo>
                  <a:pt x="0" y="0"/>
                </a:moveTo>
                <a:lnTo>
                  <a:pt x="122393" y="0"/>
                </a:lnTo>
                <a:lnTo>
                  <a:pt x="122393" y="21600"/>
                </a:lnTo>
                <a:lnTo>
                  <a:pt x="0" y="21600"/>
                </a:lnTo>
                <a:close/>
              </a:path>
              <a:path fill="lightenLess" w="122393" h="21600">
                <a:moveTo>
                  <a:pt x="0" y="0"/>
                </a:moveTo>
                <a:lnTo>
                  <a:pt x="122393" y="0"/>
                </a:lnTo>
                <a:lnTo>
                  <a:pt x="120993" y="1400"/>
                </a:lnTo>
                <a:lnTo>
                  <a:pt x="1400" y="1400"/>
                </a:lnTo>
                <a:close/>
              </a:path>
              <a:path fill="darken" w="122393" h="21600">
                <a:moveTo>
                  <a:pt x="122393" y="0"/>
                </a:moveTo>
                <a:lnTo>
                  <a:pt x="122393" y="21600"/>
                </a:lnTo>
                <a:lnTo>
                  <a:pt x="120993" y="20200"/>
                </a:lnTo>
                <a:lnTo>
                  <a:pt x="120993" y="1400"/>
                </a:lnTo>
                <a:close/>
              </a:path>
              <a:path fill="darkenLess" w="122393" h="21600">
                <a:moveTo>
                  <a:pt x="1223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993" y="20200"/>
                </a:lnTo>
                <a:close/>
              </a:path>
              <a:path fill="lighten" w="1223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Итог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924360" y="4724280"/>
            <a:ext cx="1727280" cy="720720"/>
          </a:xfrm>
          <a:custGeom>
            <a:avLst/>
            <a:gdLst>
              <a:gd name="textAreaLeft" fmla="*/ 46440 w 1727280"/>
              <a:gd name="textAreaRight" fmla="*/ 1680840 w 1727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1752" h="21600">
                <a:moveTo>
                  <a:pt x="0" y="0"/>
                </a:moveTo>
                <a:lnTo>
                  <a:pt x="51752" y="0"/>
                </a:lnTo>
                <a:lnTo>
                  <a:pt x="51752" y="21600"/>
                </a:lnTo>
                <a:lnTo>
                  <a:pt x="0" y="21600"/>
                </a:lnTo>
                <a:close/>
              </a:path>
              <a:path fill="lightenLess" w="51752" h="21600">
                <a:moveTo>
                  <a:pt x="0" y="0"/>
                </a:moveTo>
                <a:lnTo>
                  <a:pt x="51752" y="0"/>
                </a:lnTo>
                <a:lnTo>
                  <a:pt x="50352" y="1400"/>
                </a:lnTo>
                <a:lnTo>
                  <a:pt x="1400" y="1400"/>
                </a:lnTo>
                <a:close/>
              </a:path>
              <a:path fill="darken" w="51752" h="21600">
                <a:moveTo>
                  <a:pt x="51752" y="0"/>
                </a:moveTo>
                <a:lnTo>
                  <a:pt x="51752" y="21600"/>
                </a:lnTo>
                <a:lnTo>
                  <a:pt x="50352" y="20200"/>
                </a:lnTo>
                <a:lnTo>
                  <a:pt x="50352" y="1400"/>
                </a:lnTo>
                <a:close/>
              </a:path>
              <a:path fill="darkenLess" w="51752" h="21600">
                <a:moveTo>
                  <a:pt x="51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52" y="20200"/>
                </a:lnTo>
                <a:close/>
              </a:path>
              <a:path fill="lighten" w="51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924360" y="6165720"/>
            <a:ext cx="1727280" cy="692280"/>
          </a:xfrm>
          <a:custGeom>
            <a:avLst/>
            <a:gdLst>
              <a:gd name="textAreaLeft" fmla="*/ 44640 w 1727280"/>
              <a:gd name="textAreaRight" fmla="*/ 1682640 w 172728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3877" h="21600">
                <a:moveTo>
                  <a:pt x="0" y="0"/>
                </a:moveTo>
                <a:lnTo>
                  <a:pt x="53877" y="0"/>
                </a:lnTo>
                <a:lnTo>
                  <a:pt x="53877" y="21600"/>
                </a:lnTo>
                <a:lnTo>
                  <a:pt x="0" y="21600"/>
                </a:lnTo>
                <a:close/>
              </a:path>
              <a:path fill="lightenLess" w="53877" h="21600">
                <a:moveTo>
                  <a:pt x="0" y="0"/>
                </a:moveTo>
                <a:lnTo>
                  <a:pt x="53877" y="0"/>
                </a:lnTo>
                <a:lnTo>
                  <a:pt x="52477" y="1400"/>
                </a:lnTo>
                <a:lnTo>
                  <a:pt x="1400" y="1400"/>
                </a:lnTo>
                <a:close/>
              </a:path>
              <a:path fill="darken" w="53877" h="21600">
                <a:moveTo>
                  <a:pt x="53877" y="0"/>
                </a:moveTo>
                <a:lnTo>
                  <a:pt x="53877" y="21600"/>
                </a:lnTo>
                <a:lnTo>
                  <a:pt x="52477" y="20200"/>
                </a:lnTo>
                <a:lnTo>
                  <a:pt x="52477" y="1400"/>
                </a:lnTo>
                <a:close/>
              </a:path>
              <a:path fill="darkenLess" w="53877" h="21600">
                <a:moveTo>
                  <a:pt x="538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477" y="20200"/>
                </a:lnTo>
                <a:close/>
              </a:path>
              <a:path fill="lighten" w="538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 4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651640" y="4724280"/>
            <a:ext cx="1726920" cy="720720"/>
          </a:xfrm>
          <a:custGeom>
            <a:avLst/>
            <a:gdLst>
              <a:gd name="textAreaLeft" fmla="*/ 46440 w 1726920"/>
              <a:gd name="textAreaRight" fmla="*/ 1680480 w 1726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1741" h="21600">
                <a:moveTo>
                  <a:pt x="0" y="0"/>
                </a:moveTo>
                <a:lnTo>
                  <a:pt x="51741" y="0"/>
                </a:lnTo>
                <a:lnTo>
                  <a:pt x="51741" y="21600"/>
                </a:lnTo>
                <a:lnTo>
                  <a:pt x="0" y="21600"/>
                </a:lnTo>
                <a:close/>
              </a:path>
              <a:path fill="lightenLess" w="51741" h="21600">
                <a:moveTo>
                  <a:pt x="0" y="0"/>
                </a:moveTo>
                <a:lnTo>
                  <a:pt x="51741" y="0"/>
                </a:lnTo>
                <a:lnTo>
                  <a:pt x="50341" y="1400"/>
                </a:lnTo>
                <a:lnTo>
                  <a:pt x="1400" y="1400"/>
                </a:lnTo>
                <a:close/>
              </a:path>
              <a:path fill="darken" w="51741" h="21600">
                <a:moveTo>
                  <a:pt x="51741" y="0"/>
                </a:moveTo>
                <a:lnTo>
                  <a:pt x="51741" y="21600"/>
                </a:lnTo>
                <a:lnTo>
                  <a:pt x="50341" y="20200"/>
                </a:lnTo>
                <a:lnTo>
                  <a:pt x="50341" y="1400"/>
                </a:lnTo>
                <a:close/>
              </a:path>
              <a:path fill="darkenLess" w="51741" h="21600">
                <a:moveTo>
                  <a:pt x="51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41" y="20200"/>
                </a:lnTo>
                <a:close/>
              </a:path>
              <a:path fill="lighten" w="51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651640" y="6165720"/>
            <a:ext cx="1726920" cy="692280"/>
          </a:xfrm>
          <a:custGeom>
            <a:avLst/>
            <a:gdLst>
              <a:gd name="textAreaLeft" fmla="*/ 44640 w 1726920"/>
              <a:gd name="textAreaRight" fmla="*/ 1682280 w 17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3865" h="21600">
                <a:moveTo>
                  <a:pt x="0" y="0"/>
                </a:moveTo>
                <a:lnTo>
                  <a:pt x="53865" y="0"/>
                </a:lnTo>
                <a:lnTo>
                  <a:pt x="53865" y="21600"/>
                </a:lnTo>
                <a:lnTo>
                  <a:pt x="0" y="21600"/>
                </a:lnTo>
                <a:close/>
              </a:path>
              <a:path fill="lightenLess" w="53865" h="21600">
                <a:moveTo>
                  <a:pt x="0" y="0"/>
                </a:moveTo>
                <a:lnTo>
                  <a:pt x="53865" y="0"/>
                </a:lnTo>
                <a:lnTo>
                  <a:pt x="52465" y="1400"/>
                </a:lnTo>
                <a:lnTo>
                  <a:pt x="1400" y="1400"/>
                </a:lnTo>
                <a:close/>
              </a:path>
              <a:path fill="darken" w="53865" h="21600">
                <a:moveTo>
                  <a:pt x="53865" y="0"/>
                </a:moveTo>
                <a:lnTo>
                  <a:pt x="53865" y="21600"/>
                </a:lnTo>
                <a:lnTo>
                  <a:pt x="52465" y="20200"/>
                </a:lnTo>
                <a:lnTo>
                  <a:pt x="52465" y="1400"/>
                </a:lnTo>
                <a:close/>
              </a:path>
              <a:path fill="darkenLess" w="53865" h="21600">
                <a:moveTo>
                  <a:pt x="53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465" y="20200"/>
                </a:lnTo>
                <a:close/>
              </a:path>
              <a:path fill="lighten" w="53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 4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380360" y="4724280"/>
            <a:ext cx="1763640" cy="720720"/>
          </a:xfrm>
          <a:custGeom>
            <a:avLst/>
            <a:gdLst>
              <a:gd name="textAreaLeft" fmla="*/ 46440 w 1763640"/>
              <a:gd name="textAreaRight" fmla="*/ 1717200 w 17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2841" h="21600">
                <a:moveTo>
                  <a:pt x="0" y="0"/>
                </a:moveTo>
                <a:lnTo>
                  <a:pt x="52841" y="0"/>
                </a:lnTo>
                <a:lnTo>
                  <a:pt x="52841" y="21600"/>
                </a:lnTo>
                <a:lnTo>
                  <a:pt x="0" y="21600"/>
                </a:lnTo>
                <a:close/>
              </a:path>
              <a:path fill="lightenLess" w="52841" h="21600">
                <a:moveTo>
                  <a:pt x="0" y="0"/>
                </a:moveTo>
                <a:lnTo>
                  <a:pt x="52841" y="0"/>
                </a:lnTo>
                <a:lnTo>
                  <a:pt x="51441" y="1400"/>
                </a:lnTo>
                <a:lnTo>
                  <a:pt x="1400" y="1400"/>
                </a:lnTo>
                <a:close/>
              </a:path>
              <a:path fill="darken" w="52841" h="21600">
                <a:moveTo>
                  <a:pt x="52841" y="0"/>
                </a:moveTo>
                <a:lnTo>
                  <a:pt x="52841" y="21600"/>
                </a:lnTo>
                <a:lnTo>
                  <a:pt x="51441" y="20200"/>
                </a:lnTo>
                <a:lnTo>
                  <a:pt x="51441" y="1400"/>
                </a:lnTo>
                <a:close/>
              </a:path>
              <a:path fill="darkenLess" w="52841" h="21600">
                <a:moveTo>
                  <a:pt x="528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441" y="20200"/>
                </a:lnTo>
                <a:close/>
              </a:path>
              <a:path fill="lighten" w="528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380360" y="6165720"/>
            <a:ext cx="1763640" cy="692280"/>
          </a:xfrm>
          <a:custGeom>
            <a:avLst/>
            <a:gdLst>
              <a:gd name="textAreaLeft" fmla="*/ 44640 w 1763640"/>
              <a:gd name="textAreaRight" fmla="*/ 1719000 w 1763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55010" h="21600">
                <a:moveTo>
                  <a:pt x="0" y="0"/>
                </a:moveTo>
                <a:lnTo>
                  <a:pt x="55010" y="0"/>
                </a:lnTo>
                <a:lnTo>
                  <a:pt x="55010" y="21600"/>
                </a:lnTo>
                <a:lnTo>
                  <a:pt x="0" y="21600"/>
                </a:lnTo>
                <a:close/>
              </a:path>
              <a:path fill="lightenLess" w="55010" h="21600">
                <a:moveTo>
                  <a:pt x="0" y="0"/>
                </a:moveTo>
                <a:lnTo>
                  <a:pt x="55010" y="0"/>
                </a:lnTo>
                <a:lnTo>
                  <a:pt x="53610" y="1400"/>
                </a:lnTo>
                <a:lnTo>
                  <a:pt x="1400" y="1400"/>
                </a:lnTo>
                <a:close/>
              </a:path>
              <a:path fill="darken" w="55010" h="21600">
                <a:moveTo>
                  <a:pt x="55010" y="0"/>
                </a:moveTo>
                <a:lnTo>
                  <a:pt x="55010" y="21600"/>
                </a:lnTo>
                <a:lnTo>
                  <a:pt x="53610" y="20200"/>
                </a:lnTo>
                <a:lnTo>
                  <a:pt x="53610" y="1400"/>
                </a:lnTo>
                <a:close/>
              </a:path>
              <a:path fill="darkenLess" w="55010" h="21600">
                <a:moveTo>
                  <a:pt x="55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0" y="20200"/>
                </a:lnTo>
                <a:close/>
              </a:path>
              <a:path fill="lighten" w="55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 4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0" y="4149720"/>
            <a:ext cx="3924360" cy="576360"/>
          </a:xfrm>
          <a:custGeom>
            <a:avLst/>
            <a:gdLst>
              <a:gd name="textAreaLeft" fmla="*/ 37080 w 3924360"/>
              <a:gd name="textAreaRight" fmla="*/ 3887280 w 3924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6993" h="21600">
                <a:moveTo>
                  <a:pt x="0" y="0"/>
                </a:moveTo>
                <a:lnTo>
                  <a:pt x="146993" y="0"/>
                </a:lnTo>
                <a:lnTo>
                  <a:pt x="146993" y="21600"/>
                </a:lnTo>
                <a:lnTo>
                  <a:pt x="0" y="21600"/>
                </a:lnTo>
                <a:close/>
              </a:path>
              <a:path fill="lightenLess" w="146993" h="21600">
                <a:moveTo>
                  <a:pt x="0" y="0"/>
                </a:moveTo>
                <a:lnTo>
                  <a:pt x="146993" y="0"/>
                </a:lnTo>
                <a:lnTo>
                  <a:pt x="145593" y="1400"/>
                </a:lnTo>
                <a:lnTo>
                  <a:pt x="1400" y="1400"/>
                </a:lnTo>
                <a:close/>
              </a:path>
              <a:path fill="darken" w="146993" h="21600">
                <a:moveTo>
                  <a:pt x="146993" y="0"/>
                </a:moveTo>
                <a:lnTo>
                  <a:pt x="146993" y="21600"/>
                </a:lnTo>
                <a:lnTo>
                  <a:pt x="145593" y="20200"/>
                </a:lnTo>
                <a:lnTo>
                  <a:pt x="145593" y="1400"/>
                </a:lnTo>
                <a:close/>
              </a:path>
              <a:path fill="darkenLess" w="146993" h="21600">
                <a:moveTo>
                  <a:pt x="146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5593" y="20200"/>
                </a:lnTo>
                <a:close/>
              </a:path>
              <a:path fill="lighten" w="146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ЦП «Создание условий для укрепле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личных подсобных хозяйств на 2016-2018 годы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924360" y="414972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651640" y="4149720"/>
            <a:ext cx="1726920" cy="574560"/>
          </a:xfrm>
          <a:custGeom>
            <a:avLst/>
            <a:gdLst>
              <a:gd name="textAreaLeft" fmla="*/ 37080 w 1726920"/>
              <a:gd name="textAreaRight" fmla="*/ 1689840 w 172692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64895" h="21600">
                <a:moveTo>
                  <a:pt x="0" y="0"/>
                </a:moveTo>
                <a:lnTo>
                  <a:pt x="64895" y="0"/>
                </a:lnTo>
                <a:lnTo>
                  <a:pt x="64895" y="21600"/>
                </a:lnTo>
                <a:lnTo>
                  <a:pt x="0" y="21600"/>
                </a:lnTo>
                <a:close/>
              </a:path>
              <a:path fill="lightenLess" w="64895" h="21600">
                <a:moveTo>
                  <a:pt x="0" y="0"/>
                </a:moveTo>
                <a:lnTo>
                  <a:pt x="64895" y="0"/>
                </a:lnTo>
                <a:lnTo>
                  <a:pt x="63495" y="1400"/>
                </a:lnTo>
                <a:lnTo>
                  <a:pt x="1400" y="1400"/>
                </a:lnTo>
                <a:close/>
              </a:path>
              <a:path fill="darken" w="64895" h="21600">
                <a:moveTo>
                  <a:pt x="64895" y="0"/>
                </a:moveTo>
                <a:lnTo>
                  <a:pt x="64895" y="21600"/>
                </a:lnTo>
                <a:lnTo>
                  <a:pt x="63495" y="20200"/>
                </a:lnTo>
                <a:lnTo>
                  <a:pt x="63495" y="1400"/>
                </a:lnTo>
                <a:close/>
              </a:path>
              <a:path fill="darkenLess" w="64895" h="21600">
                <a:moveTo>
                  <a:pt x="648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95" y="20200"/>
                </a:lnTo>
                <a:close/>
              </a:path>
              <a:path fill="lighten" w="648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380360" y="4149720"/>
            <a:ext cx="1763640" cy="574560"/>
          </a:xfrm>
          <a:custGeom>
            <a:avLst/>
            <a:gdLst>
              <a:gd name="textAreaLeft" fmla="*/ 37080 w 1763640"/>
              <a:gd name="textAreaRight" fmla="*/ 1726560 w 17636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66274" h="21600">
                <a:moveTo>
                  <a:pt x="0" y="0"/>
                </a:moveTo>
                <a:lnTo>
                  <a:pt x="66274" y="0"/>
                </a:lnTo>
                <a:lnTo>
                  <a:pt x="66274" y="21600"/>
                </a:lnTo>
                <a:lnTo>
                  <a:pt x="0" y="21600"/>
                </a:lnTo>
                <a:close/>
              </a:path>
              <a:path fill="lightenLess" w="66274" h="21600">
                <a:moveTo>
                  <a:pt x="0" y="0"/>
                </a:moveTo>
                <a:lnTo>
                  <a:pt x="66274" y="0"/>
                </a:lnTo>
                <a:lnTo>
                  <a:pt x="64874" y="1400"/>
                </a:lnTo>
                <a:lnTo>
                  <a:pt x="1400" y="1400"/>
                </a:lnTo>
                <a:close/>
              </a:path>
              <a:path fill="darken" w="66274" h="21600">
                <a:moveTo>
                  <a:pt x="66274" y="0"/>
                </a:moveTo>
                <a:lnTo>
                  <a:pt x="66274" y="21600"/>
                </a:lnTo>
                <a:lnTo>
                  <a:pt x="64874" y="20200"/>
                </a:lnTo>
                <a:lnTo>
                  <a:pt x="64874" y="1400"/>
                </a:lnTo>
                <a:close/>
              </a:path>
              <a:path fill="darkenLess" w="66274" h="21600">
                <a:moveTo>
                  <a:pt x="662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874" y="20200"/>
                </a:lnTo>
                <a:close/>
              </a:path>
              <a:path fill="lighten" w="662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0" y="2852640"/>
            <a:ext cx="3924360" cy="1295640"/>
          </a:xfrm>
          <a:custGeom>
            <a:avLst/>
            <a:gdLst>
              <a:gd name="textAreaLeft" fmla="*/ 83880 w 3924360"/>
              <a:gd name="textAreaRight" fmla="*/ 3840480 w 392436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65412" h="21600">
                <a:moveTo>
                  <a:pt x="0" y="0"/>
                </a:moveTo>
                <a:lnTo>
                  <a:pt x="65412" y="0"/>
                </a:lnTo>
                <a:lnTo>
                  <a:pt x="65412" y="21600"/>
                </a:lnTo>
                <a:lnTo>
                  <a:pt x="0" y="21600"/>
                </a:lnTo>
                <a:close/>
              </a:path>
              <a:path fill="lightenLess" w="65412" h="21600">
                <a:moveTo>
                  <a:pt x="0" y="0"/>
                </a:moveTo>
                <a:lnTo>
                  <a:pt x="65412" y="0"/>
                </a:lnTo>
                <a:lnTo>
                  <a:pt x="64012" y="1400"/>
                </a:lnTo>
                <a:lnTo>
                  <a:pt x="1400" y="1400"/>
                </a:lnTo>
                <a:close/>
              </a:path>
              <a:path fill="darken" w="65412" h="21600">
                <a:moveTo>
                  <a:pt x="65412" y="0"/>
                </a:moveTo>
                <a:lnTo>
                  <a:pt x="65412" y="21600"/>
                </a:lnTo>
                <a:lnTo>
                  <a:pt x="64012" y="20200"/>
                </a:lnTo>
                <a:lnTo>
                  <a:pt x="64012" y="1400"/>
                </a:lnTo>
                <a:close/>
              </a:path>
              <a:path fill="darkenLess" w="65412" h="21600">
                <a:moveTo>
                  <a:pt x="65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012" y="20200"/>
                </a:lnTo>
                <a:close/>
              </a:path>
              <a:path fill="lighten" w="65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ЦП «Улучшение санитарно-гигиеническог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ежима, создание здоровых и безопасных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условий в образовательных организация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ырянского района на 2016 год на плановы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ериод 2017-2018 годов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924360" y="2852640"/>
            <a:ext cx="1727280" cy="1297080"/>
          </a:xfrm>
          <a:custGeom>
            <a:avLst/>
            <a:gdLst>
              <a:gd name="textAreaLeft" fmla="*/ 83880 w 1727280"/>
              <a:gd name="textAreaRight" fmla="*/ 1643400 w 1727280"/>
              <a:gd name="textAreaTop" fmla="*/ 83880 h 1297080"/>
              <a:gd name="textAreaBottom" fmla="*/ 1213200 h 1297080"/>
            </a:gdLst>
            <a:ahLst/>
            <a:rect l="textAreaLeft" t="textAreaTop" r="textAreaRight" b="textAreaBottom"/>
            <a:pathLst>
              <a:path w="28762" h="21600">
                <a:moveTo>
                  <a:pt x="0" y="0"/>
                </a:moveTo>
                <a:lnTo>
                  <a:pt x="28762" y="0"/>
                </a:lnTo>
                <a:lnTo>
                  <a:pt x="28762" y="21600"/>
                </a:lnTo>
                <a:lnTo>
                  <a:pt x="0" y="21600"/>
                </a:lnTo>
                <a:close/>
              </a:path>
              <a:path fill="lightenLess" w="28762" h="21600">
                <a:moveTo>
                  <a:pt x="0" y="0"/>
                </a:moveTo>
                <a:lnTo>
                  <a:pt x="28762" y="0"/>
                </a:lnTo>
                <a:lnTo>
                  <a:pt x="27362" y="1400"/>
                </a:lnTo>
                <a:lnTo>
                  <a:pt x="1400" y="1400"/>
                </a:lnTo>
                <a:close/>
              </a:path>
              <a:path fill="darken" w="28762" h="21600">
                <a:moveTo>
                  <a:pt x="28762" y="0"/>
                </a:moveTo>
                <a:lnTo>
                  <a:pt x="28762" y="21600"/>
                </a:lnTo>
                <a:lnTo>
                  <a:pt x="27362" y="20200"/>
                </a:lnTo>
                <a:lnTo>
                  <a:pt x="27362" y="1400"/>
                </a:lnTo>
                <a:close/>
              </a:path>
              <a:path fill="darkenLess" w="28762" h="21600">
                <a:moveTo>
                  <a:pt x="28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2" y="20200"/>
                </a:lnTo>
                <a:close/>
              </a:path>
              <a:path fill="lighten" w="28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651640" y="2852640"/>
            <a:ext cx="1726920" cy="1297080"/>
          </a:xfrm>
          <a:custGeom>
            <a:avLst/>
            <a:gdLst>
              <a:gd name="textAreaLeft" fmla="*/ 83880 w 1726920"/>
              <a:gd name="textAreaRight" fmla="*/ 1643040 w 1726920"/>
              <a:gd name="textAreaTop" fmla="*/ 83880 h 1297080"/>
              <a:gd name="textAreaBottom" fmla="*/ 1213200 h 1297080"/>
            </a:gdLst>
            <a:ahLst/>
            <a:rect l="textAreaLeft" t="textAreaTop" r="textAreaRight" b="textAreaBottom"/>
            <a:pathLst>
              <a:path w="28756" h="21600">
                <a:moveTo>
                  <a:pt x="0" y="0"/>
                </a:moveTo>
                <a:lnTo>
                  <a:pt x="28756" y="0"/>
                </a:lnTo>
                <a:lnTo>
                  <a:pt x="28756" y="21600"/>
                </a:lnTo>
                <a:lnTo>
                  <a:pt x="0" y="21600"/>
                </a:lnTo>
                <a:close/>
              </a:path>
              <a:path fill="lightenLess" w="28756" h="21600">
                <a:moveTo>
                  <a:pt x="0" y="0"/>
                </a:moveTo>
                <a:lnTo>
                  <a:pt x="28756" y="0"/>
                </a:lnTo>
                <a:lnTo>
                  <a:pt x="27356" y="1400"/>
                </a:lnTo>
                <a:lnTo>
                  <a:pt x="1400" y="1400"/>
                </a:lnTo>
                <a:close/>
              </a:path>
              <a:path fill="darken" w="28756" h="21600">
                <a:moveTo>
                  <a:pt x="28756" y="0"/>
                </a:moveTo>
                <a:lnTo>
                  <a:pt x="28756" y="21600"/>
                </a:lnTo>
                <a:lnTo>
                  <a:pt x="27356" y="20200"/>
                </a:lnTo>
                <a:lnTo>
                  <a:pt x="27356" y="1400"/>
                </a:lnTo>
                <a:close/>
              </a:path>
              <a:path fill="darkenLess" w="28756" h="21600">
                <a:moveTo>
                  <a:pt x="28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56" y="20200"/>
                </a:lnTo>
                <a:close/>
              </a:path>
              <a:path fill="lighten" w="28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7380360" y="2852640"/>
            <a:ext cx="1763640" cy="1297080"/>
          </a:xfrm>
          <a:custGeom>
            <a:avLst/>
            <a:gdLst>
              <a:gd name="textAreaLeft" fmla="*/ 83880 w 1763640"/>
              <a:gd name="textAreaRight" fmla="*/ 1679760 w 1763640"/>
              <a:gd name="textAreaTop" fmla="*/ 83880 h 1297080"/>
              <a:gd name="textAreaBottom" fmla="*/ 1213200 h 1297080"/>
            </a:gdLst>
            <a:ahLst/>
            <a:rect l="textAreaLeft" t="textAreaTop" r="textAreaRight" b="textAreaBottom"/>
            <a:pathLst>
              <a:path w="29367" h="21600">
                <a:moveTo>
                  <a:pt x="0" y="0"/>
                </a:moveTo>
                <a:lnTo>
                  <a:pt x="29367" y="0"/>
                </a:lnTo>
                <a:lnTo>
                  <a:pt x="29367" y="21600"/>
                </a:lnTo>
                <a:lnTo>
                  <a:pt x="0" y="21600"/>
                </a:lnTo>
                <a:close/>
              </a:path>
              <a:path fill="lightenLess" w="29367" h="21600">
                <a:moveTo>
                  <a:pt x="0" y="0"/>
                </a:moveTo>
                <a:lnTo>
                  <a:pt x="29367" y="0"/>
                </a:lnTo>
                <a:lnTo>
                  <a:pt x="27967" y="1400"/>
                </a:lnTo>
                <a:lnTo>
                  <a:pt x="1400" y="1400"/>
                </a:lnTo>
                <a:close/>
              </a:path>
              <a:path fill="darken" w="29367" h="21600">
                <a:moveTo>
                  <a:pt x="29367" y="0"/>
                </a:moveTo>
                <a:lnTo>
                  <a:pt x="29367" y="21600"/>
                </a:lnTo>
                <a:lnTo>
                  <a:pt x="27967" y="20200"/>
                </a:lnTo>
                <a:lnTo>
                  <a:pt x="27967" y="1400"/>
                </a:lnTo>
                <a:close/>
              </a:path>
              <a:path fill="darkenLess" w="29367" h="21600">
                <a:moveTo>
                  <a:pt x="293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7" y="20200"/>
                </a:lnTo>
                <a:close/>
              </a:path>
              <a:path fill="lighten" w="293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0"/>
            <a:ext cx="9144000" cy="836640"/>
          </a:xfrm>
          <a:custGeom>
            <a:avLst/>
            <a:gdLst>
              <a:gd name="textAreaLeft" fmla="*/ 54000 w 9144000"/>
              <a:gd name="textAreaRight" fmla="*/ 9090000 w 9144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5983" h="21600">
                <a:moveTo>
                  <a:pt x="0" y="0"/>
                </a:moveTo>
                <a:lnTo>
                  <a:pt x="235983" y="0"/>
                </a:lnTo>
                <a:lnTo>
                  <a:pt x="235983" y="21600"/>
                </a:lnTo>
                <a:lnTo>
                  <a:pt x="0" y="21600"/>
                </a:lnTo>
                <a:close/>
              </a:path>
              <a:path fill="lightenLess" w="235983" h="21600">
                <a:moveTo>
                  <a:pt x="0" y="0"/>
                </a:moveTo>
                <a:lnTo>
                  <a:pt x="235983" y="0"/>
                </a:lnTo>
                <a:lnTo>
                  <a:pt x="234584" y="1400"/>
                </a:lnTo>
                <a:lnTo>
                  <a:pt x="1400" y="1400"/>
                </a:lnTo>
                <a:close/>
              </a:path>
              <a:path fill="darken" w="235983" h="21600">
                <a:moveTo>
                  <a:pt x="235983" y="0"/>
                </a:moveTo>
                <a:lnTo>
                  <a:pt x="235983" y="21600"/>
                </a:lnTo>
                <a:lnTo>
                  <a:pt x="234584" y="20200"/>
                </a:lnTo>
                <a:lnTo>
                  <a:pt x="234584" y="1400"/>
                </a:lnTo>
                <a:close/>
              </a:path>
              <a:path fill="darkenLess" w="235983" h="21600">
                <a:moveTo>
                  <a:pt x="235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584" y="20200"/>
                </a:lnTo>
                <a:close/>
              </a:path>
              <a:path fill="lighten" w="235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асходы на реализацию ведомственных и муниципаль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ограмм муниципального образования на 2016 - 2018 г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836640"/>
            <a:ext cx="3924360" cy="576360"/>
          </a:xfrm>
          <a:custGeom>
            <a:avLst/>
            <a:gdLst>
              <a:gd name="textAreaLeft" fmla="*/ 37080 w 3924360"/>
              <a:gd name="textAreaRight" fmla="*/ 3887280 w 3924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6993" h="21600">
                <a:moveTo>
                  <a:pt x="0" y="0"/>
                </a:moveTo>
                <a:lnTo>
                  <a:pt x="146993" y="0"/>
                </a:lnTo>
                <a:lnTo>
                  <a:pt x="146993" y="21600"/>
                </a:lnTo>
                <a:lnTo>
                  <a:pt x="0" y="21600"/>
                </a:lnTo>
                <a:close/>
              </a:path>
              <a:path fill="lightenLess" w="146993" h="21600">
                <a:moveTo>
                  <a:pt x="0" y="0"/>
                </a:moveTo>
                <a:lnTo>
                  <a:pt x="146993" y="0"/>
                </a:lnTo>
                <a:lnTo>
                  <a:pt x="145593" y="1400"/>
                </a:lnTo>
                <a:lnTo>
                  <a:pt x="1400" y="1400"/>
                </a:lnTo>
                <a:close/>
              </a:path>
              <a:path fill="darken" w="146993" h="21600">
                <a:moveTo>
                  <a:pt x="146993" y="0"/>
                </a:moveTo>
                <a:lnTo>
                  <a:pt x="146993" y="21600"/>
                </a:lnTo>
                <a:lnTo>
                  <a:pt x="145593" y="20200"/>
                </a:lnTo>
                <a:lnTo>
                  <a:pt x="145593" y="1400"/>
                </a:lnTo>
                <a:close/>
              </a:path>
              <a:path fill="darkenLess" w="146993" h="21600">
                <a:moveTo>
                  <a:pt x="146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5593" y="20200"/>
                </a:lnTo>
                <a:close/>
              </a:path>
              <a:path fill="lighten" w="146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едомственные целев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рограмм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24360" y="83664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лан 2016 год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651640" y="836640"/>
            <a:ext cx="1728720" cy="576360"/>
          </a:xfrm>
          <a:custGeom>
            <a:avLst/>
            <a:gdLst>
              <a:gd name="textAreaLeft" fmla="*/ 37080 w 1728720"/>
              <a:gd name="textAreaRight" fmla="*/ 1691640 w 1728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60" h="21600">
                <a:moveTo>
                  <a:pt x="0" y="0"/>
                </a:moveTo>
                <a:lnTo>
                  <a:pt x="64760" y="0"/>
                </a:lnTo>
                <a:lnTo>
                  <a:pt x="64760" y="21600"/>
                </a:lnTo>
                <a:lnTo>
                  <a:pt x="0" y="21600"/>
                </a:lnTo>
                <a:close/>
              </a:path>
              <a:path fill="lightenLess" w="64760" h="21600">
                <a:moveTo>
                  <a:pt x="0" y="0"/>
                </a:moveTo>
                <a:lnTo>
                  <a:pt x="64760" y="0"/>
                </a:lnTo>
                <a:lnTo>
                  <a:pt x="63360" y="1400"/>
                </a:lnTo>
                <a:lnTo>
                  <a:pt x="1400" y="1400"/>
                </a:lnTo>
                <a:close/>
              </a:path>
              <a:path fill="darken" w="64760" h="21600">
                <a:moveTo>
                  <a:pt x="64760" y="0"/>
                </a:moveTo>
                <a:lnTo>
                  <a:pt x="64760" y="21600"/>
                </a:lnTo>
                <a:lnTo>
                  <a:pt x="63360" y="20200"/>
                </a:lnTo>
                <a:lnTo>
                  <a:pt x="63360" y="1400"/>
                </a:lnTo>
                <a:close/>
              </a:path>
              <a:path fill="darkenLess" w="64760" h="21600">
                <a:moveTo>
                  <a:pt x="64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0" y="20200"/>
                </a:lnTo>
                <a:close/>
              </a:path>
              <a:path fill="lighten" w="64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лан 2017 год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380360" y="836640"/>
            <a:ext cx="1763640" cy="576360"/>
          </a:xfrm>
          <a:custGeom>
            <a:avLst/>
            <a:gdLst>
              <a:gd name="textAreaLeft" fmla="*/ 37080 w 1763640"/>
              <a:gd name="textAreaRight" fmla="*/ 1726560 w 17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6067" h="21600">
                <a:moveTo>
                  <a:pt x="0" y="0"/>
                </a:moveTo>
                <a:lnTo>
                  <a:pt x="66067" y="0"/>
                </a:lnTo>
                <a:lnTo>
                  <a:pt x="66067" y="21600"/>
                </a:lnTo>
                <a:lnTo>
                  <a:pt x="0" y="21600"/>
                </a:lnTo>
                <a:close/>
              </a:path>
              <a:path fill="lightenLess" w="66067" h="21600">
                <a:moveTo>
                  <a:pt x="0" y="0"/>
                </a:moveTo>
                <a:lnTo>
                  <a:pt x="66067" y="0"/>
                </a:lnTo>
                <a:lnTo>
                  <a:pt x="64667" y="1400"/>
                </a:lnTo>
                <a:lnTo>
                  <a:pt x="1400" y="1400"/>
                </a:lnTo>
                <a:close/>
              </a:path>
              <a:path fill="darken" w="66067" h="21600">
                <a:moveTo>
                  <a:pt x="66067" y="0"/>
                </a:moveTo>
                <a:lnTo>
                  <a:pt x="66067" y="21600"/>
                </a:lnTo>
                <a:lnTo>
                  <a:pt x="64667" y="20200"/>
                </a:lnTo>
                <a:lnTo>
                  <a:pt x="64667" y="1400"/>
                </a:lnTo>
                <a:close/>
              </a:path>
              <a:path fill="darkenLess" w="66067" h="21600">
                <a:moveTo>
                  <a:pt x="660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667" y="20200"/>
                </a:lnTo>
                <a:close/>
              </a:path>
              <a:path fill="lighten" w="660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лан 2018 год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0" y="6524640"/>
            <a:ext cx="3924360" cy="333360"/>
          </a:xfrm>
          <a:custGeom>
            <a:avLst/>
            <a:gdLst>
              <a:gd name="textAreaLeft" fmla="*/ 21600 w 3924360"/>
              <a:gd name="textAreaRight" fmla="*/ 3902760 w 3924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4027" h="21600">
                <a:moveTo>
                  <a:pt x="0" y="0"/>
                </a:moveTo>
                <a:lnTo>
                  <a:pt x="254027" y="0"/>
                </a:lnTo>
                <a:lnTo>
                  <a:pt x="254027" y="21600"/>
                </a:lnTo>
                <a:lnTo>
                  <a:pt x="0" y="21600"/>
                </a:lnTo>
                <a:close/>
              </a:path>
              <a:path fill="lightenLess" w="254027" h="21600">
                <a:moveTo>
                  <a:pt x="0" y="0"/>
                </a:moveTo>
                <a:lnTo>
                  <a:pt x="254027" y="0"/>
                </a:lnTo>
                <a:lnTo>
                  <a:pt x="252627" y="1400"/>
                </a:lnTo>
                <a:lnTo>
                  <a:pt x="1400" y="1400"/>
                </a:lnTo>
                <a:close/>
              </a:path>
              <a:path fill="darken" w="254027" h="21600">
                <a:moveTo>
                  <a:pt x="254027" y="0"/>
                </a:moveTo>
                <a:lnTo>
                  <a:pt x="254027" y="21600"/>
                </a:lnTo>
                <a:lnTo>
                  <a:pt x="252627" y="20200"/>
                </a:lnTo>
                <a:lnTo>
                  <a:pt x="252627" y="1400"/>
                </a:lnTo>
                <a:close/>
              </a:path>
              <a:path fill="darkenLess" w="254027" h="21600">
                <a:moveTo>
                  <a:pt x="2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627" y="20200"/>
                </a:lnTo>
                <a:close/>
              </a:path>
              <a:path fill="lighten" w="2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ВСЕГ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924360" y="6524640"/>
            <a:ext cx="1727280" cy="333360"/>
          </a:xfrm>
          <a:custGeom>
            <a:avLst/>
            <a:gdLst>
              <a:gd name="textAreaLeft" fmla="*/ 21600 w 1727280"/>
              <a:gd name="textAreaRight" fmla="*/ 1705680 w 1727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111821" h="21600">
                <a:moveTo>
                  <a:pt x="0" y="0"/>
                </a:moveTo>
                <a:lnTo>
                  <a:pt x="111821" y="0"/>
                </a:lnTo>
                <a:lnTo>
                  <a:pt x="111821" y="21600"/>
                </a:lnTo>
                <a:lnTo>
                  <a:pt x="0" y="21600"/>
                </a:lnTo>
                <a:close/>
              </a:path>
              <a:path fill="lightenLess" w="111821" h="21600">
                <a:moveTo>
                  <a:pt x="0" y="0"/>
                </a:moveTo>
                <a:lnTo>
                  <a:pt x="111821" y="0"/>
                </a:lnTo>
                <a:lnTo>
                  <a:pt x="110421" y="1400"/>
                </a:lnTo>
                <a:lnTo>
                  <a:pt x="1400" y="1400"/>
                </a:lnTo>
                <a:close/>
              </a:path>
              <a:path fill="darken" w="111821" h="21600">
                <a:moveTo>
                  <a:pt x="111821" y="0"/>
                </a:moveTo>
                <a:lnTo>
                  <a:pt x="111821" y="21600"/>
                </a:lnTo>
                <a:lnTo>
                  <a:pt x="110421" y="20200"/>
                </a:lnTo>
                <a:lnTo>
                  <a:pt x="110421" y="1400"/>
                </a:lnTo>
                <a:close/>
              </a:path>
              <a:path fill="darkenLess" w="111821" h="21600">
                <a:moveTo>
                  <a:pt x="111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421" y="20200"/>
                </a:lnTo>
                <a:close/>
              </a:path>
              <a:path fill="lighten" w="111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6 6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651640" y="6524640"/>
            <a:ext cx="1726920" cy="333360"/>
          </a:xfrm>
          <a:custGeom>
            <a:avLst/>
            <a:gdLst>
              <a:gd name="textAreaLeft" fmla="*/ 21600 w 1726920"/>
              <a:gd name="textAreaRight" fmla="*/ 1705320 w 17269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111798" h="21600">
                <a:moveTo>
                  <a:pt x="0" y="0"/>
                </a:moveTo>
                <a:lnTo>
                  <a:pt x="111798" y="0"/>
                </a:lnTo>
                <a:lnTo>
                  <a:pt x="111798" y="21600"/>
                </a:lnTo>
                <a:lnTo>
                  <a:pt x="0" y="21600"/>
                </a:lnTo>
                <a:close/>
              </a:path>
              <a:path fill="lightenLess" w="111798" h="21600">
                <a:moveTo>
                  <a:pt x="0" y="0"/>
                </a:moveTo>
                <a:lnTo>
                  <a:pt x="111798" y="0"/>
                </a:lnTo>
                <a:lnTo>
                  <a:pt x="110398" y="1400"/>
                </a:lnTo>
                <a:lnTo>
                  <a:pt x="1400" y="1400"/>
                </a:lnTo>
                <a:close/>
              </a:path>
              <a:path fill="darken" w="111798" h="21600">
                <a:moveTo>
                  <a:pt x="111798" y="0"/>
                </a:moveTo>
                <a:lnTo>
                  <a:pt x="111798" y="21600"/>
                </a:lnTo>
                <a:lnTo>
                  <a:pt x="110398" y="20200"/>
                </a:lnTo>
                <a:lnTo>
                  <a:pt x="110398" y="1400"/>
                </a:lnTo>
                <a:close/>
              </a:path>
              <a:path fill="darkenLess" w="111798" h="21600">
                <a:moveTo>
                  <a:pt x="1117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398" y="20200"/>
                </a:lnTo>
                <a:close/>
              </a:path>
              <a:path fill="lighten" w="1117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0 46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380360" y="6524640"/>
            <a:ext cx="1763640" cy="333360"/>
          </a:xfrm>
          <a:custGeom>
            <a:avLst/>
            <a:gdLst>
              <a:gd name="textAreaLeft" fmla="*/ 21600 w 1763640"/>
              <a:gd name="textAreaRight" fmla="*/ 1742040 w 1763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114175" h="21600">
                <a:moveTo>
                  <a:pt x="0" y="0"/>
                </a:moveTo>
                <a:lnTo>
                  <a:pt x="114175" y="0"/>
                </a:lnTo>
                <a:lnTo>
                  <a:pt x="114175" y="21600"/>
                </a:lnTo>
                <a:lnTo>
                  <a:pt x="0" y="21600"/>
                </a:lnTo>
                <a:close/>
              </a:path>
              <a:path fill="lightenLess" w="114175" h="21600">
                <a:moveTo>
                  <a:pt x="0" y="0"/>
                </a:moveTo>
                <a:lnTo>
                  <a:pt x="114175" y="0"/>
                </a:lnTo>
                <a:lnTo>
                  <a:pt x="112775" y="1400"/>
                </a:lnTo>
                <a:lnTo>
                  <a:pt x="1400" y="1400"/>
                </a:lnTo>
                <a:close/>
              </a:path>
              <a:path fill="darken" w="114175" h="21600">
                <a:moveTo>
                  <a:pt x="114175" y="0"/>
                </a:moveTo>
                <a:lnTo>
                  <a:pt x="114175" y="21600"/>
                </a:lnTo>
                <a:lnTo>
                  <a:pt x="112775" y="20200"/>
                </a:lnTo>
                <a:lnTo>
                  <a:pt x="112775" y="1400"/>
                </a:lnTo>
                <a:close/>
              </a:path>
              <a:path fill="darkenLess" w="114175" h="21600">
                <a:moveTo>
                  <a:pt x="114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775" y="20200"/>
                </a:lnTo>
                <a:close/>
              </a:path>
              <a:path fill="lighten" w="114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6 7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0" y="2852640"/>
            <a:ext cx="3924360" cy="936720"/>
          </a:xfrm>
          <a:custGeom>
            <a:avLst/>
            <a:gdLst>
              <a:gd name="textAreaLeft" fmla="*/ 60480 w 3924360"/>
              <a:gd name="textAreaRight" fmla="*/ 3863880 w 3924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90466" h="21600">
                <a:moveTo>
                  <a:pt x="0" y="0"/>
                </a:moveTo>
                <a:lnTo>
                  <a:pt x="90466" y="0"/>
                </a:lnTo>
                <a:lnTo>
                  <a:pt x="90466" y="21600"/>
                </a:lnTo>
                <a:lnTo>
                  <a:pt x="0" y="21600"/>
                </a:lnTo>
                <a:close/>
              </a:path>
              <a:path fill="lightenLess" w="90466" h="21600">
                <a:moveTo>
                  <a:pt x="0" y="0"/>
                </a:moveTo>
                <a:lnTo>
                  <a:pt x="90466" y="0"/>
                </a:lnTo>
                <a:lnTo>
                  <a:pt x="89066" y="1400"/>
                </a:lnTo>
                <a:lnTo>
                  <a:pt x="1400" y="1400"/>
                </a:lnTo>
                <a:close/>
              </a:path>
              <a:path fill="darken" w="90466" h="21600">
                <a:moveTo>
                  <a:pt x="90466" y="0"/>
                </a:moveTo>
                <a:lnTo>
                  <a:pt x="90466" y="21600"/>
                </a:lnTo>
                <a:lnTo>
                  <a:pt x="89066" y="20200"/>
                </a:lnTo>
                <a:lnTo>
                  <a:pt x="89066" y="1400"/>
                </a:lnTo>
                <a:close/>
              </a:path>
              <a:path fill="darkenLess" w="90466" h="21600">
                <a:moveTo>
                  <a:pt x="904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066" y="20200"/>
                </a:lnTo>
                <a:close/>
              </a:path>
              <a:path fill="lighten" w="904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П «Предоставление молодым семья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униципальной поддержки на приобрет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строительство) жилья на территори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ырянского района на 2016-2018 годы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924360" y="2852640"/>
            <a:ext cx="1727280" cy="936720"/>
          </a:xfrm>
          <a:custGeom>
            <a:avLst/>
            <a:gdLst>
              <a:gd name="textAreaLeft" fmla="*/ 60480 w 1727280"/>
              <a:gd name="textAreaRight" fmla="*/ 1666800 w 172728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9823" h="21600">
                <a:moveTo>
                  <a:pt x="0" y="0"/>
                </a:moveTo>
                <a:lnTo>
                  <a:pt x="39823" y="0"/>
                </a:lnTo>
                <a:lnTo>
                  <a:pt x="39823" y="21600"/>
                </a:lnTo>
                <a:lnTo>
                  <a:pt x="0" y="21600"/>
                </a:lnTo>
                <a:close/>
              </a:path>
              <a:path fill="lightenLess" w="39823" h="21600">
                <a:moveTo>
                  <a:pt x="0" y="0"/>
                </a:moveTo>
                <a:lnTo>
                  <a:pt x="39823" y="0"/>
                </a:lnTo>
                <a:lnTo>
                  <a:pt x="38423" y="1400"/>
                </a:lnTo>
                <a:lnTo>
                  <a:pt x="1400" y="1400"/>
                </a:lnTo>
                <a:close/>
              </a:path>
              <a:path fill="darken" w="39823" h="21600">
                <a:moveTo>
                  <a:pt x="39823" y="0"/>
                </a:moveTo>
                <a:lnTo>
                  <a:pt x="39823" y="21600"/>
                </a:lnTo>
                <a:lnTo>
                  <a:pt x="38423" y="20200"/>
                </a:lnTo>
                <a:lnTo>
                  <a:pt x="38423" y="1400"/>
                </a:lnTo>
                <a:close/>
              </a:path>
              <a:path fill="darkenLess" w="39823" h="21600">
                <a:moveTo>
                  <a:pt x="398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23" y="20200"/>
                </a:lnTo>
                <a:close/>
              </a:path>
              <a:path fill="lighten" w="398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6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651640" y="2852640"/>
            <a:ext cx="1726920" cy="936720"/>
          </a:xfrm>
          <a:custGeom>
            <a:avLst/>
            <a:gdLst>
              <a:gd name="textAreaLeft" fmla="*/ 60480 w 1726920"/>
              <a:gd name="textAreaRight" fmla="*/ 1666440 w 17269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9814" h="21600">
                <a:moveTo>
                  <a:pt x="0" y="0"/>
                </a:moveTo>
                <a:lnTo>
                  <a:pt x="39814" y="0"/>
                </a:lnTo>
                <a:lnTo>
                  <a:pt x="39814" y="21600"/>
                </a:lnTo>
                <a:lnTo>
                  <a:pt x="0" y="21600"/>
                </a:lnTo>
                <a:close/>
              </a:path>
              <a:path fill="lightenLess" w="39814" h="21600">
                <a:moveTo>
                  <a:pt x="0" y="0"/>
                </a:moveTo>
                <a:lnTo>
                  <a:pt x="39814" y="0"/>
                </a:lnTo>
                <a:lnTo>
                  <a:pt x="38414" y="1400"/>
                </a:lnTo>
                <a:lnTo>
                  <a:pt x="1400" y="1400"/>
                </a:lnTo>
                <a:close/>
              </a:path>
              <a:path fill="darken" w="39814" h="21600">
                <a:moveTo>
                  <a:pt x="39814" y="0"/>
                </a:moveTo>
                <a:lnTo>
                  <a:pt x="39814" y="21600"/>
                </a:lnTo>
                <a:lnTo>
                  <a:pt x="38414" y="20200"/>
                </a:lnTo>
                <a:lnTo>
                  <a:pt x="38414" y="1400"/>
                </a:lnTo>
                <a:close/>
              </a:path>
              <a:path fill="darkenLess" w="39814" h="21600">
                <a:moveTo>
                  <a:pt x="398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14" y="20200"/>
                </a:lnTo>
                <a:close/>
              </a:path>
              <a:path fill="lighten" w="398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6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380360" y="2852640"/>
            <a:ext cx="1763640" cy="936720"/>
          </a:xfrm>
          <a:custGeom>
            <a:avLst/>
            <a:gdLst>
              <a:gd name="textAreaLeft" fmla="*/ 60480 w 1763640"/>
              <a:gd name="textAreaRight" fmla="*/ 1703160 w 1763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40661" h="21600">
                <a:moveTo>
                  <a:pt x="0" y="0"/>
                </a:moveTo>
                <a:lnTo>
                  <a:pt x="40661" y="0"/>
                </a:lnTo>
                <a:lnTo>
                  <a:pt x="40661" y="21600"/>
                </a:lnTo>
                <a:lnTo>
                  <a:pt x="0" y="21600"/>
                </a:lnTo>
                <a:close/>
              </a:path>
              <a:path fill="lightenLess" w="40661" h="21600">
                <a:moveTo>
                  <a:pt x="0" y="0"/>
                </a:moveTo>
                <a:lnTo>
                  <a:pt x="40661" y="0"/>
                </a:lnTo>
                <a:lnTo>
                  <a:pt x="39261" y="1400"/>
                </a:lnTo>
                <a:lnTo>
                  <a:pt x="1400" y="1400"/>
                </a:lnTo>
                <a:close/>
              </a:path>
              <a:path fill="darken" w="40661" h="21600">
                <a:moveTo>
                  <a:pt x="40661" y="0"/>
                </a:moveTo>
                <a:lnTo>
                  <a:pt x="40661" y="21600"/>
                </a:lnTo>
                <a:lnTo>
                  <a:pt x="39261" y="20200"/>
                </a:lnTo>
                <a:lnTo>
                  <a:pt x="39261" y="1400"/>
                </a:lnTo>
                <a:close/>
              </a:path>
              <a:path fill="darkenLess" w="40661" h="21600">
                <a:moveTo>
                  <a:pt x="40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261" y="20200"/>
                </a:lnTo>
                <a:close/>
              </a:path>
              <a:path fill="lighten" w="40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6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3789360"/>
            <a:ext cx="3924360" cy="719280"/>
          </a:xfrm>
          <a:custGeom>
            <a:avLst/>
            <a:gdLst>
              <a:gd name="textAreaLeft" fmla="*/ 46440 w 3924360"/>
              <a:gd name="textAreaRight" fmla="*/ 3877920 w 39243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117801" h="21600">
                <a:moveTo>
                  <a:pt x="0" y="0"/>
                </a:moveTo>
                <a:lnTo>
                  <a:pt x="117801" y="0"/>
                </a:lnTo>
                <a:lnTo>
                  <a:pt x="117801" y="21600"/>
                </a:lnTo>
                <a:lnTo>
                  <a:pt x="0" y="21600"/>
                </a:lnTo>
                <a:close/>
              </a:path>
              <a:path fill="lightenLess" w="117801" h="21600">
                <a:moveTo>
                  <a:pt x="0" y="0"/>
                </a:moveTo>
                <a:lnTo>
                  <a:pt x="117801" y="0"/>
                </a:lnTo>
                <a:lnTo>
                  <a:pt x="116401" y="1400"/>
                </a:lnTo>
                <a:lnTo>
                  <a:pt x="1400" y="1400"/>
                </a:lnTo>
                <a:close/>
              </a:path>
              <a:path fill="darken" w="117801" h="21600">
                <a:moveTo>
                  <a:pt x="117801" y="0"/>
                </a:moveTo>
                <a:lnTo>
                  <a:pt x="117801" y="21600"/>
                </a:lnTo>
                <a:lnTo>
                  <a:pt x="116401" y="20200"/>
                </a:lnTo>
                <a:lnTo>
                  <a:pt x="116401" y="1400"/>
                </a:lnTo>
                <a:close/>
              </a:path>
              <a:path fill="darkenLess" w="117801" h="21600">
                <a:moveTo>
                  <a:pt x="1178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401" y="20200"/>
                </a:lnTo>
                <a:close/>
              </a:path>
              <a:path fill="lighten" w="1178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П «Обеспечение безопас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орожного движения на территори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ырянского района на 2014-2016 годы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0" y="4508640"/>
            <a:ext cx="3924360" cy="720720"/>
          </a:xfrm>
          <a:custGeom>
            <a:avLst/>
            <a:gdLst>
              <a:gd name="textAreaLeft" fmla="*/ 46440 w 3924360"/>
              <a:gd name="textAreaRight" fmla="*/ 3877920 w 3924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17565" h="21600">
                <a:moveTo>
                  <a:pt x="0" y="0"/>
                </a:moveTo>
                <a:lnTo>
                  <a:pt x="117565" y="0"/>
                </a:lnTo>
                <a:lnTo>
                  <a:pt x="117565" y="21600"/>
                </a:lnTo>
                <a:lnTo>
                  <a:pt x="0" y="21600"/>
                </a:lnTo>
                <a:close/>
              </a:path>
              <a:path fill="lightenLess" w="117565" h="21600">
                <a:moveTo>
                  <a:pt x="0" y="0"/>
                </a:moveTo>
                <a:lnTo>
                  <a:pt x="117565" y="0"/>
                </a:lnTo>
                <a:lnTo>
                  <a:pt x="116165" y="1400"/>
                </a:lnTo>
                <a:lnTo>
                  <a:pt x="1400" y="1400"/>
                </a:lnTo>
                <a:close/>
              </a:path>
              <a:path fill="darken" w="117565" h="21600">
                <a:moveTo>
                  <a:pt x="117565" y="0"/>
                </a:moveTo>
                <a:lnTo>
                  <a:pt x="117565" y="21600"/>
                </a:lnTo>
                <a:lnTo>
                  <a:pt x="116165" y="20200"/>
                </a:lnTo>
                <a:lnTo>
                  <a:pt x="116165" y="1400"/>
                </a:lnTo>
                <a:close/>
              </a:path>
              <a:path fill="darkenLess" w="117565" h="21600">
                <a:moveTo>
                  <a:pt x="117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165" y="20200"/>
                </a:lnTo>
                <a:close/>
              </a:path>
              <a:path fill="lighten" w="117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П «Развитие малого и средне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едпринимательства в Зырянском район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 период 2015-2018 годы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924360" y="3789360"/>
            <a:ext cx="1727280" cy="719280"/>
          </a:xfrm>
          <a:custGeom>
            <a:avLst/>
            <a:gdLst>
              <a:gd name="textAreaLeft" fmla="*/ 46440 w 1727280"/>
              <a:gd name="textAreaRight" fmla="*/ 1680840 w 1727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51855" h="21600">
                <a:moveTo>
                  <a:pt x="0" y="0"/>
                </a:moveTo>
                <a:lnTo>
                  <a:pt x="51855" y="0"/>
                </a:lnTo>
                <a:lnTo>
                  <a:pt x="51855" y="21600"/>
                </a:lnTo>
                <a:lnTo>
                  <a:pt x="0" y="21600"/>
                </a:lnTo>
                <a:close/>
              </a:path>
              <a:path fill="lightenLess" w="51855" h="21600">
                <a:moveTo>
                  <a:pt x="0" y="0"/>
                </a:moveTo>
                <a:lnTo>
                  <a:pt x="51855" y="0"/>
                </a:lnTo>
                <a:lnTo>
                  <a:pt x="50455" y="1400"/>
                </a:lnTo>
                <a:lnTo>
                  <a:pt x="1400" y="1400"/>
                </a:lnTo>
                <a:close/>
              </a:path>
              <a:path fill="darken" w="51855" h="21600">
                <a:moveTo>
                  <a:pt x="51855" y="0"/>
                </a:moveTo>
                <a:lnTo>
                  <a:pt x="51855" y="21600"/>
                </a:lnTo>
                <a:lnTo>
                  <a:pt x="50455" y="20200"/>
                </a:lnTo>
                <a:lnTo>
                  <a:pt x="50455" y="1400"/>
                </a:lnTo>
                <a:close/>
              </a:path>
              <a:path fill="darkenLess" w="51855" h="21600">
                <a:moveTo>
                  <a:pt x="51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55" y="20200"/>
                </a:lnTo>
                <a:close/>
              </a:path>
              <a:path fill="lighten" w="51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651640" y="3789360"/>
            <a:ext cx="1726920" cy="719280"/>
          </a:xfrm>
          <a:custGeom>
            <a:avLst/>
            <a:gdLst>
              <a:gd name="textAreaLeft" fmla="*/ 46440 w 1726920"/>
              <a:gd name="textAreaRight" fmla="*/ 1680480 w 1726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51844" h="21600">
                <a:moveTo>
                  <a:pt x="0" y="0"/>
                </a:moveTo>
                <a:lnTo>
                  <a:pt x="51844" y="0"/>
                </a:lnTo>
                <a:lnTo>
                  <a:pt x="51844" y="21600"/>
                </a:lnTo>
                <a:lnTo>
                  <a:pt x="0" y="21600"/>
                </a:lnTo>
                <a:close/>
              </a:path>
              <a:path fill="lightenLess" w="51844" h="21600">
                <a:moveTo>
                  <a:pt x="0" y="0"/>
                </a:moveTo>
                <a:lnTo>
                  <a:pt x="51844" y="0"/>
                </a:lnTo>
                <a:lnTo>
                  <a:pt x="50444" y="1400"/>
                </a:lnTo>
                <a:lnTo>
                  <a:pt x="1400" y="1400"/>
                </a:lnTo>
                <a:close/>
              </a:path>
              <a:path fill="darken" w="51844" h="21600">
                <a:moveTo>
                  <a:pt x="51844" y="0"/>
                </a:moveTo>
                <a:lnTo>
                  <a:pt x="51844" y="21600"/>
                </a:lnTo>
                <a:lnTo>
                  <a:pt x="50444" y="20200"/>
                </a:lnTo>
                <a:lnTo>
                  <a:pt x="50444" y="1400"/>
                </a:lnTo>
                <a:close/>
              </a:path>
              <a:path fill="darkenLess" w="51844" h="21600">
                <a:moveTo>
                  <a:pt x="51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44" y="20200"/>
                </a:lnTo>
                <a:close/>
              </a:path>
              <a:path fill="lighten" w="51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380360" y="3789360"/>
            <a:ext cx="1763640" cy="719280"/>
          </a:xfrm>
          <a:custGeom>
            <a:avLst/>
            <a:gdLst>
              <a:gd name="textAreaLeft" fmla="*/ 46440 w 1763640"/>
              <a:gd name="textAreaRight" fmla="*/ 1717200 w 1763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52946" h="21600">
                <a:moveTo>
                  <a:pt x="0" y="0"/>
                </a:moveTo>
                <a:lnTo>
                  <a:pt x="52946" y="0"/>
                </a:lnTo>
                <a:lnTo>
                  <a:pt x="52946" y="21600"/>
                </a:lnTo>
                <a:lnTo>
                  <a:pt x="0" y="21600"/>
                </a:lnTo>
                <a:close/>
              </a:path>
              <a:path fill="lightenLess" w="52946" h="21600">
                <a:moveTo>
                  <a:pt x="0" y="0"/>
                </a:moveTo>
                <a:lnTo>
                  <a:pt x="52946" y="0"/>
                </a:lnTo>
                <a:lnTo>
                  <a:pt x="51547" y="1400"/>
                </a:lnTo>
                <a:lnTo>
                  <a:pt x="1400" y="1400"/>
                </a:lnTo>
                <a:close/>
              </a:path>
              <a:path fill="darken" w="52946" h="21600">
                <a:moveTo>
                  <a:pt x="52946" y="0"/>
                </a:moveTo>
                <a:lnTo>
                  <a:pt x="52946" y="21600"/>
                </a:lnTo>
                <a:lnTo>
                  <a:pt x="51547" y="20200"/>
                </a:lnTo>
                <a:lnTo>
                  <a:pt x="51547" y="1400"/>
                </a:lnTo>
                <a:close/>
              </a:path>
              <a:path fill="darkenLess" w="52946" h="21600">
                <a:moveTo>
                  <a:pt x="52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547" y="20200"/>
                </a:lnTo>
                <a:close/>
              </a:path>
              <a:path fill="lighten" w="52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924360" y="4508640"/>
            <a:ext cx="1727280" cy="720720"/>
          </a:xfrm>
          <a:custGeom>
            <a:avLst/>
            <a:gdLst>
              <a:gd name="textAreaLeft" fmla="*/ 46440 w 1727280"/>
              <a:gd name="textAreaRight" fmla="*/ 1680840 w 1727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1752" h="21600">
                <a:moveTo>
                  <a:pt x="0" y="0"/>
                </a:moveTo>
                <a:lnTo>
                  <a:pt x="51752" y="0"/>
                </a:lnTo>
                <a:lnTo>
                  <a:pt x="51752" y="21600"/>
                </a:lnTo>
                <a:lnTo>
                  <a:pt x="0" y="21600"/>
                </a:lnTo>
                <a:close/>
              </a:path>
              <a:path fill="lightenLess" w="51752" h="21600">
                <a:moveTo>
                  <a:pt x="0" y="0"/>
                </a:moveTo>
                <a:lnTo>
                  <a:pt x="51752" y="0"/>
                </a:lnTo>
                <a:lnTo>
                  <a:pt x="50352" y="1400"/>
                </a:lnTo>
                <a:lnTo>
                  <a:pt x="1400" y="1400"/>
                </a:lnTo>
                <a:close/>
              </a:path>
              <a:path fill="darken" w="51752" h="21600">
                <a:moveTo>
                  <a:pt x="51752" y="0"/>
                </a:moveTo>
                <a:lnTo>
                  <a:pt x="51752" y="21600"/>
                </a:lnTo>
                <a:lnTo>
                  <a:pt x="50352" y="20200"/>
                </a:lnTo>
                <a:lnTo>
                  <a:pt x="50352" y="1400"/>
                </a:lnTo>
                <a:close/>
              </a:path>
              <a:path fill="darkenLess" w="51752" h="21600">
                <a:moveTo>
                  <a:pt x="51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52" y="20200"/>
                </a:lnTo>
                <a:close/>
              </a:path>
              <a:path fill="lighten" w="51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651640" y="4508640"/>
            <a:ext cx="1726920" cy="720720"/>
          </a:xfrm>
          <a:custGeom>
            <a:avLst/>
            <a:gdLst>
              <a:gd name="textAreaLeft" fmla="*/ 46440 w 1726920"/>
              <a:gd name="textAreaRight" fmla="*/ 1680480 w 1726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1741" h="21600">
                <a:moveTo>
                  <a:pt x="0" y="0"/>
                </a:moveTo>
                <a:lnTo>
                  <a:pt x="51741" y="0"/>
                </a:lnTo>
                <a:lnTo>
                  <a:pt x="51741" y="21600"/>
                </a:lnTo>
                <a:lnTo>
                  <a:pt x="0" y="21600"/>
                </a:lnTo>
                <a:close/>
              </a:path>
              <a:path fill="lightenLess" w="51741" h="21600">
                <a:moveTo>
                  <a:pt x="0" y="0"/>
                </a:moveTo>
                <a:lnTo>
                  <a:pt x="51741" y="0"/>
                </a:lnTo>
                <a:lnTo>
                  <a:pt x="50341" y="1400"/>
                </a:lnTo>
                <a:lnTo>
                  <a:pt x="1400" y="1400"/>
                </a:lnTo>
                <a:close/>
              </a:path>
              <a:path fill="darken" w="51741" h="21600">
                <a:moveTo>
                  <a:pt x="51741" y="0"/>
                </a:moveTo>
                <a:lnTo>
                  <a:pt x="51741" y="21600"/>
                </a:lnTo>
                <a:lnTo>
                  <a:pt x="50341" y="20200"/>
                </a:lnTo>
                <a:lnTo>
                  <a:pt x="50341" y="1400"/>
                </a:lnTo>
                <a:close/>
              </a:path>
              <a:path fill="darkenLess" w="51741" h="21600">
                <a:moveTo>
                  <a:pt x="51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41" y="20200"/>
                </a:lnTo>
                <a:close/>
              </a:path>
              <a:path fill="lighten" w="51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380360" y="4508640"/>
            <a:ext cx="1763640" cy="720720"/>
          </a:xfrm>
          <a:custGeom>
            <a:avLst/>
            <a:gdLst>
              <a:gd name="textAreaLeft" fmla="*/ 46440 w 1763640"/>
              <a:gd name="textAreaRight" fmla="*/ 1717200 w 17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2841" h="21600">
                <a:moveTo>
                  <a:pt x="0" y="0"/>
                </a:moveTo>
                <a:lnTo>
                  <a:pt x="52841" y="0"/>
                </a:lnTo>
                <a:lnTo>
                  <a:pt x="52841" y="21600"/>
                </a:lnTo>
                <a:lnTo>
                  <a:pt x="0" y="21600"/>
                </a:lnTo>
                <a:close/>
              </a:path>
              <a:path fill="lightenLess" w="52841" h="21600">
                <a:moveTo>
                  <a:pt x="0" y="0"/>
                </a:moveTo>
                <a:lnTo>
                  <a:pt x="52841" y="0"/>
                </a:lnTo>
                <a:lnTo>
                  <a:pt x="51441" y="1400"/>
                </a:lnTo>
                <a:lnTo>
                  <a:pt x="1400" y="1400"/>
                </a:lnTo>
                <a:close/>
              </a:path>
              <a:path fill="darken" w="52841" h="21600">
                <a:moveTo>
                  <a:pt x="52841" y="0"/>
                </a:moveTo>
                <a:lnTo>
                  <a:pt x="52841" y="21600"/>
                </a:lnTo>
                <a:lnTo>
                  <a:pt x="51441" y="20200"/>
                </a:lnTo>
                <a:lnTo>
                  <a:pt x="51441" y="1400"/>
                </a:lnTo>
                <a:close/>
              </a:path>
              <a:path fill="darkenLess" w="52841" h="21600">
                <a:moveTo>
                  <a:pt x="528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441" y="20200"/>
                </a:lnTo>
                <a:close/>
              </a:path>
              <a:path fill="lighten" w="528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0" y="5229360"/>
            <a:ext cx="3924360" cy="936360"/>
          </a:xfrm>
          <a:custGeom>
            <a:avLst/>
            <a:gdLst>
              <a:gd name="textAreaLeft" fmla="*/ 60480 w 3924360"/>
              <a:gd name="textAreaRight" fmla="*/ 3863880 w 392436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90501" h="21600">
                <a:moveTo>
                  <a:pt x="0" y="0"/>
                </a:moveTo>
                <a:lnTo>
                  <a:pt x="90501" y="0"/>
                </a:lnTo>
                <a:lnTo>
                  <a:pt x="90501" y="21600"/>
                </a:lnTo>
                <a:lnTo>
                  <a:pt x="0" y="21600"/>
                </a:lnTo>
                <a:close/>
              </a:path>
              <a:path fill="lightenLess" w="90501" h="21600">
                <a:moveTo>
                  <a:pt x="0" y="0"/>
                </a:moveTo>
                <a:lnTo>
                  <a:pt x="90501" y="0"/>
                </a:lnTo>
                <a:lnTo>
                  <a:pt x="89101" y="1400"/>
                </a:lnTo>
                <a:lnTo>
                  <a:pt x="1400" y="1400"/>
                </a:lnTo>
                <a:close/>
              </a:path>
              <a:path fill="darken" w="90501" h="21600">
                <a:moveTo>
                  <a:pt x="90501" y="0"/>
                </a:moveTo>
                <a:lnTo>
                  <a:pt x="90501" y="21600"/>
                </a:lnTo>
                <a:lnTo>
                  <a:pt x="89101" y="20200"/>
                </a:lnTo>
                <a:lnTo>
                  <a:pt x="89101" y="1400"/>
                </a:lnTo>
                <a:close/>
              </a:path>
              <a:path fill="darkenLess" w="90501" h="21600">
                <a:moveTo>
                  <a:pt x="90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101" y="20200"/>
                </a:lnTo>
                <a:close/>
              </a:path>
              <a:path fill="lighten" w="90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П «Устойчивое развитие муниципальн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бразования «Зырянский район» Томск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бласти на 2014-2017 годы и на период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о 2020 год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0" y="6165720"/>
            <a:ext cx="3924360" cy="358920"/>
          </a:xfrm>
          <a:custGeom>
            <a:avLst/>
            <a:gdLst>
              <a:gd name="textAreaLeft" fmla="*/ 23040 w 3924360"/>
              <a:gd name="textAreaRight" fmla="*/ 3901320 w 3924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35955" h="21600">
                <a:moveTo>
                  <a:pt x="0" y="0"/>
                </a:moveTo>
                <a:lnTo>
                  <a:pt x="235955" y="0"/>
                </a:lnTo>
                <a:lnTo>
                  <a:pt x="235955" y="21600"/>
                </a:lnTo>
                <a:lnTo>
                  <a:pt x="0" y="21600"/>
                </a:lnTo>
                <a:close/>
              </a:path>
              <a:path fill="lightenLess" w="235955" h="21600">
                <a:moveTo>
                  <a:pt x="0" y="0"/>
                </a:moveTo>
                <a:lnTo>
                  <a:pt x="235955" y="0"/>
                </a:lnTo>
                <a:lnTo>
                  <a:pt x="234555" y="1400"/>
                </a:lnTo>
                <a:lnTo>
                  <a:pt x="1400" y="1400"/>
                </a:lnTo>
                <a:close/>
              </a:path>
              <a:path fill="darken" w="235955" h="21600">
                <a:moveTo>
                  <a:pt x="235955" y="0"/>
                </a:moveTo>
                <a:lnTo>
                  <a:pt x="235955" y="21600"/>
                </a:lnTo>
                <a:lnTo>
                  <a:pt x="234555" y="20200"/>
                </a:lnTo>
                <a:lnTo>
                  <a:pt x="234555" y="1400"/>
                </a:lnTo>
                <a:close/>
              </a:path>
              <a:path fill="darkenLess" w="235955" h="21600">
                <a:moveTo>
                  <a:pt x="2359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555" y="20200"/>
                </a:lnTo>
                <a:close/>
              </a:path>
              <a:path fill="lighten" w="2359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Итог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924360" y="6165720"/>
            <a:ext cx="1727280" cy="358920"/>
          </a:xfrm>
          <a:custGeom>
            <a:avLst/>
            <a:gdLst>
              <a:gd name="textAreaLeft" fmla="*/ 23040 w 1727280"/>
              <a:gd name="textAreaRight" fmla="*/ 1704240 w 1727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03866" h="21600">
                <a:moveTo>
                  <a:pt x="0" y="0"/>
                </a:moveTo>
                <a:lnTo>
                  <a:pt x="103866" y="0"/>
                </a:lnTo>
                <a:lnTo>
                  <a:pt x="103866" y="21600"/>
                </a:lnTo>
                <a:lnTo>
                  <a:pt x="0" y="21600"/>
                </a:lnTo>
                <a:close/>
              </a:path>
              <a:path fill="lightenLess" w="103866" h="21600">
                <a:moveTo>
                  <a:pt x="0" y="0"/>
                </a:moveTo>
                <a:lnTo>
                  <a:pt x="103866" y="0"/>
                </a:lnTo>
                <a:lnTo>
                  <a:pt x="102466" y="1400"/>
                </a:lnTo>
                <a:lnTo>
                  <a:pt x="1400" y="1400"/>
                </a:lnTo>
                <a:close/>
              </a:path>
              <a:path fill="darken" w="103866" h="21600">
                <a:moveTo>
                  <a:pt x="103866" y="0"/>
                </a:moveTo>
                <a:lnTo>
                  <a:pt x="103866" y="21600"/>
                </a:lnTo>
                <a:lnTo>
                  <a:pt x="102466" y="20200"/>
                </a:lnTo>
                <a:lnTo>
                  <a:pt x="102466" y="1400"/>
                </a:lnTo>
                <a:close/>
              </a:path>
              <a:path fill="darkenLess" w="103866" h="21600">
                <a:moveTo>
                  <a:pt x="103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466" y="20200"/>
                </a:lnTo>
                <a:close/>
              </a:path>
              <a:path fill="lighten" w="103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 56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651640" y="6165720"/>
            <a:ext cx="1726920" cy="358920"/>
          </a:xfrm>
          <a:custGeom>
            <a:avLst/>
            <a:gdLst>
              <a:gd name="textAreaLeft" fmla="*/ 23040 w 1726920"/>
              <a:gd name="textAreaRight" fmla="*/ 1703880 w 17269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03844" h="21600">
                <a:moveTo>
                  <a:pt x="0" y="0"/>
                </a:moveTo>
                <a:lnTo>
                  <a:pt x="103844" y="0"/>
                </a:lnTo>
                <a:lnTo>
                  <a:pt x="103844" y="21600"/>
                </a:lnTo>
                <a:lnTo>
                  <a:pt x="0" y="21600"/>
                </a:lnTo>
                <a:close/>
              </a:path>
              <a:path fill="lightenLess" w="103844" h="21600">
                <a:moveTo>
                  <a:pt x="0" y="0"/>
                </a:moveTo>
                <a:lnTo>
                  <a:pt x="103844" y="0"/>
                </a:lnTo>
                <a:lnTo>
                  <a:pt x="102445" y="1400"/>
                </a:lnTo>
                <a:lnTo>
                  <a:pt x="1400" y="1400"/>
                </a:lnTo>
                <a:close/>
              </a:path>
              <a:path fill="darken" w="103844" h="21600">
                <a:moveTo>
                  <a:pt x="103844" y="0"/>
                </a:moveTo>
                <a:lnTo>
                  <a:pt x="103844" y="21600"/>
                </a:lnTo>
                <a:lnTo>
                  <a:pt x="102445" y="20200"/>
                </a:lnTo>
                <a:lnTo>
                  <a:pt x="102445" y="1400"/>
                </a:lnTo>
                <a:close/>
              </a:path>
              <a:path fill="darkenLess" w="103844" h="21600">
                <a:moveTo>
                  <a:pt x="103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445" y="20200"/>
                </a:lnTo>
                <a:close/>
              </a:path>
              <a:path fill="lighten" w="103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94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380360" y="6165720"/>
            <a:ext cx="1763640" cy="358920"/>
          </a:xfrm>
          <a:custGeom>
            <a:avLst/>
            <a:gdLst>
              <a:gd name="textAreaLeft" fmla="*/ 23040 w 1763640"/>
              <a:gd name="textAreaRight" fmla="*/ 1740600 w 1763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106052" h="21600">
                <a:moveTo>
                  <a:pt x="0" y="0"/>
                </a:moveTo>
                <a:lnTo>
                  <a:pt x="106052" y="0"/>
                </a:lnTo>
                <a:lnTo>
                  <a:pt x="106052" y="21600"/>
                </a:lnTo>
                <a:lnTo>
                  <a:pt x="0" y="21600"/>
                </a:lnTo>
                <a:close/>
              </a:path>
              <a:path fill="lightenLess" w="106052" h="21600">
                <a:moveTo>
                  <a:pt x="0" y="0"/>
                </a:moveTo>
                <a:lnTo>
                  <a:pt x="106052" y="0"/>
                </a:lnTo>
                <a:lnTo>
                  <a:pt x="104652" y="1400"/>
                </a:lnTo>
                <a:lnTo>
                  <a:pt x="1400" y="1400"/>
                </a:lnTo>
                <a:close/>
              </a:path>
              <a:path fill="darken" w="106052" h="21600">
                <a:moveTo>
                  <a:pt x="106052" y="0"/>
                </a:moveTo>
                <a:lnTo>
                  <a:pt x="106052" y="21600"/>
                </a:lnTo>
                <a:lnTo>
                  <a:pt x="104652" y="20200"/>
                </a:lnTo>
                <a:lnTo>
                  <a:pt x="104652" y="1400"/>
                </a:lnTo>
                <a:close/>
              </a:path>
              <a:path fill="darkenLess" w="106052" h="21600">
                <a:moveTo>
                  <a:pt x="1060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652" y="20200"/>
                </a:lnTo>
                <a:close/>
              </a:path>
              <a:path fill="lighten" w="1060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94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924360" y="5229360"/>
            <a:ext cx="1727280" cy="936360"/>
          </a:xfrm>
          <a:custGeom>
            <a:avLst/>
            <a:gdLst>
              <a:gd name="textAreaLeft" fmla="*/ 60480 w 1727280"/>
              <a:gd name="textAreaRight" fmla="*/ 1666800 w 172728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39838" h="21600">
                <a:moveTo>
                  <a:pt x="0" y="0"/>
                </a:moveTo>
                <a:lnTo>
                  <a:pt x="39838" y="0"/>
                </a:lnTo>
                <a:lnTo>
                  <a:pt x="39838" y="21600"/>
                </a:lnTo>
                <a:lnTo>
                  <a:pt x="0" y="21600"/>
                </a:lnTo>
                <a:close/>
              </a:path>
              <a:path fill="lightenLess" w="39838" h="21600">
                <a:moveTo>
                  <a:pt x="0" y="0"/>
                </a:moveTo>
                <a:lnTo>
                  <a:pt x="39838" y="0"/>
                </a:lnTo>
                <a:lnTo>
                  <a:pt x="38438" y="1400"/>
                </a:lnTo>
                <a:lnTo>
                  <a:pt x="1400" y="1400"/>
                </a:lnTo>
                <a:close/>
              </a:path>
              <a:path fill="darken" w="39838" h="21600">
                <a:moveTo>
                  <a:pt x="39838" y="0"/>
                </a:moveTo>
                <a:lnTo>
                  <a:pt x="39838" y="21600"/>
                </a:lnTo>
                <a:lnTo>
                  <a:pt x="38438" y="20200"/>
                </a:lnTo>
                <a:lnTo>
                  <a:pt x="38438" y="1400"/>
                </a:lnTo>
                <a:close/>
              </a:path>
              <a:path fill="darkenLess" w="39838" h="21600">
                <a:moveTo>
                  <a:pt x="39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38" y="20200"/>
                </a:lnTo>
                <a:close/>
              </a:path>
              <a:path fill="lighten" w="39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5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651640" y="5229360"/>
            <a:ext cx="1726920" cy="936360"/>
          </a:xfrm>
          <a:custGeom>
            <a:avLst/>
            <a:gdLst>
              <a:gd name="textAreaLeft" fmla="*/ 60480 w 1726920"/>
              <a:gd name="textAreaRight" fmla="*/ 1666440 w 172692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39830" h="21600">
                <a:moveTo>
                  <a:pt x="0" y="0"/>
                </a:moveTo>
                <a:lnTo>
                  <a:pt x="39830" y="0"/>
                </a:lnTo>
                <a:lnTo>
                  <a:pt x="39830" y="21600"/>
                </a:lnTo>
                <a:lnTo>
                  <a:pt x="0" y="21600"/>
                </a:lnTo>
                <a:close/>
              </a:path>
              <a:path fill="lightenLess" w="39830" h="21600">
                <a:moveTo>
                  <a:pt x="0" y="0"/>
                </a:moveTo>
                <a:lnTo>
                  <a:pt x="39830" y="0"/>
                </a:lnTo>
                <a:lnTo>
                  <a:pt x="38430" y="1400"/>
                </a:lnTo>
                <a:lnTo>
                  <a:pt x="1400" y="1400"/>
                </a:lnTo>
                <a:close/>
              </a:path>
              <a:path fill="darken" w="39830" h="21600">
                <a:moveTo>
                  <a:pt x="39830" y="0"/>
                </a:moveTo>
                <a:lnTo>
                  <a:pt x="39830" y="21600"/>
                </a:lnTo>
                <a:lnTo>
                  <a:pt x="38430" y="20200"/>
                </a:lnTo>
                <a:lnTo>
                  <a:pt x="38430" y="1400"/>
                </a:lnTo>
                <a:close/>
              </a:path>
              <a:path fill="darkenLess" w="39830" h="21600">
                <a:moveTo>
                  <a:pt x="39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30" y="20200"/>
                </a:lnTo>
                <a:close/>
              </a:path>
              <a:path fill="lighten" w="39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5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380360" y="5229360"/>
            <a:ext cx="1763640" cy="936360"/>
          </a:xfrm>
          <a:custGeom>
            <a:avLst/>
            <a:gdLst>
              <a:gd name="textAreaLeft" fmla="*/ 60480 w 1763640"/>
              <a:gd name="textAreaRight" fmla="*/ 1703160 w 1763640"/>
              <a:gd name="textAreaTop" fmla="*/ 60480 h 936360"/>
              <a:gd name="textAreaBottom" fmla="*/ 875880 h 936360"/>
            </a:gdLst>
            <a:ahLst/>
            <a:rect l="textAreaLeft" t="textAreaTop" r="textAreaRight" b="textAreaBottom"/>
            <a:pathLst>
              <a:path w="40676" h="21600">
                <a:moveTo>
                  <a:pt x="0" y="0"/>
                </a:moveTo>
                <a:lnTo>
                  <a:pt x="40676" y="0"/>
                </a:lnTo>
                <a:lnTo>
                  <a:pt x="40676" y="21600"/>
                </a:lnTo>
                <a:lnTo>
                  <a:pt x="0" y="21600"/>
                </a:lnTo>
                <a:close/>
              </a:path>
              <a:path fill="lightenLess" w="40676" h="21600">
                <a:moveTo>
                  <a:pt x="0" y="0"/>
                </a:moveTo>
                <a:lnTo>
                  <a:pt x="40676" y="0"/>
                </a:lnTo>
                <a:lnTo>
                  <a:pt x="39276" y="1400"/>
                </a:lnTo>
                <a:lnTo>
                  <a:pt x="1400" y="1400"/>
                </a:lnTo>
                <a:close/>
              </a:path>
              <a:path fill="darken" w="40676" h="21600">
                <a:moveTo>
                  <a:pt x="40676" y="0"/>
                </a:moveTo>
                <a:lnTo>
                  <a:pt x="40676" y="21600"/>
                </a:lnTo>
                <a:lnTo>
                  <a:pt x="39276" y="20200"/>
                </a:lnTo>
                <a:lnTo>
                  <a:pt x="39276" y="1400"/>
                </a:lnTo>
                <a:close/>
              </a:path>
              <a:path fill="darkenLess" w="40676" h="21600">
                <a:moveTo>
                  <a:pt x="40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276" y="20200"/>
                </a:lnTo>
                <a:close/>
              </a:path>
              <a:path fill="lighten" w="40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5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0" y="0"/>
            <a:ext cx="9144000" cy="836640"/>
          </a:xfrm>
          <a:custGeom>
            <a:avLst/>
            <a:gdLst>
              <a:gd name="textAreaLeft" fmla="*/ 54000 w 9144000"/>
              <a:gd name="textAreaRight" fmla="*/ 9090000 w 9144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5983" h="21600">
                <a:moveTo>
                  <a:pt x="0" y="0"/>
                </a:moveTo>
                <a:lnTo>
                  <a:pt x="235983" y="0"/>
                </a:lnTo>
                <a:lnTo>
                  <a:pt x="235983" y="21600"/>
                </a:lnTo>
                <a:lnTo>
                  <a:pt x="0" y="21600"/>
                </a:lnTo>
                <a:close/>
              </a:path>
              <a:path fill="lightenLess" w="235983" h="21600">
                <a:moveTo>
                  <a:pt x="0" y="0"/>
                </a:moveTo>
                <a:lnTo>
                  <a:pt x="235983" y="0"/>
                </a:lnTo>
                <a:lnTo>
                  <a:pt x="234584" y="1400"/>
                </a:lnTo>
                <a:lnTo>
                  <a:pt x="1400" y="1400"/>
                </a:lnTo>
                <a:close/>
              </a:path>
              <a:path fill="darken" w="235983" h="21600">
                <a:moveTo>
                  <a:pt x="235983" y="0"/>
                </a:moveTo>
                <a:lnTo>
                  <a:pt x="235983" y="21600"/>
                </a:lnTo>
                <a:lnTo>
                  <a:pt x="234584" y="20200"/>
                </a:lnTo>
                <a:lnTo>
                  <a:pt x="234584" y="1400"/>
                </a:lnTo>
                <a:close/>
              </a:path>
              <a:path fill="darkenLess" w="235983" h="21600">
                <a:moveTo>
                  <a:pt x="235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584" y="20200"/>
                </a:lnTo>
                <a:close/>
              </a:path>
              <a:path fill="lighten" w="235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асходы на реализацию ведомственных и муниципаль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ограмм муниципального образования на 2016 - 2018 г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836640"/>
            <a:ext cx="3924360" cy="576360"/>
          </a:xfrm>
          <a:custGeom>
            <a:avLst/>
            <a:gdLst>
              <a:gd name="textAreaLeft" fmla="*/ 37080 w 3924360"/>
              <a:gd name="textAreaRight" fmla="*/ 3887280 w 3924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46993" h="21600">
                <a:moveTo>
                  <a:pt x="0" y="0"/>
                </a:moveTo>
                <a:lnTo>
                  <a:pt x="146993" y="0"/>
                </a:lnTo>
                <a:lnTo>
                  <a:pt x="146993" y="21600"/>
                </a:lnTo>
                <a:lnTo>
                  <a:pt x="0" y="21600"/>
                </a:lnTo>
                <a:close/>
              </a:path>
              <a:path fill="lightenLess" w="146993" h="21600">
                <a:moveTo>
                  <a:pt x="0" y="0"/>
                </a:moveTo>
                <a:lnTo>
                  <a:pt x="146993" y="0"/>
                </a:lnTo>
                <a:lnTo>
                  <a:pt x="145593" y="1400"/>
                </a:lnTo>
                <a:lnTo>
                  <a:pt x="1400" y="1400"/>
                </a:lnTo>
                <a:close/>
              </a:path>
              <a:path fill="darken" w="146993" h="21600">
                <a:moveTo>
                  <a:pt x="146993" y="0"/>
                </a:moveTo>
                <a:lnTo>
                  <a:pt x="146993" y="21600"/>
                </a:lnTo>
                <a:lnTo>
                  <a:pt x="145593" y="20200"/>
                </a:lnTo>
                <a:lnTo>
                  <a:pt x="145593" y="1400"/>
                </a:lnTo>
                <a:close/>
              </a:path>
              <a:path fill="darkenLess" w="146993" h="21600">
                <a:moveTo>
                  <a:pt x="146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5593" y="20200"/>
                </a:lnTo>
                <a:close/>
              </a:path>
              <a:path fill="lighten" w="146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Муниципальные программ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924360" y="83664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лан 2016 год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651640" y="836640"/>
            <a:ext cx="1728720" cy="576360"/>
          </a:xfrm>
          <a:custGeom>
            <a:avLst/>
            <a:gdLst>
              <a:gd name="textAreaLeft" fmla="*/ 37080 w 1728720"/>
              <a:gd name="textAreaRight" fmla="*/ 1691640 w 1728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60" h="21600">
                <a:moveTo>
                  <a:pt x="0" y="0"/>
                </a:moveTo>
                <a:lnTo>
                  <a:pt x="64760" y="0"/>
                </a:lnTo>
                <a:lnTo>
                  <a:pt x="64760" y="21600"/>
                </a:lnTo>
                <a:lnTo>
                  <a:pt x="0" y="21600"/>
                </a:lnTo>
                <a:close/>
              </a:path>
              <a:path fill="lightenLess" w="64760" h="21600">
                <a:moveTo>
                  <a:pt x="0" y="0"/>
                </a:moveTo>
                <a:lnTo>
                  <a:pt x="64760" y="0"/>
                </a:lnTo>
                <a:lnTo>
                  <a:pt x="63360" y="1400"/>
                </a:lnTo>
                <a:lnTo>
                  <a:pt x="1400" y="1400"/>
                </a:lnTo>
                <a:close/>
              </a:path>
              <a:path fill="darken" w="64760" h="21600">
                <a:moveTo>
                  <a:pt x="64760" y="0"/>
                </a:moveTo>
                <a:lnTo>
                  <a:pt x="64760" y="21600"/>
                </a:lnTo>
                <a:lnTo>
                  <a:pt x="63360" y="20200"/>
                </a:lnTo>
                <a:lnTo>
                  <a:pt x="63360" y="1400"/>
                </a:lnTo>
                <a:close/>
              </a:path>
              <a:path fill="darkenLess" w="64760" h="21600">
                <a:moveTo>
                  <a:pt x="64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60" y="20200"/>
                </a:lnTo>
                <a:close/>
              </a:path>
              <a:path fill="lighten" w="64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лан 2017 год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380360" y="836640"/>
            <a:ext cx="1763640" cy="576360"/>
          </a:xfrm>
          <a:custGeom>
            <a:avLst/>
            <a:gdLst>
              <a:gd name="textAreaLeft" fmla="*/ 37080 w 1763640"/>
              <a:gd name="textAreaRight" fmla="*/ 1726560 w 1763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6067" h="21600">
                <a:moveTo>
                  <a:pt x="0" y="0"/>
                </a:moveTo>
                <a:lnTo>
                  <a:pt x="66067" y="0"/>
                </a:lnTo>
                <a:lnTo>
                  <a:pt x="66067" y="21600"/>
                </a:lnTo>
                <a:lnTo>
                  <a:pt x="0" y="21600"/>
                </a:lnTo>
                <a:close/>
              </a:path>
              <a:path fill="lightenLess" w="66067" h="21600">
                <a:moveTo>
                  <a:pt x="0" y="0"/>
                </a:moveTo>
                <a:lnTo>
                  <a:pt x="66067" y="0"/>
                </a:lnTo>
                <a:lnTo>
                  <a:pt x="64667" y="1400"/>
                </a:lnTo>
                <a:lnTo>
                  <a:pt x="1400" y="1400"/>
                </a:lnTo>
                <a:close/>
              </a:path>
              <a:path fill="darken" w="66067" h="21600">
                <a:moveTo>
                  <a:pt x="66067" y="0"/>
                </a:moveTo>
                <a:lnTo>
                  <a:pt x="66067" y="21600"/>
                </a:lnTo>
                <a:lnTo>
                  <a:pt x="64667" y="20200"/>
                </a:lnTo>
                <a:lnTo>
                  <a:pt x="64667" y="1400"/>
                </a:lnTo>
                <a:close/>
              </a:path>
              <a:path fill="darkenLess" w="66067" h="21600">
                <a:moveTo>
                  <a:pt x="660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667" y="20200"/>
                </a:lnTo>
                <a:close/>
              </a:path>
              <a:path fill="lighten" w="660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План 2018 год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тыс.рубл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0" y="2133720"/>
            <a:ext cx="3924360" cy="718920"/>
          </a:xfrm>
          <a:custGeom>
            <a:avLst/>
            <a:gdLst>
              <a:gd name="textAreaLeft" fmla="*/ 46440 w 3924360"/>
              <a:gd name="textAreaRight" fmla="*/ 3877920 w 392436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17859" h="21600">
                <a:moveTo>
                  <a:pt x="0" y="0"/>
                </a:moveTo>
                <a:lnTo>
                  <a:pt x="117859" y="0"/>
                </a:lnTo>
                <a:lnTo>
                  <a:pt x="117859" y="21600"/>
                </a:lnTo>
                <a:lnTo>
                  <a:pt x="0" y="21600"/>
                </a:lnTo>
                <a:close/>
              </a:path>
              <a:path fill="lightenLess" w="117859" h="21600">
                <a:moveTo>
                  <a:pt x="0" y="0"/>
                </a:moveTo>
                <a:lnTo>
                  <a:pt x="117859" y="0"/>
                </a:lnTo>
                <a:lnTo>
                  <a:pt x="116460" y="1400"/>
                </a:lnTo>
                <a:lnTo>
                  <a:pt x="1400" y="1400"/>
                </a:lnTo>
                <a:close/>
              </a:path>
              <a:path fill="darken" w="117859" h="21600">
                <a:moveTo>
                  <a:pt x="117859" y="0"/>
                </a:moveTo>
                <a:lnTo>
                  <a:pt x="117859" y="21600"/>
                </a:lnTo>
                <a:lnTo>
                  <a:pt x="116460" y="20200"/>
                </a:lnTo>
                <a:lnTo>
                  <a:pt x="116460" y="1400"/>
                </a:lnTo>
                <a:close/>
              </a:path>
              <a:path fill="darkenLess" w="117859" h="21600">
                <a:moveTo>
                  <a:pt x="1178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460" y="20200"/>
                </a:lnTo>
                <a:close/>
              </a:path>
              <a:path fill="lighten" w="1178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П "Обеспечение антитеррористическ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щищенности образовательных организаци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ырянского района" на 2016-2020 годы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0" y="1413000"/>
            <a:ext cx="3924360" cy="718920"/>
          </a:xfrm>
          <a:custGeom>
            <a:avLst/>
            <a:gdLst>
              <a:gd name="textAreaLeft" fmla="*/ 46440 w 3924360"/>
              <a:gd name="textAreaRight" fmla="*/ 3877920 w 392436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117859" h="21600">
                <a:moveTo>
                  <a:pt x="0" y="0"/>
                </a:moveTo>
                <a:lnTo>
                  <a:pt x="117859" y="0"/>
                </a:lnTo>
                <a:lnTo>
                  <a:pt x="117859" y="21600"/>
                </a:lnTo>
                <a:lnTo>
                  <a:pt x="0" y="21600"/>
                </a:lnTo>
                <a:close/>
              </a:path>
              <a:path fill="lightenLess" w="117859" h="21600">
                <a:moveTo>
                  <a:pt x="0" y="0"/>
                </a:moveTo>
                <a:lnTo>
                  <a:pt x="117859" y="0"/>
                </a:lnTo>
                <a:lnTo>
                  <a:pt x="116460" y="1400"/>
                </a:lnTo>
                <a:lnTo>
                  <a:pt x="1400" y="1400"/>
                </a:lnTo>
                <a:close/>
              </a:path>
              <a:path fill="darken" w="117859" h="21600">
                <a:moveTo>
                  <a:pt x="117859" y="0"/>
                </a:moveTo>
                <a:lnTo>
                  <a:pt x="117859" y="21600"/>
                </a:lnTo>
                <a:lnTo>
                  <a:pt x="116460" y="20200"/>
                </a:lnTo>
                <a:lnTo>
                  <a:pt x="116460" y="1400"/>
                </a:lnTo>
                <a:close/>
              </a:path>
              <a:path fill="darkenLess" w="117859" h="21600">
                <a:moveTo>
                  <a:pt x="1178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6460" y="20200"/>
                </a:lnTo>
                <a:close/>
              </a:path>
              <a:path fill="lighten" w="1178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П «Сохранение и развитие культур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ырянского района на 2014-2016 годы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924360" y="2133720"/>
            <a:ext cx="1727280" cy="718920"/>
          </a:xfrm>
          <a:custGeom>
            <a:avLst/>
            <a:gdLst>
              <a:gd name="textAreaLeft" fmla="*/ 46440 w 1727280"/>
              <a:gd name="textAreaRight" fmla="*/ 1680840 w 1727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51881" h="21600">
                <a:moveTo>
                  <a:pt x="0" y="0"/>
                </a:moveTo>
                <a:lnTo>
                  <a:pt x="51881" y="0"/>
                </a:lnTo>
                <a:lnTo>
                  <a:pt x="51881" y="21600"/>
                </a:lnTo>
                <a:lnTo>
                  <a:pt x="0" y="21600"/>
                </a:lnTo>
                <a:close/>
              </a:path>
              <a:path fill="lightenLess" w="51881" h="21600">
                <a:moveTo>
                  <a:pt x="0" y="0"/>
                </a:moveTo>
                <a:lnTo>
                  <a:pt x="51881" y="0"/>
                </a:lnTo>
                <a:lnTo>
                  <a:pt x="50481" y="1400"/>
                </a:lnTo>
                <a:lnTo>
                  <a:pt x="1400" y="1400"/>
                </a:lnTo>
                <a:close/>
              </a:path>
              <a:path fill="darken" w="51881" h="21600">
                <a:moveTo>
                  <a:pt x="51881" y="0"/>
                </a:moveTo>
                <a:lnTo>
                  <a:pt x="51881" y="21600"/>
                </a:lnTo>
                <a:lnTo>
                  <a:pt x="50481" y="20200"/>
                </a:lnTo>
                <a:lnTo>
                  <a:pt x="50481" y="1400"/>
                </a:lnTo>
                <a:close/>
              </a:path>
              <a:path fill="darkenLess" w="51881" h="21600">
                <a:moveTo>
                  <a:pt x="51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81" y="20200"/>
                </a:lnTo>
                <a:close/>
              </a:path>
              <a:path fill="lighten" w="51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924360" y="1413000"/>
            <a:ext cx="1727280" cy="720720"/>
          </a:xfrm>
          <a:custGeom>
            <a:avLst/>
            <a:gdLst>
              <a:gd name="textAreaLeft" fmla="*/ 46440 w 1727280"/>
              <a:gd name="textAreaRight" fmla="*/ 1680840 w 1727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1752" h="21600">
                <a:moveTo>
                  <a:pt x="0" y="0"/>
                </a:moveTo>
                <a:lnTo>
                  <a:pt x="51752" y="0"/>
                </a:lnTo>
                <a:lnTo>
                  <a:pt x="51752" y="21600"/>
                </a:lnTo>
                <a:lnTo>
                  <a:pt x="0" y="21600"/>
                </a:lnTo>
                <a:close/>
              </a:path>
              <a:path fill="lightenLess" w="51752" h="21600">
                <a:moveTo>
                  <a:pt x="0" y="0"/>
                </a:moveTo>
                <a:lnTo>
                  <a:pt x="51752" y="0"/>
                </a:lnTo>
                <a:lnTo>
                  <a:pt x="50352" y="1400"/>
                </a:lnTo>
                <a:lnTo>
                  <a:pt x="1400" y="1400"/>
                </a:lnTo>
                <a:close/>
              </a:path>
              <a:path fill="darken" w="51752" h="21600">
                <a:moveTo>
                  <a:pt x="51752" y="0"/>
                </a:moveTo>
                <a:lnTo>
                  <a:pt x="51752" y="21600"/>
                </a:lnTo>
                <a:lnTo>
                  <a:pt x="50352" y="20200"/>
                </a:lnTo>
                <a:lnTo>
                  <a:pt x="50352" y="1400"/>
                </a:lnTo>
                <a:close/>
              </a:path>
              <a:path fill="darkenLess" w="51752" h="21600">
                <a:moveTo>
                  <a:pt x="51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52" y="20200"/>
                </a:lnTo>
                <a:close/>
              </a:path>
              <a:path fill="lighten" w="51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651640" y="2133720"/>
            <a:ext cx="1726920" cy="718920"/>
          </a:xfrm>
          <a:custGeom>
            <a:avLst/>
            <a:gdLst>
              <a:gd name="textAreaLeft" fmla="*/ 46440 w 1726920"/>
              <a:gd name="textAreaRight" fmla="*/ 1680480 w 1726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51870" h="21600">
                <a:moveTo>
                  <a:pt x="0" y="0"/>
                </a:moveTo>
                <a:lnTo>
                  <a:pt x="51870" y="0"/>
                </a:lnTo>
                <a:lnTo>
                  <a:pt x="51870" y="21600"/>
                </a:lnTo>
                <a:lnTo>
                  <a:pt x="0" y="21600"/>
                </a:lnTo>
                <a:close/>
              </a:path>
              <a:path fill="lightenLess" w="51870" h="21600">
                <a:moveTo>
                  <a:pt x="0" y="0"/>
                </a:moveTo>
                <a:lnTo>
                  <a:pt x="51870" y="0"/>
                </a:lnTo>
                <a:lnTo>
                  <a:pt x="50470" y="1400"/>
                </a:lnTo>
                <a:lnTo>
                  <a:pt x="1400" y="1400"/>
                </a:lnTo>
                <a:close/>
              </a:path>
              <a:path fill="darken" w="51870" h="21600">
                <a:moveTo>
                  <a:pt x="51870" y="0"/>
                </a:moveTo>
                <a:lnTo>
                  <a:pt x="51870" y="21600"/>
                </a:lnTo>
                <a:lnTo>
                  <a:pt x="50470" y="20200"/>
                </a:lnTo>
                <a:lnTo>
                  <a:pt x="50470" y="1400"/>
                </a:lnTo>
                <a:close/>
              </a:path>
              <a:path fill="darkenLess" w="51870" h="21600">
                <a:moveTo>
                  <a:pt x="51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70" y="20200"/>
                </a:lnTo>
                <a:close/>
              </a:path>
              <a:path fill="lighten" w="51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651640" y="1413000"/>
            <a:ext cx="1726920" cy="718920"/>
          </a:xfrm>
          <a:custGeom>
            <a:avLst/>
            <a:gdLst>
              <a:gd name="textAreaLeft" fmla="*/ 46440 w 1726920"/>
              <a:gd name="textAreaRight" fmla="*/ 1680480 w 1726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51870" h="21600">
                <a:moveTo>
                  <a:pt x="0" y="0"/>
                </a:moveTo>
                <a:lnTo>
                  <a:pt x="51870" y="0"/>
                </a:lnTo>
                <a:lnTo>
                  <a:pt x="51870" y="21600"/>
                </a:lnTo>
                <a:lnTo>
                  <a:pt x="0" y="21600"/>
                </a:lnTo>
                <a:close/>
              </a:path>
              <a:path fill="lightenLess" w="51870" h="21600">
                <a:moveTo>
                  <a:pt x="0" y="0"/>
                </a:moveTo>
                <a:lnTo>
                  <a:pt x="51870" y="0"/>
                </a:lnTo>
                <a:lnTo>
                  <a:pt x="50470" y="1400"/>
                </a:lnTo>
                <a:lnTo>
                  <a:pt x="1400" y="1400"/>
                </a:lnTo>
                <a:close/>
              </a:path>
              <a:path fill="darken" w="51870" h="21600">
                <a:moveTo>
                  <a:pt x="51870" y="0"/>
                </a:moveTo>
                <a:lnTo>
                  <a:pt x="51870" y="21600"/>
                </a:lnTo>
                <a:lnTo>
                  <a:pt x="50470" y="20200"/>
                </a:lnTo>
                <a:lnTo>
                  <a:pt x="50470" y="1400"/>
                </a:lnTo>
                <a:close/>
              </a:path>
              <a:path fill="darkenLess" w="51870" h="21600">
                <a:moveTo>
                  <a:pt x="51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70" y="20200"/>
                </a:lnTo>
                <a:close/>
              </a:path>
              <a:path fill="lighten" w="51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380360" y="1413000"/>
            <a:ext cx="1763640" cy="720720"/>
          </a:xfrm>
          <a:custGeom>
            <a:avLst/>
            <a:gdLst>
              <a:gd name="textAreaLeft" fmla="*/ 46440 w 1763640"/>
              <a:gd name="textAreaRight" fmla="*/ 1717200 w 17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2841" h="21600">
                <a:moveTo>
                  <a:pt x="0" y="0"/>
                </a:moveTo>
                <a:lnTo>
                  <a:pt x="52841" y="0"/>
                </a:lnTo>
                <a:lnTo>
                  <a:pt x="52841" y="21600"/>
                </a:lnTo>
                <a:lnTo>
                  <a:pt x="0" y="21600"/>
                </a:lnTo>
                <a:close/>
              </a:path>
              <a:path fill="lightenLess" w="52841" h="21600">
                <a:moveTo>
                  <a:pt x="0" y="0"/>
                </a:moveTo>
                <a:lnTo>
                  <a:pt x="52841" y="0"/>
                </a:lnTo>
                <a:lnTo>
                  <a:pt x="51441" y="1400"/>
                </a:lnTo>
                <a:lnTo>
                  <a:pt x="1400" y="1400"/>
                </a:lnTo>
                <a:close/>
              </a:path>
              <a:path fill="darken" w="52841" h="21600">
                <a:moveTo>
                  <a:pt x="52841" y="0"/>
                </a:moveTo>
                <a:lnTo>
                  <a:pt x="52841" y="21600"/>
                </a:lnTo>
                <a:lnTo>
                  <a:pt x="51441" y="20200"/>
                </a:lnTo>
                <a:lnTo>
                  <a:pt x="51441" y="1400"/>
                </a:lnTo>
                <a:close/>
              </a:path>
              <a:path fill="darkenLess" w="52841" h="21600">
                <a:moveTo>
                  <a:pt x="528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441" y="20200"/>
                </a:lnTo>
                <a:close/>
              </a:path>
              <a:path fill="lighten" w="528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380360" y="2133720"/>
            <a:ext cx="1763640" cy="718920"/>
          </a:xfrm>
          <a:custGeom>
            <a:avLst/>
            <a:gdLst>
              <a:gd name="textAreaLeft" fmla="*/ 46440 w 1763640"/>
              <a:gd name="textAreaRight" fmla="*/ 1717200 w 17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52973" h="21600">
                <a:moveTo>
                  <a:pt x="0" y="0"/>
                </a:moveTo>
                <a:lnTo>
                  <a:pt x="52973" y="0"/>
                </a:lnTo>
                <a:lnTo>
                  <a:pt x="52973" y="21600"/>
                </a:lnTo>
                <a:lnTo>
                  <a:pt x="0" y="21600"/>
                </a:lnTo>
                <a:close/>
              </a:path>
              <a:path fill="lightenLess" w="52973" h="21600">
                <a:moveTo>
                  <a:pt x="0" y="0"/>
                </a:moveTo>
                <a:lnTo>
                  <a:pt x="52973" y="0"/>
                </a:lnTo>
                <a:lnTo>
                  <a:pt x="51573" y="1400"/>
                </a:lnTo>
                <a:lnTo>
                  <a:pt x="1400" y="1400"/>
                </a:lnTo>
                <a:close/>
              </a:path>
              <a:path fill="darken" w="52973" h="21600">
                <a:moveTo>
                  <a:pt x="52973" y="0"/>
                </a:moveTo>
                <a:lnTo>
                  <a:pt x="52973" y="21600"/>
                </a:lnTo>
                <a:lnTo>
                  <a:pt x="51573" y="20200"/>
                </a:lnTo>
                <a:lnTo>
                  <a:pt x="51573" y="1400"/>
                </a:lnTo>
                <a:close/>
              </a:path>
              <a:path fill="darkenLess" w="52973" h="21600">
                <a:moveTo>
                  <a:pt x="529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573" y="20200"/>
                </a:lnTo>
                <a:close/>
              </a:path>
              <a:path fill="lighten" w="529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f8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9" name=""/>
          <p:cNvSpPr/>
          <p:nvPr/>
        </p:nvSpPr>
        <p:spPr>
          <a:xfrm>
            <a:off x="5219640" y="0"/>
            <a:ext cx="3924360" cy="2133720"/>
          </a:xfrm>
          <a:prstGeom prst="wedgeRoundRectCallout">
            <a:avLst>
              <a:gd name="adj1" fmla="val -58412"/>
              <a:gd name="adj2" fmla="val 48212"/>
              <a:gd name="adj3" fmla="val 16667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</a:rPr>
              <a:t>Спасибо за внимание 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472000" y="3716280"/>
            <a:ext cx="3672000" cy="3141720"/>
          </a:xfrm>
          <a:prstGeom prst="flowChartAlternateProcess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Подготовлено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Муниципальным казённым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учреждением «Управление финансо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Администрации Зырянского района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636850, Томская область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Зырянский район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улица Советская, дом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тел. 22-760; 22-6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Размещено на сайте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ccff"/>
                </a:solidFill>
                <a:uFillTx/>
                <a:latin typeface="Times New Roman"/>
                <a:hlinkClick r:id="rId2"/>
              </a:rPr>
              <a:t>ziradm@tomsk.gov.ru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 раздел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Муниципальные финансы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 для гражд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226836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9" name=""/>
          <p:cNvSpPr/>
          <p:nvPr/>
        </p:nvSpPr>
        <p:spPr>
          <a:xfrm>
            <a:off x="2268360" y="981000"/>
            <a:ext cx="68756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 целях реализации принципа прозрачност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ткрытости бюджета и информирования жител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униципального образования «Зырянский район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 расходовании средств бюджета  разработ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«Бюджет для граждан» на основе Решения Думы Зырянского района от 24.12.2015 № 96 «О местном бюджете Зырянского района на  2016 год и на плановый период 2017 и 2018 годов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едставленная информация позволит граждана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Зырянского района составить представ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б источниках формирования доходов бюджета муниципального образования «Зырянский район», направлениях расходования бюджетных средств на 2016 год и на плановый период 2017 и 2018 год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40000" y="0"/>
            <a:ext cx="6804000" cy="762120"/>
          </a:xfrm>
          <a:custGeom>
            <a:avLst/>
            <a:gdLst>
              <a:gd name="textAreaLeft" fmla="*/ 1701000 w 6804000"/>
              <a:gd name="textAreaRight" fmla="*/ 5103000 w 6804000"/>
              <a:gd name="textAreaTop" fmla="*/ 190440 h 762120"/>
              <a:gd name="textAreaBottom" fmla="*/ 739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ВОДНАЯ ЧА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0"/>
            <a:ext cx="9144000" cy="765000"/>
          </a:xfrm>
          <a:prstGeom prst="bevel">
            <a:avLst>
              <a:gd name="adj" fmla="val 12500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ЧТО ТАКОЕ БЮДЖЕ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907920"/>
            <a:ext cx="8424720" cy="1584360"/>
          </a:xfrm>
          <a:prstGeom prst="flowChartAlternate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Бюджет – это форма образования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расходования денежных средств, предназначенн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для финансового обеспечения задач и функц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государства и местного само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0920" y="2852640"/>
            <a:ext cx="2738520" cy="3097440"/>
          </a:xfrm>
          <a:custGeom>
            <a:avLst/>
            <a:gdLst>
              <a:gd name="textAreaLeft" fmla="*/ 133560 w 2738520"/>
              <a:gd name="textAreaRight" fmla="*/ 2604960 w 2738520"/>
              <a:gd name="textAreaTop" fmla="*/ 133560 h 3097440"/>
              <a:gd name="textAreaBottom" fmla="*/ 2963880 h 3097440"/>
            </a:gdLst>
            <a:ahLst/>
            <a:rect l="textAreaLeft" t="textAreaTop" r="textAreaRight" b="textAreaBottom"/>
            <a:pathLst>
              <a:path w="21600" h="24431">
                <a:moveTo>
                  <a:pt x="3600" y="0"/>
                </a:moveTo>
                <a:arcTo wR="3600" hR="3600" stAng="16200000" swAng="-5400000"/>
                <a:lnTo>
                  <a:pt x="0" y="20831"/>
                </a:lnTo>
                <a:arcTo wR="3600" hR="3600" stAng="10800000" swAng="-5400000"/>
                <a:lnTo>
                  <a:pt x="18000" y="244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ДОХ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БЮДЖ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оступающ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 бюдж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денеж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ред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3203640" y="2924280"/>
            <a:ext cx="273672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6" name=""/>
          <p:cNvSpPr/>
          <p:nvPr/>
        </p:nvSpPr>
        <p:spPr>
          <a:xfrm>
            <a:off x="6156360" y="2852640"/>
            <a:ext cx="2735280" cy="3097440"/>
          </a:xfrm>
          <a:custGeom>
            <a:avLst/>
            <a:gdLst>
              <a:gd name="textAreaLeft" fmla="*/ 133200 w 2735280"/>
              <a:gd name="textAreaRight" fmla="*/ 2602080 w 2735280"/>
              <a:gd name="textAreaTop" fmla="*/ 133200 h 3097440"/>
              <a:gd name="textAreaBottom" fmla="*/ 2964240 h 3097440"/>
            </a:gdLst>
            <a:ahLst/>
            <a:rect l="textAreaLeft" t="textAreaTop" r="textAreaRight" b="textAreaBottom"/>
            <a:pathLst>
              <a:path w="21600" h="24460">
                <a:moveTo>
                  <a:pt x="3600" y="0"/>
                </a:moveTo>
                <a:arcTo wR="3600" hR="3600" stAng="16200000" swAng="-5400000"/>
                <a:lnTo>
                  <a:pt x="0" y="20860"/>
                </a:lnTo>
                <a:arcTo wR="3600" hR="3600" stAng="10800000" swAng="-5400000"/>
                <a:lnTo>
                  <a:pt x="18000" y="244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АСХОД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БЮДЖ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ыплачиваем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из бюдже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денеж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ред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6093000"/>
            <a:ext cx="8642160" cy="620640"/>
          </a:xfrm>
          <a:custGeom>
            <a:avLst/>
            <a:gdLst>
              <a:gd name="textAreaLeft" fmla="*/ 0 w 8642160"/>
              <a:gd name="textAreaRight" fmla="*/ 8642520 w 8642160"/>
              <a:gd name="textAreaTop" fmla="*/ 0 h 620640"/>
              <a:gd name="textAreaBottom" fmla="*/ 620640 h 62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т.е., бюджет – это план доходов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расходов на определенный пери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 rot="7388400">
            <a:off x="1763280" y="981000"/>
            <a:ext cx="503280" cy="71280"/>
          </a:xfrm>
          <a:custGeom>
            <a:avLst/>
            <a:gdLst>
              <a:gd name="textAreaLeft" fmla="*/ 62640 w 503280"/>
              <a:gd name="textAreaRight" fmla="*/ 440640 w 503280"/>
              <a:gd name="textAreaTop" fmla="*/ 17640 h 71280"/>
              <a:gd name="textAreaBottom" fmla="*/ 53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5052000">
            <a:off x="4244040" y="1299240"/>
            <a:ext cx="863640" cy="77760"/>
          </a:xfrm>
          <a:custGeom>
            <a:avLst/>
            <a:gdLst>
              <a:gd name="textAreaLeft" fmla="*/ 108000 w 863640"/>
              <a:gd name="textAreaRight" fmla="*/ 756000 w 863640"/>
              <a:gd name="textAreaTop" fmla="*/ 19440 h 77760"/>
              <a:gd name="textAreaBottom" fmla="*/ 58320 h 77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3634200">
            <a:off x="6802200" y="1368360"/>
            <a:ext cx="1152720" cy="69840"/>
          </a:xfrm>
          <a:custGeom>
            <a:avLst/>
            <a:gdLst>
              <a:gd name="textAreaLeft" fmla="*/ 144000 w 1152720"/>
              <a:gd name="textAreaRight" fmla="*/ 1008720 w 1152720"/>
              <a:gd name="textAreaTop" fmla="*/ 17280 h 69840"/>
              <a:gd name="textAreaBottom" fmla="*/ 52560 h 69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8191200">
            <a:off x="2550600" y="3096720"/>
            <a:ext cx="1006560" cy="69840"/>
          </a:xfrm>
          <a:custGeom>
            <a:avLst/>
            <a:gdLst>
              <a:gd name="textAreaLeft" fmla="*/ 125640 w 1006560"/>
              <a:gd name="textAreaRight" fmla="*/ 880920 w 1006560"/>
              <a:gd name="textAreaTop" fmla="*/ 17280 h 69840"/>
              <a:gd name="textAreaBottom" fmla="*/ 52560 h 698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7231800">
            <a:off x="2718360" y="4273920"/>
            <a:ext cx="1330200" cy="71640"/>
          </a:xfrm>
          <a:custGeom>
            <a:avLst/>
            <a:gdLst>
              <a:gd name="textAreaLeft" fmla="*/ 166320 w 1330200"/>
              <a:gd name="textAreaRight" fmla="*/ 1164240 w 1330200"/>
              <a:gd name="textAreaTop" fmla="*/ 18000 h 71640"/>
              <a:gd name="textAreaBottom" fmla="*/ 54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4933800">
            <a:off x="4230000" y="4344840"/>
            <a:ext cx="1330560" cy="73080"/>
          </a:xfrm>
          <a:custGeom>
            <a:avLst/>
            <a:gdLst>
              <a:gd name="textAreaLeft" fmla="*/ 166320 w 1330560"/>
              <a:gd name="textAreaRight" fmla="*/ 1164240 w 1330560"/>
              <a:gd name="textAreaTop" fmla="*/ 18360 h 73080"/>
              <a:gd name="textAreaBottom" fmla="*/ 55080 h 73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00000" y="476280"/>
            <a:ext cx="1043280" cy="1042920"/>
          </a:xfrm>
          <a:prstGeom prst="beve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9144000" cy="765000"/>
          </a:xfrm>
          <a:prstGeom prst="bevel">
            <a:avLst>
              <a:gd name="adj" fmla="val 12500"/>
            </a:avLst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КАКИЕ БЫВАЮТ БЮДЖЕТ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8360" y="1341360"/>
            <a:ext cx="2014560" cy="1224000"/>
          </a:xfrm>
          <a:prstGeom prst="roundRect">
            <a:avLst>
              <a:gd name="adj" fmla="val 16667"/>
            </a:avLst>
          </a:prstGeom>
          <a:solidFill>
            <a:srgbClr val="8f8f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Бюдж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организ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35280" y="1916280"/>
            <a:ext cx="2449440" cy="1441440"/>
          </a:xfrm>
          <a:prstGeom prst="roundRect">
            <a:avLst>
              <a:gd name="adj" fmla="val 16667"/>
            </a:avLst>
          </a:prstGeom>
          <a:solidFill>
            <a:srgbClr val="8f8f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Бюдж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публично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правов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образова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77080" y="2276640"/>
            <a:ext cx="1871640" cy="1079280"/>
          </a:xfrm>
          <a:prstGeom prst="roundRect">
            <a:avLst>
              <a:gd name="adj" fmla="val 16667"/>
            </a:avLst>
          </a:prstGeom>
          <a:solidFill>
            <a:srgbClr val="8f8f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Бюдж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семь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8360" y="3357720"/>
            <a:ext cx="2160720" cy="136836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Российск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Федер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71640" y="5084640"/>
            <a:ext cx="2160360" cy="144000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Субъек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Российск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Федер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492360" y="5229360"/>
            <a:ext cx="2449800" cy="122400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униципаль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образова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6067440" y="4653000"/>
            <a:ext cx="30765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0" y="0"/>
            <a:ext cx="9144000" cy="907920"/>
          </a:xfrm>
          <a:prstGeom prst="bevel">
            <a:avLst>
              <a:gd name="adj" fmla="val 12500"/>
            </a:avLst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БЮДЖЕТНАЯ СИСТЕМ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это совокупность бюджетов разных уровн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0920" y="981000"/>
            <a:ext cx="8642160" cy="576360"/>
          </a:xfrm>
          <a:prstGeom prst="bevel">
            <a:avLst>
              <a:gd name="adj" fmla="val 12500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0614"/>
                </a:solidFill>
                <a:latin typeface="Times New Roman"/>
              </a:rPr>
              <a:t>БЮДЖЕТНАЯ СИСТЕМА РОССИЙСКОЙ ФЕДЕР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9280" y="1628640"/>
            <a:ext cx="0" cy="504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9280" y="6669000"/>
            <a:ext cx="896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80360" y="64522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Четвертый уровен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124000" y="5805360"/>
            <a:ext cx="5400720" cy="71928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Бюджеты городских и сельских поселени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бюджеты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внутригородских район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1628640"/>
            <a:ext cx="0" cy="410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4000" y="5734080"/>
            <a:ext cx="88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219640" y="551592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Третий уровен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403280" y="3860640"/>
            <a:ext cx="7056360" cy="172908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Бюджеты муниципальных районов, бюджеты городски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округов, бюджеты городских округов с внутригородски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делением, бюджеты внутригородских муниципальн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образований городов федерального значения Москв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анкт-Петербурга и Севастопол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8360" y="162864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68360" y="3789360"/>
            <a:ext cx="867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3280" y="357264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11280" y="2852640"/>
            <a:ext cx="2881080" cy="64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Бюджеты субъект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564000" y="2852640"/>
            <a:ext cx="5472000" cy="7923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Бюджеты государственных территориальн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внебюджетных фонд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1280" y="1628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2781360"/>
            <a:ext cx="85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55640" y="256464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ервый уровен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042920" y="1700280"/>
            <a:ext cx="2952720" cy="720720"/>
          </a:xfrm>
          <a:prstGeom prst="roundRect">
            <a:avLst>
              <a:gd name="adj" fmla="val 16667"/>
            </a:avLst>
          </a:prstGeom>
          <a:solidFill>
            <a:srgbClr val="8f8f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Федеральный бюдж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32360" y="1700280"/>
            <a:ext cx="3672000" cy="1008000"/>
          </a:xfrm>
          <a:prstGeom prst="roundRect">
            <a:avLst>
              <a:gd name="adj" fmla="val 16667"/>
            </a:avLst>
          </a:prstGeom>
          <a:solidFill>
            <a:srgbClr val="8f8f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Бюджеты государствен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внебюджетных фонд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6" name=""/>
          <p:cNvSpPr/>
          <p:nvPr/>
        </p:nvSpPr>
        <p:spPr>
          <a:xfrm>
            <a:off x="1258920" y="115920"/>
            <a:ext cx="6480000" cy="865080"/>
          </a:xfrm>
          <a:prstGeom prst="flowChartAlternateProcess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БЮДЖЕТНАЯ СИСТЕМ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ЗЫРЯНСКОГО РАЙО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427640" y="1916280"/>
            <a:ext cx="4032000" cy="3744720"/>
          </a:xfrm>
          <a:prstGeom prst="roundRect">
            <a:avLst>
              <a:gd name="adj" fmla="val 16667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Бюджет муниципального образова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«Высоковское сельское поселение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Бюджет муниципального образова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«Дубровское сельское поселение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- Бюджет муниципального образова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«Зырянское сельское поселение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- Бюджет муниципального образова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«Михайловское сельское поселение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- Бюджет муниципального образова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«Чердатское сельское поселение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55640" y="2924280"/>
            <a:ext cx="2087640" cy="1512720"/>
          </a:xfrm>
          <a:prstGeom prst="flowChartAlternate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Район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бюдж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6320400">
            <a:off x="1546560" y="1916640"/>
            <a:ext cx="1800000" cy="71640"/>
          </a:xfrm>
          <a:custGeom>
            <a:avLst/>
            <a:gdLst>
              <a:gd name="textAreaLeft" fmla="*/ 225000 w 1800000"/>
              <a:gd name="textAreaRight" fmla="*/ 1575000 w 1800000"/>
              <a:gd name="textAreaTop" fmla="*/ 18000 h 71640"/>
              <a:gd name="textAreaBottom" fmla="*/ 54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4251600">
            <a:off x="5820840" y="1406160"/>
            <a:ext cx="792000" cy="71640"/>
          </a:xfrm>
          <a:custGeom>
            <a:avLst/>
            <a:gdLst>
              <a:gd name="textAreaLeft" fmla="*/ 99000 w 792000"/>
              <a:gd name="textAreaRight" fmla="*/ 693000 w 792000"/>
              <a:gd name="textAreaTop" fmla="*/ 18000 h 71640"/>
              <a:gd name="textAreaBottom" fmla="*/ 54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4296600" y="1543680"/>
            <a:ext cx="550800" cy="8496000"/>
          </a:xfrm>
          <a:custGeom>
            <a:avLst/>
            <a:gdLst>
              <a:gd name="textAreaLeft" fmla="*/ 0 w 550800"/>
              <a:gd name="textAreaRight" fmla="*/ 198720 w 550800"/>
              <a:gd name="textAreaTop" fmla="*/ 221400 h 8496000"/>
              <a:gd name="textAreaBottom" fmla="*/ 8274600 h 849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08000" y="6165720"/>
            <a:ext cx="8928000" cy="576360"/>
          </a:xfrm>
          <a:prstGeom prst="flowChartAlternateProcess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ОНСОЛИДИРОВАННЫЙ БЮДЖЕТ ЗЫРЯНСКОГО РАЙ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76720" y="3357720"/>
            <a:ext cx="720720" cy="720720"/>
          </a:xfrm>
          <a:prstGeom prst="plus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cxnSp>
        <p:nvCxnSpPr>
          <p:cNvPr id="275" name=""/>
          <p:cNvCxnSpPr>
            <a:stCxn id="274" idx="1"/>
            <a:endCxn id="274" idx="1"/>
          </p:cNvCxnSpPr>
          <p:nvPr/>
        </p:nvCxnSpPr>
        <p:spPr>
          <a:xfrm>
            <a:off x="-360" y="3428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>
            <a:off x="0" y="0"/>
            <a:ext cx="9144000" cy="1052640"/>
          </a:xfrm>
          <a:custGeom>
            <a:avLst/>
            <a:gdLst>
              <a:gd name="textAreaLeft" fmla="*/ 68040 w 9144000"/>
              <a:gd name="textAreaRight" fmla="*/ 9075960 w 9144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187577" h="21600">
                <a:moveTo>
                  <a:pt x="0" y="0"/>
                </a:moveTo>
                <a:lnTo>
                  <a:pt x="187577" y="0"/>
                </a:lnTo>
                <a:lnTo>
                  <a:pt x="187577" y="21600"/>
                </a:lnTo>
                <a:lnTo>
                  <a:pt x="0" y="21600"/>
                </a:lnTo>
                <a:close/>
              </a:path>
              <a:path fill="lightenLess" w="187577" h="21600">
                <a:moveTo>
                  <a:pt x="0" y="0"/>
                </a:moveTo>
                <a:lnTo>
                  <a:pt x="187577" y="0"/>
                </a:lnTo>
                <a:lnTo>
                  <a:pt x="186177" y="1400"/>
                </a:lnTo>
                <a:lnTo>
                  <a:pt x="1400" y="1400"/>
                </a:lnTo>
                <a:close/>
              </a:path>
              <a:path fill="darken" w="187577" h="21600">
                <a:moveTo>
                  <a:pt x="187577" y="0"/>
                </a:moveTo>
                <a:lnTo>
                  <a:pt x="187577" y="21600"/>
                </a:lnTo>
                <a:lnTo>
                  <a:pt x="186177" y="20200"/>
                </a:lnTo>
                <a:lnTo>
                  <a:pt x="186177" y="1400"/>
                </a:lnTo>
                <a:close/>
              </a:path>
              <a:path fill="darkenLess" w="187577" h="21600">
                <a:moveTo>
                  <a:pt x="187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6177" y="20200"/>
                </a:lnTo>
                <a:close/>
              </a:path>
              <a:path fill="lighten" w="187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БЮДЖЕТНЫЙ ПРОЦЕ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едставляет собой деятельность по составлению проекта бюджета, его рассмотрению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тверждению, исполнению, составлению отчета об исполнении и его утвержден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1125360"/>
            <a:ext cx="6480360" cy="574920"/>
          </a:xfrm>
          <a:custGeom>
            <a:avLst/>
            <a:gdLst>
              <a:gd name="textAreaLeft" fmla="*/ 37080 w 6480360"/>
              <a:gd name="textAreaRight" fmla="*/ 6443280 w 648036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243331" h="21600">
                <a:moveTo>
                  <a:pt x="0" y="0"/>
                </a:moveTo>
                <a:lnTo>
                  <a:pt x="243331" y="0"/>
                </a:lnTo>
                <a:lnTo>
                  <a:pt x="243331" y="21600"/>
                </a:lnTo>
                <a:lnTo>
                  <a:pt x="0" y="21600"/>
                </a:lnTo>
                <a:close/>
              </a:path>
              <a:path fill="lightenLess" w="243331" h="21600">
                <a:moveTo>
                  <a:pt x="0" y="0"/>
                </a:moveTo>
                <a:lnTo>
                  <a:pt x="243331" y="0"/>
                </a:lnTo>
                <a:lnTo>
                  <a:pt x="241931" y="1400"/>
                </a:lnTo>
                <a:lnTo>
                  <a:pt x="1400" y="1400"/>
                </a:lnTo>
                <a:close/>
              </a:path>
              <a:path fill="darken" w="243331" h="21600">
                <a:moveTo>
                  <a:pt x="243331" y="0"/>
                </a:moveTo>
                <a:lnTo>
                  <a:pt x="243331" y="21600"/>
                </a:lnTo>
                <a:lnTo>
                  <a:pt x="241931" y="20200"/>
                </a:lnTo>
                <a:lnTo>
                  <a:pt x="241931" y="1400"/>
                </a:lnTo>
                <a:close/>
              </a:path>
              <a:path fill="darkenLess" w="243331" h="21600">
                <a:moveTo>
                  <a:pt x="2433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931" y="20200"/>
                </a:lnTo>
                <a:close/>
              </a:path>
              <a:path fill="lighten" w="2433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АПЫ БЮДЖЕТНОГО ПРОЦЕ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1844640"/>
            <a:ext cx="2160720" cy="12240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азрабо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ое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бюдж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0920" y="3357720"/>
            <a:ext cx="2303280" cy="1511280"/>
          </a:xfrm>
          <a:prstGeom prst="flowChartAlternateProcess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твержд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тче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испол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бюдж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580000" y="3500280"/>
            <a:ext cx="2232000" cy="1224000"/>
          </a:xfrm>
          <a:prstGeom prst="flowChartAlternateProcess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твержд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бюдж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96000" y="5300640"/>
            <a:ext cx="2232000" cy="1224000"/>
          </a:xfrm>
          <a:prstGeom prst="flowChartAlternateProcess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Исполн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бюдж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916360" y="2781360"/>
            <a:ext cx="2376360" cy="1224000"/>
          </a:xfrm>
          <a:prstGeom prst="flowChartAlternateProcess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Рассмотр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прое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бюдж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916360" y="4221000"/>
            <a:ext cx="2376360" cy="1440000"/>
          </a:xfrm>
          <a:prstGeom prst="flowChartAlternateProcess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оставл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отчета об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исполне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бюдж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2755200">
            <a:off x="2418840" y="1838520"/>
            <a:ext cx="1224000" cy="662040"/>
          </a:xfrm>
          <a:custGeom>
            <a:avLst/>
            <a:gdLst>
              <a:gd name="textAreaLeft" fmla="*/ 214200 w 1224000"/>
              <a:gd name="textAreaRight" fmla="*/ 887400 w 1224000"/>
              <a:gd name="textAreaTop" fmla="*/ 88560 h 662040"/>
              <a:gd name="textAreaBottom" fmla="*/ 573480 h 662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2591400">
            <a:off x="5299200" y="2557080"/>
            <a:ext cx="1224000" cy="662040"/>
          </a:xfrm>
          <a:custGeom>
            <a:avLst/>
            <a:gdLst>
              <a:gd name="textAreaLeft" fmla="*/ 214200 w 1224000"/>
              <a:gd name="textAreaRight" fmla="*/ 887400 w 1224000"/>
              <a:gd name="textAreaTop" fmla="*/ 88560 h 662040"/>
              <a:gd name="textAreaBottom" fmla="*/ 573480 h 662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7890840" y="4789440"/>
            <a:ext cx="1224000" cy="662040"/>
          </a:xfrm>
          <a:custGeom>
            <a:avLst/>
            <a:gdLst>
              <a:gd name="textAreaLeft" fmla="*/ 214200 w 1224000"/>
              <a:gd name="textAreaRight" fmla="*/ 887400 w 1224000"/>
              <a:gd name="textAreaTop" fmla="*/ 88560 h 662040"/>
              <a:gd name="textAreaBottom" fmla="*/ 573480 h 662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3546800">
            <a:off x="1618920" y="5157360"/>
            <a:ext cx="1224000" cy="662040"/>
          </a:xfrm>
          <a:custGeom>
            <a:avLst/>
            <a:gdLst>
              <a:gd name="textAreaLeft" fmla="*/ 214200 w 1224000"/>
              <a:gd name="textAreaRight" fmla="*/ 887400 w 1224000"/>
              <a:gd name="textAreaTop" fmla="*/ 88560 h 662040"/>
              <a:gd name="textAreaBottom" fmla="*/ 573480 h 662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3525200">
            <a:off x="4435200" y="6014880"/>
            <a:ext cx="1224000" cy="662040"/>
          </a:xfrm>
          <a:custGeom>
            <a:avLst/>
            <a:gdLst>
              <a:gd name="textAreaLeft" fmla="*/ 214200 w 1224000"/>
              <a:gd name="textAreaRight" fmla="*/ 887400 w 1224000"/>
              <a:gd name="textAreaTop" fmla="*/ 88560 h 662040"/>
              <a:gd name="textAreaBottom" fmla="*/ 573480 h 662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7164360" y="1700280"/>
            <a:ext cx="1763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7T08:43:04Z</dcterms:created>
  <dc:creator>Admin</dc:creator>
  <dc:description/>
  <dc:language>en-US</dc:language>
  <cp:lastModifiedBy>Admin</cp:lastModifiedBy>
  <dcterms:modified xsi:type="dcterms:W3CDTF">2017-01-24T05:55:29Z</dcterms:modified>
  <cp:revision>1472</cp:revision>
  <dc:subject/>
  <dc:title>МЕЖБЮДЖЕТНЫЕ ОТНОШЕНИЯ «МУНИЦИПАЛЬНЫЙ РАЙОН – ПОСЕЛЕНИЯ» В СИСТЕМЕ БЮДЖЕТНОГО ПЛАНИРОВАНИЯ </dc:title>
</cp:coreProperties>
</file>